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8.wmf" ContentType="image/x-wmf"/>
  <Override PartName="/ppt/media/image13.wmf" ContentType="image/x-wmf"/>
  <Override PartName="/ppt/media/image30.png" ContentType="image/png"/>
  <Override PartName="/ppt/media/image5.png" ContentType="image/png"/>
  <Override PartName="/ppt/media/image27.png" ContentType="image/png"/>
  <Override PartName="/ppt/media/image12.wmf" ContentType="image/x-wmf"/>
  <Override PartName="/ppt/media/image31.png" ContentType="image/png"/>
  <Override PartName="/ppt/media/image32.png" ContentType="image/png"/>
  <Override PartName="/ppt/media/image7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35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4.wmf" ContentType="image/x-wmf"/>
  <Override PartName="/ppt/media/image3.wmf" ContentType="image/x-wmf"/>
  <Override PartName="/ppt/media/image15.jpeg" ContentType="image/jpeg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45640" y="74268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4160" y="4704840"/>
            <a:ext cx="48722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F5BE3F-1DB5-4217-8E7C-D5C2E0A080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AAB1B6-B383-4BD5-AF5B-F9D5F359B0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36DCAE-7B9E-475A-A0E5-E04EF42894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1562F7-2F44-4112-A329-525099B231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018C34-7482-4B5C-B63F-E49379D23E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B927C3-FB52-4D45-8A5D-9F9CD949F0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00FFDF-2644-47F2-ADF5-F886E6F1D98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2E9ED7-F982-41F2-9DF9-77FE8FA47A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541AC5-07D1-4462-83CF-FFC99FC926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6E7CEC-74FE-4809-953B-DAEFED241D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89371F-E110-4513-9D88-E58F3864FA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ABF07E-A10F-4929-A76A-365CEC22D08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B7D5E-A811-46A3-8711-845D2A794F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8DD59D-776E-4DBF-833C-050E45D076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E12622-22C2-46A9-B4D4-60D6A2780AF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A90D99-49A4-4427-A6E4-883B3EEE19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2E7479-5DB3-4145-B1C5-90F56DC19FA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854A96-3375-407D-8A53-14FCCADCF3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09C6CE-D9F8-4F34-B08C-A37B08D6BB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763440" y="940752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5A410E-7515-4A95-966B-A0784775A0A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940752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0"/>
            <a:ext cx="2876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763440" y="0"/>
            <a:ext cx="28767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3480" y="4704840"/>
            <a:ext cx="531360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F99-33C7-4386-B6FF-0FE9F4FA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679920"/>
            <a:ext cx="8839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859-170F-41DC-BFC4-B9DBC07A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67992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67992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5DD-891A-46C3-A265-19C5FA3B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37124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37124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67992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67992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679920"/>
            <a:ext cx="284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B2D-E4E7-4CA8-892B-0ED141D6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3712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901-1961-4BB3-A372-D05F49A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BF1-95F0-4229-A8CF-3A073CC8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31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371240"/>
            <a:ext cx="431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818-F816-4B1F-B1A5-EBE12237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552-2B32-4245-9D60-BC21AB7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3BC-86AD-477B-B055-A9211C67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371240"/>
            <a:ext cx="431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67992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1FAD-14F6-44EE-B745-7EB34BF7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31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67992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92B3-2130-4A9F-A300-8B384D7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371240"/>
            <a:ext cx="4313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679920"/>
            <a:ext cx="8839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EB4-5CBA-422C-84C1-744CD79A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7124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A21-10A8-4F8E-B5D5-FD005671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lezione di laboratorio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7680" y="5503680"/>
            <a:ext cx="632484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2600" y="1787400"/>
            <a:ext cx="8153280" cy="2775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urea Speciali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gneria Matema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gegneria dei Sistemi Energeti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81120" y="556884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a. 2007-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ction PDE_ellitt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8760" y="1143000"/>
            <a:ext cx="8867520" cy="3345120"/>
          </a:xfrm>
          <a:prstGeom prst="rect">
            <a:avLst/>
          </a:prstGeom>
          <a:gradFill rotWithShape="0">
            <a:gsLst>
              <a:gs pos="0">
                <a:srgbClr val="e2e25a"/>
              </a:gs>
              <a:gs pos="50000">
                <a:srgbClr val="ffff66"/>
              </a:gs>
              <a:gs pos="100000">
                <a:srgbClr val="e2e25a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alcolo della sol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U=A\F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la soluzione trovata viene messa in una matr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j=1:M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ol(j,:)=[feval(g4,y(j+1)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U((j-1)*(N-1)+1:(j)*(N-1))' feval(g2,y(j+1)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ol=[feval(g1,x)';sol;feval(g3,x)'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ercizio 1:esame di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Numerici per l’Ingegneria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/12/2005)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20" y="1600200"/>
            <a:ext cx="82062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(x,y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funzione definita dal file di Matl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eaks(x,y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i consideri il seguente problema a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ate parzia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3352680"/>
          <a:ext cx="862020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352680"/>
                    <a:ext cx="8620200" cy="199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78200" y="5638680"/>
            <a:ext cx="82778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Determinare, motivando la risposta, a quale clas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tiene il problema prop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o 2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5800" y="990720"/>
            <a:ext cx="911268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Si costruisca un file MATLAB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Cognome_nome_studente.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he, una volta avvia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cia visualizzare una schermata con i dati pers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una breve presentazione del probl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permetta di  dare in input i passi lungo l’as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i da: 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h1=1/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h2=1/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determini la soluzione utilizzando il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metodo al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differenze fini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costruisca una tabella relativa  al primo ed al seco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, che riporti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stazione:         x     sol1     sol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o 2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640" y="1219320"/>
            <a:ext cx="89208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a prima colonna i valori , comuni nei due casi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successive colonne i valori corrispondenti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zione approssimata per </a:t>
            </a:r>
            <a:r>
              <a:rPr b="1" i="1" lang="it-IT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y = </a:t>
            </a:r>
            <a:r>
              <a:rPr b="1" lang="it-IT" sz="2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0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si stampi la tabella </a:t>
            </a:r>
            <a:r>
              <a:rPr b="1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og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 righe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si utilizzino i  seguenti formati di  stam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fre decimali e formato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rgola fiss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i valori de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i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fre decimali e formato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floating point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le solu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ssimate nei due ca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i 3) e 4)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680" y="907920"/>
            <a:ext cx="911304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i eseguano due figure (relative ai due casi) in cui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zi il comando subplot con due finestre grafich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e due finestre della prima figura, si riporti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ettivamente, 20 linee di livello di 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(x,y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 di sol2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la seconda figura si riportino le rappresentazion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1 e sol2 rispettivamente nella prima e seconda finest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na terza figura si riporti la rappresentazione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zione v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ommentino i risultati specificando, in particol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essi soddisfano le aspettative teor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5) Si risolva il problema utilizzando il pde tool di Matla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o 2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835200"/>
            <a:ext cx="9067680" cy="567324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0=-3;xN=3; y0=-3;yM=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=[1/4 1/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-peaks(x,y)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8000"/>
                </a:solidFill>
                <a:latin typeface="Courier New"/>
              </a:rPr>
              <a:t>%attenzione al seg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g1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g2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g3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g4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 y_val=0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b=[]; figure(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i=1:length(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x,y,sol]=PDE_ellittiche(y0,yM,x0,xN,h(i),f,r,g1,g2,g3,g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ep=round(h(1)/h(i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d_val=round((y_val-y0)/h(i))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b=[tab sol(ind_val,1:step:end)'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plot(2,1,i),surf(x,y,sol);title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sol.–h= 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x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;ylabel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y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xis([-3 3 -3 3 -5 1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ab=[x(1:step:end) tab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      x           sol1             sol2 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  %8.3f   %16.8e   %16.8e  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tab(1:2:end,:)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63640" y="1484280"/>
            <a:ext cx="2087640" cy="504720"/>
          </a:xfrm>
          <a:prstGeom prst="line">
            <a:avLst/>
          </a:prstGeom>
          <a:ln w="5724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o 3): curve di livell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914400"/>
            <a:ext cx="7727760" cy="4880520"/>
          </a:xfrm>
          <a:prstGeom prst="rect">
            <a:avLst/>
          </a:prstGeom>
          <a:gradFill rotWithShape="0">
            <a:gsLst>
              <a:gs pos="0">
                <a:srgbClr val="c9c978"/>
              </a:gs>
              <a:gs pos="50000">
                <a:srgbClr val="ffff99"/>
              </a:gs>
              <a:gs pos="100000">
                <a:srgbClr val="c9c97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=-eval(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1,1),contour(x,y,p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peaks(x,y)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x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ylabel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y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xis([-3 3 -3 3 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ubplot(2,1,2),contour(X,Y,sol,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sol.- h =</a:t>
            </a:r>
            <a:r>
              <a:rPr b="1" lang="it-IT" sz="2400" spc="-1" strike="noStrike">
                <a:solidFill>
                  <a:srgbClr val="a020f0"/>
                </a:solidFill>
                <a:latin typeface="Times New Roman"/>
              </a:rPr>
              <a:t>'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,num2str(h(end))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x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;ylabel(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y'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axis([-3 3 -3 3 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ultati: tabella per </a:t>
            </a:r>
            <a:r>
              <a:rPr b="1" lang="en-US" sz="4400" spc="-1" strike="noStrike">
                <a:solidFill>
                  <a:srgbClr val="ff0000"/>
                </a:solidFill>
                <a:latin typeface="Courier New"/>
              </a:rPr>
              <a:t>y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143000"/>
            <a:ext cx="8382240" cy="518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ff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          sol1               sol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3.000    0.00000000e+000    0.00000000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.500   -2.44487048e-002   -2.54811702e-00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.000   -6.68102136e-002   -7.11188490e-00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.500   -2.84782305e-001   -2.93769126e-00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.000   -8.93486193e-001   -8.98795939e-00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0.500   -1.63645642e+000   -1.63158849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00   -1.98583980e+000   -1.98421091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500   -2.13819801e+000   -2.13986488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000   -2.31812451e+000   -2.31114343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.500   -2.13063817e+000   -2.12232331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000   -1.50261774e+000   -1.49974215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.500   -7.41169824e-001   -7.40994870e-001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.000    0.00000000e+000    0.00000000e+00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figure(1):curve di livello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urier New"/>
              </a:rPr>
              <a:t>peaks(x,y), soluz._h=12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1150920"/>
            <a:ext cx="853272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figure(2):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soluz._h=0.25,soluz._h=0.12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0920" y="966960"/>
            <a:ext cx="88930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2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Generalità su un  problema del 2° ordine di tipo ellit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1560" y="2254320"/>
                <a:ext cx="7551720" cy="16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Δ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g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∈</m:t>
                              </m:r>
                              <m:r>
                                <m:t xml:space="preserve">∂</m:t>
                              </m:r>
                              <m:r>
                                <m:t xml:space="preserve">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70000" y="5562720"/>
                <a:ext cx="5978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16000" y="4081320"/>
                <a:ext cx="297180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7680" y="1477800"/>
            <a:ext cx="90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a dato il seguente problema di </a:t>
            </a: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Poisson- Dirichlet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97000" y="443880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Times New Roman"/>
              </a:rPr>
              <a:t>operatore laplaci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38862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Figure(3):peaks(x,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zione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peaks(x,y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240" y="3867120"/>
            <a:ext cx="8776080" cy="2670120"/>
          </a:xfrm>
          <a:prstGeom prst="rect">
            <a:avLst/>
          </a:prstGeom>
          <a:gradFill rotWithShape="0">
            <a:gsLst>
              <a:gs pos="0">
                <a:srgbClr val="b96fb9"/>
              </a:gs>
              <a:gs pos="50000">
                <a:srgbClr val="ff99ff"/>
              </a:gs>
              <a:gs pos="100000">
                <a:srgbClr val="b96fb9"/>
              </a:gs>
            </a:gsLst>
            <a:lin ang="81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Courier New"/>
              </a:rPr>
              <a:t>%Definizione e rappresentazione di peaks(x,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z =  '3*(1-x).^2.*exp(-(x.^2) - (y+1).^2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- 10*(x/5 - x.^3 - y.^5).*exp(-x.^2-y.^2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- 1/3*exp(-(x+1).^2 - y.^2)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ezsurf(z,[-3 3 -3 3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&gt;&gt; color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990720"/>
            <a:ext cx="87411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gitando </a:t>
            </a:r>
            <a:r>
              <a:rPr b="1" lang="it-IT" sz="2800" spc="-1" strike="noStrike">
                <a:solidFill>
                  <a:srgbClr val="ff0000"/>
                </a:solidFill>
                <a:latin typeface="Courier New"/>
              </a:rPr>
              <a:t>help peaks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 Matlab, appare 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scrizione di tale funzione. Digitando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edit peaks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pare il file che definisce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eaks(x,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rappresentazione di </a:t>
            </a:r>
            <a:r>
              <a:rPr b="1" lang="it-IT" sz="2800" spc="-1" strike="noStrike">
                <a:solidFill>
                  <a:srgbClr val="000000"/>
                </a:solidFill>
                <a:latin typeface="Courier New"/>
              </a:rPr>
              <a:t>peaks(x,y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può quindi ess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ttenuta utilizzando le seguenti istru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Rappresentazione della funzione 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peaks(x,y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855720"/>
            <a:ext cx="7561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rcizio 2: parziale di Metodi Numerici per l’Ingegneria 30/11/2004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991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 consideri il seguente problema alle derivate parziali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Si stabilisca, motivando la risposta, il tipo di equazione alle derivate parziali . Si verifichi inoltre, che la funzione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0964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è soluzione del problema dat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200400" y="5448240"/>
                <a:ext cx="259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808200" y="2489040"/>
                <a:ext cx="72990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Δu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  <m:r>
                                <m:t xml:space="preserve">u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∈</m:t>
                              </m:r>
                              <m:r>
                                <m:t xml:space="preserve">(</m:t>
                              </m:r>
                              <m:r>
                                <m:t xml:space="preserve">0,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t xml:space="preserve">0,1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y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t xml:space="preserve">0,1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26680"/>
            <a:ext cx="91440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costruisca un file MATLAB: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gnome_studente_matricola.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che, una volta avvia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cia visualizzare una schermata con i dati personali ed una breve presentazione del problema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zando il metodo all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fferenze fini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con stessa spaziatura lung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lung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coli, sui punti dei due reticoli corrispondenti  ai  passi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h1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/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h2</a:t>
            </a:r>
            <a:r>
              <a:rPr b="1" i="1" lang="en-US" sz="2400" spc="-1" strike="noStrike">
                <a:solidFill>
                  <a:srgbClr val="80008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1/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la soluzione approssimata e l’errore assoluto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cia visualizzare, nei due casi,  la matrice della soluzione  approssimata  nei punti coincidenti per i due passi e l’ errore assoluto massimo, con i seguenti formati di stampa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ifre decimali e forma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rgola fiss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 la soluzione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ifre decimali e format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sponenzi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er l’errore assoluto massim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9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i 3,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3 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n una figura, si riporti il grafico della soluzione vera. In una seconda figura con 4 finestre grafiche si riportino, nella prima e nella seconda finestra, le soluzioni approssimate  nei due casi e, nella terza e nella quarta, gli errori con i due passi richiesti. In una terza figura, con uno schema grafico uguale a quello della figura precedente,  si grafichino 20 curve di livello relative alla soluzione approssimata nei casi h1=1/4 e h2=1/8 e si riportino le curve di livello dell’errore  nei due casi. Si corredi ogni singola figura con intestazione contenente la specifica del passo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4 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commentino i risultati verificando se essi soddisfano le aspettative teorich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 quesit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4320" y="1376280"/>
            <a:ext cx="8958960" cy="5010120"/>
          </a:xfrm>
          <a:prstGeom prst="rect">
            <a:avLst/>
          </a:prstGeom>
          <a:gradFill rotWithShape="0">
            <a:gsLst>
              <a:gs pos="0">
                <a:srgbClr val="deb9db"/>
              </a:gs>
              <a:gs pos="50000">
                <a:srgbClr val="fbd1f8"/>
              </a:gs>
              <a:gs pos="100000">
                <a:srgbClr val="deb9db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0=0; xN=1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y0=0; yM=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h=[1/4 1/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0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-x.^2-y.^2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g1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1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g2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exp(-y)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g3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exp(-x)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g4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1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___________________________________________________________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i=1:length(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ep=round(h(1)/h(i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x,y,sol]=PDE_ellittiche(y0,yM,x0,xN,h(i),f,r,g1,g2,g3,g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Uvera=exp(-X.*Y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rr=abs(Uvera-sol);errmax=max(max(err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xr=x(1:step:end);yr=y(1:step: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olr=sol(1:step:end,1:step: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Istruzioni quesito 2: tabelle</a:t>
            </a:r>
            <a:br>
              <a:rPr sz="44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(all’interno del ciclo </a:t>
            </a:r>
            <a:r>
              <a:rPr b="1" lang="it-IT" sz="4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960" y="1681200"/>
            <a:ext cx="8532360" cy="4347000"/>
          </a:xfrm>
          <a:prstGeom prst="rect">
            <a:avLst/>
          </a:prstGeom>
          <a:gradFill rotWithShape="0">
            <a:gsLst>
              <a:gs pos="0">
                <a:srgbClr val="b5d5e2"/>
              </a:gs>
              <a:gs pos="50000">
                <a:srgbClr val="cdf1ff"/>
              </a:gs>
              <a:gs pos="100000">
                <a:srgbClr val="b5d5e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=length(xr);str=[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l=1: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r=[str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%10.6f  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tr=[str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SOL. APPROSSIMATA CON h=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\n '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str,solr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\n\n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isp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printf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ERRORE MASSIMO PER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h=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: %10.2e \n '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rr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057400"/>
            <a:ext cx="297180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28640" y="25146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o 3: rappresentazion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838080"/>
            <a:ext cx="8001000" cy="4678560"/>
          </a:xfrm>
          <a:prstGeom prst="rect">
            <a:avLst/>
          </a:prstGeom>
          <a:gradFill rotWithShape="0">
            <a:gsLst>
              <a:gs pos="0">
                <a:srgbClr val="c1c173"/>
              </a:gs>
              <a:gs pos="50000">
                <a:srgbClr val="ffff99"/>
              </a:gs>
              <a:gs pos="100000">
                <a:srgbClr val="c1c17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igure(2) </a:t>
            </a:r>
            <a:r>
              <a:rPr b="1" lang="it-IT" sz="1800" spc="-1" strike="noStrike">
                <a:solidFill>
                  <a:srgbClr val="008000"/>
                </a:solidFill>
                <a:latin typeface="Courier New"/>
              </a:rPr>
              <a:t>%ISTRUZIONI ALL’INTERNO DEL CICLO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plot(2,2,i),surf(x,y,s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Sol. approssimata - h= 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plot(2,2,i+2), surf(x,y,er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Err - h= 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igure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plot(2,2,i), contour(x,y,sol,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C. livello (sol)- h=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,colo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ubplot(2,2,i+2), contour(x,y,err,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'C. livello (err) - h='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num2str(h(i)) 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</a:rPr>
              <a:t>]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),color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34120" y="5562720"/>
            <a:ext cx="5301720" cy="1219680"/>
          </a:xfrm>
          <a:prstGeom prst="rect">
            <a:avLst/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rf(X,Y,Uve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Soluzione vera: U(x,y)=exp(-xy)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ultati quesito 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62120"/>
            <a:ext cx="8610480" cy="5925600"/>
          </a:xfrm>
          <a:prstGeom prst="rect">
            <a:avLst/>
          </a:prstGeom>
          <a:gradFill rotWithShape="0">
            <a:gsLst>
              <a:gs pos="0">
                <a:srgbClr val="dada57"/>
              </a:gs>
              <a:gs pos="50000">
                <a:srgbClr val="ffff66"/>
              </a:gs>
              <a:gs pos="100000">
                <a:srgbClr val="dada57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OLUZIONE APPROSSIMATA CON h=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1.000000    1.000000    1.000000    1.00000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939430    0.882531    0.829074    0.77880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882531    0.778855    0.687349    0.60653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829074    0.687349    0.569841    0.472367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778801    0.606531    0.472367    0.367879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SOLUZIONE APPROSSIMATA CON h=1/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ourier New"/>
              </a:rPr>
              <a:t>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1.000000    1.000000    1.000000    1.00000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939418    0.882507    0.829042    0.77880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882507    0.778816    0.687306    0.60653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829042    0.687306    0.569799    0.472367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00    0.778801    0.606531    0.472367    0.367879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ERRORE MASSIMO PER h=1/4:  5.97e-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ERRORE MASSIMO PER h=1/8:  1.82e-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rossimazioni utilizz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99072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artizioniamo                 con maglie quadrate di passo </a:t>
            </a:r>
            <a:r>
              <a:rPr b="1" i="1" lang="it-IT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, per cui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a=Nh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it-IT" sz="3200" spc="-1" strike="noStrike">
                <a:solidFill>
                  <a:srgbClr val="000000"/>
                </a:solidFill>
                <a:latin typeface="Times New Roman"/>
              </a:rPr>
              <a:t>b=Mh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Nei nodi inter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i approssimano le derivate parziali seconde  con le differenze fin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4920" y="2616120"/>
                <a:ext cx="7619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2832120" y="1015920"/>
          <a:ext cx="15238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2120" y="1015920"/>
                    <a:ext cx="1523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5720" y="5886360"/>
            <a:ext cx="31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’errore locale è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0080" y="4408560"/>
                <a:ext cx="86454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76720" y="5859360"/>
                <a:ext cx="1274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ercizio 3: Flusso di un fluido nel pia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consideri il flusso di un fluido incomprimibile “ideale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averso un condotto 2-dimensionale che ha una curv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 angolo retto. Siano ABC e DEF i lati del condotto; si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uole determinare la distribuzione di velocità e le linee d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nte nella regione ABCDEF assumendo che il fluid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a con velocità unitaria nel tratto AF ed esce con l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ssa velocità nel tratto C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componenti della velocità                    possono essere scritte com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vate parziali della funzione di corrente  F o come deriva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ziali del potenziale 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11640" y="3500280"/>
          <a:ext cx="103824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500280"/>
                    <a:ext cx="10382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7840" y="5268960"/>
          <a:ext cx="8497800" cy="11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40" y="5268960"/>
                    <a:ext cx="84978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zioni al bord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560" y="1371240"/>
            <a:ext cx="883908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 lavoriamo in termini di funzione di corrente l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ichieste linee di corrente sono allora le linee u =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ante dove u è la funzione armonica (soluzion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dell’equazione di Laplace) determinata dai valor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l contorno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u = 0 lungo ABC, u = 1 lungo DEF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u è linearmente crescente lungo AF e CD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igurazione del condot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97360" y="2759040"/>
            <a:ext cx="1352520" cy="13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835280" y="965160"/>
            <a:ext cx="522432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Discretizza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3960720" cy="3929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26920" y="5587920"/>
            <a:ext cx="79218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La discretizzazione in figura è fatta con passo </a:t>
            </a:r>
            <a:r>
              <a:rPr b="1" lang="it-IT" sz="2800" spc="-1" strike="noStrike">
                <a:solidFill>
                  <a:srgbClr val="3333cc"/>
                </a:solidFill>
                <a:latin typeface="Courier New"/>
              </a:rPr>
              <a:t>h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=1/3. Si osservi la simmetria del domi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Dominio di discretizzazio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0200" y="121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1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96520" cy="4675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09680" y="3352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1447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54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55627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Sistema lineare associato al problema discretizza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1052640"/>
          <a:ext cx="8218440" cy="38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821844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2485440" y="5084640"/>
            <a:ext cx="41126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forma compatta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U=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68360" y="1125360"/>
            <a:ext cx="4724280" cy="3733560"/>
            <a:chOff x="468360" y="1125360"/>
            <a:chExt cx="4724280" cy="3733560"/>
          </a:xfrm>
        </p:grpSpPr>
        <p:sp>
          <p:nvSpPr>
            <p:cNvPr id="165" name=""/>
            <p:cNvSpPr/>
            <p:nvPr/>
          </p:nvSpPr>
          <p:spPr>
            <a:xfrm>
              <a:off x="3745080" y="3639960"/>
              <a:ext cx="990360" cy="838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11760" y="4478040"/>
              <a:ext cx="38088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02080" y="2801520"/>
              <a:ext cx="990360" cy="838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8360" y="1125360"/>
              <a:ext cx="990720" cy="838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35040" y="1963440"/>
              <a:ext cx="990720" cy="8380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284720" y="4411800"/>
            <a:ext cx="457200" cy="45720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556000" y="3573360"/>
            <a:ext cx="2133360" cy="457200"/>
            <a:chOff x="2556000" y="3573360"/>
            <a:chExt cx="2133360" cy="457200"/>
          </a:xfrm>
        </p:grpSpPr>
        <p:sp>
          <p:nvSpPr>
            <p:cNvPr id="172" name=""/>
            <p:cNvSpPr/>
            <p:nvPr/>
          </p:nvSpPr>
          <p:spPr>
            <a:xfrm>
              <a:off x="4232160" y="357336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56000" y="357336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0480" y="5867280"/>
            <a:ext cx="908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determinare la soluzione sull’asse di simmetria si considerano i valori sulle due  diagonali adiacenti ed in quella inferiore si considerano valori uguali a quelli sulla diagonale  superiore per la simmet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ric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042920" y="1411200"/>
          <a:ext cx="676908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11200"/>
                    <a:ext cx="6769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"/>
          <p:cNvGrpSpPr/>
          <p:nvPr/>
        </p:nvGrpSpPr>
        <p:grpSpPr>
          <a:xfrm>
            <a:off x="1835280" y="1125360"/>
            <a:ext cx="5333760" cy="4468680"/>
            <a:chOff x="1835280" y="1125360"/>
            <a:chExt cx="5333760" cy="4468680"/>
          </a:xfrm>
        </p:grpSpPr>
        <p:sp>
          <p:nvSpPr>
            <p:cNvPr id="179" name=""/>
            <p:cNvSpPr/>
            <p:nvPr/>
          </p:nvSpPr>
          <p:spPr>
            <a:xfrm>
              <a:off x="1835280" y="1555560"/>
              <a:ext cx="5333760" cy="403848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69560" y="1125360"/>
              <a:ext cx="5464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44680" y="1925640"/>
            <a:ext cx="6145560" cy="4449240"/>
            <a:chOff x="1444680" y="1925640"/>
            <a:chExt cx="6145560" cy="4449240"/>
          </a:xfrm>
        </p:grpSpPr>
        <p:sp>
          <p:nvSpPr>
            <p:cNvPr id="182" name=""/>
            <p:cNvSpPr/>
            <p:nvPr/>
          </p:nvSpPr>
          <p:spPr>
            <a:xfrm>
              <a:off x="1444680" y="1925640"/>
              <a:ext cx="5410080" cy="3962520"/>
            </a:xfrm>
            <a:prstGeom prst="line">
              <a:avLst/>
            </a:prstGeom>
            <a:ln cap="rnd" w="2232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60880" y="5915160"/>
              <a:ext cx="7293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_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63560" y="2513160"/>
            <a:ext cx="4773600" cy="3788280"/>
            <a:chOff x="1663560" y="2513160"/>
            <a:chExt cx="4773600" cy="3788280"/>
          </a:xfrm>
        </p:grpSpPr>
        <p:sp>
          <p:nvSpPr>
            <p:cNvPr id="185" name=""/>
            <p:cNvSpPr/>
            <p:nvPr/>
          </p:nvSpPr>
          <p:spPr>
            <a:xfrm>
              <a:off x="5707800" y="5841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_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63560" y="2513160"/>
              <a:ext cx="4419360" cy="3276360"/>
            </a:xfrm>
            <a:prstGeom prst="line">
              <a:avLst/>
            </a:prstGeom>
            <a:ln cap="rnd" w="2232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620800" y="1571760"/>
            <a:ext cx="5185080" cy="3650760"/>
            <a:chOff x="2620800" y="1571760"/>
            <a:chExt cx="5185080" cy="3650760"/>
          </a:xfrm>
        </p:grpSpPr>
        <p:sp>
          <p:nvSpPr>
            <p:cNvPr id="188" name=""/>
            <p:cNvSpPr/>
            <p:nvPr/>
          </p:nvSpPr>
          <p:spPr>
            <a:xfrm>
              <a:off x="2620800" y="1571760"/>
              <a:ext cx="4572000" cy="3429000"/>
            </a:xfrm>
            <a:prstGeom prst="line">
              <a:avLst/>
            </a:prstGeom>
            <a:ln w="28440">
              <a:solidFill>
                <a:srgbClr val="3399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59400" y="4762800"/>
              <a:ext cx="546480" cy="4597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struzione del problema discret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-6480" y="838080"/>
          <a:ext cx="9115560" cy="19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838080"/>
                    <a:ext cx="9115560" cy="1901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2819520"/>
            <a:ext cx="8915400" cy="41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i,j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= f( x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i,j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= g( x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j 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), i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…,N, j=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,…,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 si introduce il vettor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ottiene da (*), un sistema 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quazioni in altrettante incognite con matrice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efficienti simmetrica e a dominanza diagonale debo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può verificare che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è definita positiva, dunque il sistema e’ univocamente risolubile.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3080" y="3809880"/>
          <a:ext cx="849600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080" y="3809880"/>
                    <a:ext cx="8496000" cy="527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946760" y="4419720"/>
                <a:ext cx="2368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1371600"/>
            <a:ext cx="8915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 Chiamata della function specifica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 function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[x2,x3,y,y2,sol,sol1]= PDE_ellittiche_condotto(x0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N,h,f,g0,g1,g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inizializzazione da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0=x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M=x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(y0:h:yM)';    y(end)=y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=(x0:h:xN)';   x1(end)=x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=(x0:h:2*xN)'; x2(end)=2*x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=(xN:h:2*xN)'; x3(end)=2*x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2=-yM:h:y0; y2(end)=y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length(y)-2;        </a:t>
            </a:r>
            <a:r>
              <a:rPr b="1" lang="it-IT" sz="1800" spc="-1" strike="noStrike">
                <a:solidFill>
                  <a:srgbClr val="a24c0c"/>
                </a:solidFill>
                <a:latin typeface="Courier New"/>
                <a:ea typeface="Times New Roman"/>
              </a:rPr>
              <a:t>% Numero di punti in cui è st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a24c0c"/>
                </a:solidFill>
                <a:latin typeface="Courier New"/>
                <a:ea typeface="Times New Roman"/>
              </a:rPr>
              <a:t>                      </a:t>
            </a:r>
            <a:r>
              <a:rPr b="1" lang="it-IT" sz="1800" spc="-1" strike="noStrike">
                <a:solidFill>
                  <a:srgbClr val="a24c0c"/>
                </a:solidFill>
                <a:latin typeface="Courier New"/>
                <a:ea typeface="Times New Roman"/>
              </a:rPr>
              <a:t>% partizionata la sezione del con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=M*(M+1)+sum([1:M])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Dimensione della matrice dei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                    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efficienti del sistema line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765000"/>
            <a:ext cx="861048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del vettore termini no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% Le due istruzioni che seguono servono per gestire an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% la funzione f costante e f dipendente da una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</a:rPr>
              <a:t>% variabi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=[f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'+0*x+0*y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; f=inline(f);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,Y]=meshgrid(x2(2:end-1),y(2:end-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1=feval(f,X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=Z1(: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(M+2)*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=Z(1:i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=1:M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1=(M+1)*(M+j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=[F;  Z(ind1+1:ind1+M-j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il vettore G tiene conto delle condizioni al conto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0=[g0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'+0*y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;g0=inline(g0);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1=[g1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'+0*x1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; g1=inline(g1);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2=[g2,</a:t>
            </a:r>
            <a:r>
              <a:rPr b="1" lang="it-IT" sz="18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'+0*x2'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; g2=inline(g2);</a:t>
            </a:r>
            <a:r>
              <a:rPr b="1" lang="it-IT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%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0=feval(g0,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1=feval(g1,x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2=feval(g2,x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90720"/>
            <a:ext cx="8610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izioni al bordo sinistro g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eros(1,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1:M)=g0(2:M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1)=G(1)+g1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M)=G(M)+g2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izioni ai bordi superiore ed infer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=2:M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(j-1)*M+1)=g1(j)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izioni bordo inferiore (g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j*M)=g2(j);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izione bordo superiore (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(M+1)*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izioni al bordo destro (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=M:-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ind+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ind)=g2(2*M+3-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(end)=G(end)+g2(e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h^2*F+G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836640"/>
            <a:ext cx="86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% Costruzione della matrice dei coefficienti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M-esima codiagonale inferiore in "I_M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1=-ones(M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M=[]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zeros(M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1: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M=[I_M; e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sum(1:M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M=[I_M; [-2; -ones(M-1,1)]; zeros(L,1); zeros(M,1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delle (M-1)-esima, (M-2)-esima ... 2-esim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diagonali inferiori in matrice "m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=[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M*(M+1)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M-1:-1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_i=[0; -2; -ones(i-1,1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length(e_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zeros(s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(ind:ind+L-1)=e_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ind+i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=[mat 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05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72396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1=[-ones(M-1,1); 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1=[]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codiagonale inferiore in "I_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1:M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1=[I_1; e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=M-1:-1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=[-ones(i,1) ;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1=[I_1; e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_1=[I_1; -1 ; -2;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costruzione diagonale principale della matrice A in "I0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0=4*ones(s,1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codiagonale superiore in "I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1=[-ones(M-1,1); 0]; I1=[0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... ... ...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costr. delle (M-1)-esima, (M-2)-esima ... 2-esima codiag. superiori in  "mat1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... ... ... ...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struzione M-esima codiagonale superiore in "IM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 ... ... ...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ag_A=[I_M mat I_1 I0 I1 mat1 I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= spdiags(diag_A, -M:M , s, s); </a:t>
            </a:r>
            <a:r>
              <a:rPr b="1" lang="it-IT" sz="16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%si veda l’help di spdiags per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                                      </a:t>
            </a:r>
            <a:r>
              <a:rPr b="1" lang="it-IT" sz="16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%la costr. della matrice spa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0599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rice 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025640"/>
          <a:ext cx="8153280" cy="58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25640"/>
                    <a:ext cx="81532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4876920" y="4876920"/>
            <a:ext cx="2286000" cy="380880"/>
            <a:chOff x="4876920" y="4876920"/>
            <a:chExt cx="2286000" cy="380880"/>
          </a:xfrm>
        </p:grpSpPr>
        <p:sp>
          <p:nvSpPr>
            <p:cNvPr id="204" name=""/>
            <p:cNvSpPr/>
            <p:nvPr/>
          </p:nvSpPr>
          <p:spPr>
            <a:xfrm>
              <a:off x="4876920" y="4876920"/>
              <a:ext cx="60948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53080" y="4876920"/>
              <a:ext cx="60984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924680" y="6477120"/>
            <a:ext cx="533520" cy="3808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19320" y="990720"/>
            <a:ext cx="7543800" cy="5867280"/>
            <a:chOff x="1219320" y="990720"/>
            <a:chExt cx="7543800" cy="5867280"/>
          </a:xfrm>
        </p:grpSpPr>
        <p:sp>
          <p:nvSpPr>
            <p:cNvPr id="208" name=""/>
            <p:cNvSpPr/>
            <p:nvPr/>
          </p:nvSpPr>
          <p:spPr>
            <a:xfrm>
              <a:off x="1219320" y="990720"/>
              <a:ext cx="1143000" cy="99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38280" y="1981080"/>
              <a:ext cx="1143000" cy="99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920" y="2971800"/>
              <a:ext cx="1143000" cy="99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3886200"/>
              <a:ext cx="1143000" cy="99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24480" y="4876920"/>
              <a:ext cx="1143000" cy="990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43800" y="5867280"/>
              <a:ext cx="762120" cy="609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6553080"/>
              <a:ext cx="30492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04920" y="304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1/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553080" y="5867280"/>
            <a:ext cx="1981440" cy="381240"/>
            <a:chOff x="6553080" y="5867280"/>
            <a:chExt cx="1981440" cy="381240"/>
          </a:xfrm>
        </p:grpSpPr>
        <p:sp>
          <p:nvSpPr>
            <p:cNvPr id="217" name=""/>
            <p:cNvSpPr/>
            <p:nvPr/>
          </p:nvSpPr>
          <p:spPr>
            <a:xfrm>
              <a:off x="7924680" y="5867280"/>
              <a:ext cx="609840" cy="38124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53080" y="5867280"/>
              <a:ext cx="609840" cy="381240"/>
            </a:xfrm>
            <a:prstGeom prst="ellipse">
              <a:avLst/>
            </a:prstGeom>
            <a:noFill/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872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atrice 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diag_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66520" y="1143000"/>
            <a:ext cx="5941440" cy="530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ag_A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 0   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-1   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 0     4    -1   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 0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 0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 0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 0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2     0    -1     4     0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-1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     0     0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0    -1     4     0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-2    -1     4    -2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-1     0     4    -1     0   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0    -1     4     0    -1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0    -2     4    -2    -1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0     0     4    -1     0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362320" y="5562720"/>
            <a:ext cx="2057400" cy="914400"/>
            <a:chOff x="2362320" y="5562720"/>
            <a:chExt cx="2057400" cy="914400"/>
          </a:xfrm>
        </p:grpSpPr>
        <p:sp>
          <p:nvSpPr>
            <p:cNvPr id="222" name=""/>
            <p:cNvSpPr/>
            <p:nvPr/>
          </p:nvSpPr>
          <p:spPr>
            <a:xfrm>
              <a:off x="4114800" y="6095880"/>
              <a:ext cx="30492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76720" y="5867280"/>
              <a:ext cx="3808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5562720"/>
              <a:ext cx="457200" cy="838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715000" y="1371600"/>
            <a:ext cx="2057400" cy="914400"/>
            <a:chOff x="5715000" y="1371600"/>
            <a:chExt cx="2057400" cy="914400"/>
          </a:xfrm>
        </p:grpSpPr>
        <p:sp>
          <p:nvSpPr>
            <p:cNvPr id="226" name=""/>
            <p:cNvSpPr/>
            <p:nvPr/>
          </p:nvSpPr>
          <p:spPr>
            <a:xfrm>
              <a:off x="5715000" y="1371600"/>
              <a:ext cx="30492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77120" y="1447920"/>
              <a:ext cx="3808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1447920"/>
              <a:ext cx="457200" cy="838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le PDE_ellittiche_condotto.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8380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=A\b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alcolo della sol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La soluzione trovata viene messa in due matrici sol1 e s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=1:M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(:,j)=[g1(j+1) U((j-1)*M+1:j*M)' g2(j+1)]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=[g0 sol];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soluzione in [0,1]x[0,1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3=[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(M+1)*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=M:-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=zeros(M-j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3=[mat3 [ ei; U(ind+1:ind+j)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=ind+j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4=mat3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4=mat3+triu(mat4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4=[mat4; g2(M+3:2*M+2)' ];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. bordo superi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4=[mat4 g2(2*M+3:-1:M+3)] ;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cond. bordo d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4=[sol(2:end,end)';mat4]; 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soluzione in [1,2]x[0,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1=sol';                   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soluzione in [1,2]x[-1,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=[sol mat4];                </a:t>
            </a:r>
            <a:r>
              <a:rPr b="1" lang="it-IT" sz="18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soluzione in [0,2]x[0 ,1]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truzioni per la soluzione del caso in esa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41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lear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all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;close 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a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=1/3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dim_L=1; x0=0;xN=dim_L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0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-y';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'-y.^2+y‘ altre condizioni che si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potrebbero utilizz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1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1';  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'0'  altre condizioni che si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          </a:t>
            </a:r>
            <a:r>
              <a:rPr b="1" lang="it-IT" sz="2400" spc="-1" strike="noStrike">
                <a:solidFill>
                  <a:srgbClr val="228b22"/>
                </a:solidFill>
                <a:latin typeface="Courier New"/>
              </a:rPr>
              <a:t>% potrebbero utilizz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g2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f=</a:t>
            </a:r>
            <a:r>
              <a:rPr b="1" lang="it-IT" sz="2400" spc="-1" strike="noStrike">
                <a:solidFill>
                  <a:srgbClr val="a020f0"/>
                </a:solidFill>
                <a:latin typeface="Courier New"/>
              </a:rPr>
              <a:t>'0'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[x2,x3,y,y2,sol,sol1]=PDE_ellittiche_condotto(x0,xN,h,f,g0,g1,g2)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274600" y="2781360"/>
            <a:ext cx="79056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  <a:ea typeface="Times New Roman"/>
              </a:rPr>
              <a:t>y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0.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-0.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05508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sultati numeric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8000" y="620640"/>
            <a:ext cx="8763120" cy="1313640"/>
          </a:xfrm>
          <a:prstGeom prst="rect">
            <a:avLst/>
          </a:prstGeom>
          <a:gradFill rotWithShape="0">
            <a:gsLst>
              <a:gs pos="0">
                <a:srgbClr val="dbdb57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a soluzione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[x3 X y2]=[1,2]X[-1,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la soluzione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x2 X y]=[0,2]X[0,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640" y="2781360"/>
            <a:ext cx="8105760" cy="252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1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00    0.6667    0.3333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00    0.6555    0.3234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00    0.6320    0.3048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00    0.5677    0.2638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l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00    1.0000    1.0000    1.0000    0.5677    0.2638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6667    0.6555    0.6320    0.5677    0.3751    0.1825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.3333    0.3234    0.3048    0.2638    0.1825    0.0913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     0         0         0         0         0  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280" y="1989000"/>
            <a:ext cx="8421840" cy="642240"/>
            <a:chOff x="8280" y="1989000"/>
            <a:chExt cx="8421840" cy="642240"/>
          </a:xfrm>
        </p:grpSpPr>
        <p:sp>
          <p:nvSpPr>
            <p:cNvPr id="238" name=""/>
            <p:cNvSpPr/>
            <p:nvPr/>
          </p:nvSpPr>
          <p:spPr>
            <a:xfrm>
              <a:off x="324720" y="2293920"/>
              <a:ext cx="8105400" cy="3373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[    0    0.3333    0.6667    1.0000    1.3333    1.6667  2.000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80" y="1989000"/>
              <a:ext cx="546480" cy="337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2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ce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ritta a blocchi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N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, M=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666880" y="1641600"/>
                <a:ext cx="381024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44720" y="4000680"/>
                <a:ext cx="7434000" cy="24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ppresentazione della 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89856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 rappresentazione della sol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ligono_x=[0 0 2 2 1 1 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ligono_y=[0 1 1 -1 -1 0 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e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f(x2,y,s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f(x3,y2,sol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e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ot(poligono_x,poligono_y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'r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it-IT" sz="2000" spc="-1" strike="noStrike">
                <a:solidFill>
                  <a:srgbClr val="228b22"/>
                </a:solidFill>
                <a:latin typeface="Courier New"/>
                <a:ea typeface="Times New Roman"/>
              </a:rPr>
              <a:t>%profilo del tubo s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our(x2,y,sol,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our(x3,y2,sol1,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old 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  <a:ea typeface="Times New Roman"/>
              </a:rPr>
              <a:t>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ve di livell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49400" y="1328760"/>
            <a:ext cx="64753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ppresentazione della 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360" y="601992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i invita lo studente a considerare valori più piccoli pe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  <a:ea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76280" y="844560"/>
            <a:ext cx="6291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tilizzazione del </a:t>
            </a:r>
            <a:r>
              <a:rPr b="1" lang="it-IT" sz="4000" spc="-1" strike="noStrike">
                <a:solidFill>
                  <a:srgbClr val="000000"/>
                </a:solidFill>
                <a:latin typeface="Courier New"/>
              </a:rPr>
              <a:t>pdeto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sessione di lavoro si divide in sei fasi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scrizione del dominio (Draw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scrizioni delle cond. al c. (Boundary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scrizione del problema (PDE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enerazione della mesh (Mesh Mo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oluzione del problema (Solve PD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isualizzazione della soluzione (Plot Solution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Draw M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5761080" cy="4627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3772080" cy="195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2057400"/>
            <a:ext cx="3772080" cy="1959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048120" y="1523880"/>
            <a:ext cx="53316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Boundary M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97120" y="1208160"/>
            <a:ext cx="6370560" cy="5116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86200" y="144792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04920" y="4952880"/>
            <a:ext cx="6705360" cy="1657440"/>
            <a:chOff x="304920" y="4952880"/>
            <a:chExt cx="6705360" cy="165744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304920" y="4952880"/>
              <a:ext cx="4419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 flipV="1">
              <a:off x="4724280" y="5714640"/>
              <a:ext cx="22860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0" y="1905120"/>
            <a:ext cx="5029200" cy="1753920"/>
            <a:chOff x="0" y="1905120"/>
            <a:chExt cx="5029200" cy="175392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467820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648320" y="2819520"/>
              <a:ext cx="3808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0" r="0" b="72469"/>
          <a:stretch/>
        </p:blipFill>
        <p:spPr>
          <a:xfrm>
            <a:off x="838080" y="4495680"/>
            <a:ext cx="7925040" cy="17528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DE M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295280" y="1371600"/>
            <a:ext cx="5745240" cy="3886200"/>
            <a:chOff x="1295280" y="1371600"/>
            <a:chExt cx="5745240" cy="388620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1295280" y="1371600"/>
              <a:ext cx="5745240" cy="21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666880" y="4876920"/>
              <a:ext cx="45720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Mesh Mo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18280" cy="4994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124080" y="18288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ve P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010280" cy="56307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581280" y="129528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31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Plot S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rcRect l="0" t="0" r="0" b="81059"/>
          <a:stretch/>
        </p:blipFill>
        <p:spPr>
          <a:xfrm>
            <a:off x="1828800" y="5791320"/>
            <a:ext cx="7010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0" y="2590920"/>
            <a:ext cx="5159520" cy="3886200"/>
            <a:chOff x="0" y="2590920"/>
            <a:chExt cx="5159520" cy="3886200"/>
          </a:xfrm>
        </p:grpSpPr>
        <p:sp>
          <p:nvSpPr>
            <p:cNvPr id="277" name=""/>
            <p:cNvSpPr/>
            <p:nvPr/>
          </p:nvSpPr>
          <p:spPr>
            <a:xfrm>
              <a:off x="4572000" y="6095880"/>
              <a:ext cx="45720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0" y="2590920"/>
              <a:ext cx="5159520" cy="284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038480" y="304920"/>
            <a:ext cx="4953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isoluzione del sist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907920"/>
            <a:ext cx="910908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3300"/>
                </a:solidFill>
                <a:uFillTx/>
                <a:latin typeface="Times New Roman"/>
              </a:rPr>
              <a:t>metodi idonei per la risoluzione del sistema</a:t>
            </a:r>
            <a:r>
              <a:rPr b="1" lang="it-IT" sz="36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tenendo conto delle caratteristiche della matrice </a:t>
            </a:r>
            <a:r>
              <a:rPr b="1" i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A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a) se </a:t>
            </a:r>
            <a:r>
              <a:rPr b="1" i="1" lang="it-IT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 è di piccole dimension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Cholesky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Gauss senza pivoting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b) se </a:t>
            </a:r>
            <a:r>
              <a:rPr b="1" i="1" lang="it-IT" sz="2800" spc="-1" strike="noStrike">
                <a:solidFill>
                  <a:srgbClr val="003300"/>
                </a:solidFill>
                <a:latin typeface="Times New Roman"/>
              </a:rPr>
              <a:t>A</a:t>
            </a:r>
            <a:r>
              <a:rPr b="1" lang="it-IT" sz="2800" spc="-1" strike="noStrike">
                <a:solidFill>
                  <a:srgbClr val="003300"/>
                </a:solidFill>
                <a:latin typeface="Times New Roman"/>
              </a:rPr>
              <a:t> è di grandi dimension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1)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Gauss-Seidel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2) 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SOR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da preferire perché si conosce il parametro ottimale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Sono state costruite versioni degli algoritmi dei meto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iterativi da utilizzarsi per matrici a blocc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971800" y="304920"/>
            <a:ext cx="5867280" cy="47116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04920" y="4191120"/>
            <a:ext cx="4419360" cy="24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o esercizio proposto: parziale di Metodi Numerici per l’Ingegneria 30/11/200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080" y="28875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52560" y="2104920"/>
            <a:ext cx="9181440" cy="43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 Determinare lo spettro della seguente sequenza di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i </a:t>
            </a:r>
            <a:r>
              <a:rPr b="1" lang="en-US" sz="2800" spc="-1" strike="noStrike">
                <a:solidFill>
                  <a:srgbClr val="ff3300"/>
                </a:solidFill>
                <a:latin typeface="Monospaced"/>
              </a:rPr>
              <a:t>acquisiti in 1 secon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y=[ 0   0.2996  0.3536  0.2006   0.1000  0.2006  0.3536  0.2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       </a:t>
            </a: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0 -0.2996 -0.3536 -0.2006 -0.1000 -0.2006 -0.3536 -0.2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       </a:t>
            </a: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0   0.2996  0.3536  0.2006   0.1000  0.2006  0.3536  0.2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       </a:t>
            </a:r>
            <a:r>
              <a:rPr b="1" lang="en-US" sz="2400" spc="-1" strike="noStrike">
                <a:solidFill>
                  <a:srgbClr val="0033cc"/>
                </a:solidFill>
                <a:latin typeface="Monospaced"/>
              </a:rPr>
              <a:t>0 -0.2996 -0.3536 -0.2006 -0.1000 -0.2006 -0.3536 -0.2996  ]</a:t>
            </a:r>
            <a:r>
              <a:rPr b="1" lang="en-US" sz="2400" spc="-1" strike="noStrike">
                <a:solidFill>
                  <a:srgbClr val="000000"/>
                </a:solidFill>
                <a:latin typeface="Monospace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) - riportare in una figura con due finestre grafich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’andamento nel tempo di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lo spettro, utilizzan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comand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i c), d), e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38080"/>
            <a:ext cx="8458200" cy="32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 - Effettuare una ricostruzione ‘continua’ del segnale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ma di funzioni armoniche valutata negli istant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tenuti considerando in 1 secondo 84 punti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te sono le armoniche che ricostruiscono il segn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 -  Confrontare lo spettro ottenuto in a) con quello che 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tiene dalla sequenza di 84 valori campionati in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o, della funzion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20800" y="3716280"/>
          <a:ext cx="600732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3716280"/>
                    <a:ext cx="60073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50920" y="4581360"/>
            <a:ext cx="889308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 -   Riportare, in una  figura con due finestre grafich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’andamento nel tempo d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lo spettro, utilizzando 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ando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iti  f), g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4280" y="990720"/>
            <a:ext cx="85658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f ) - Su una terza figura e in un’unica finestra graf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portare l’andamento nel tempo di 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it-IT" sz="2800" spc="-1" strike="noStrike" baseline="-25000">
                <a:solidFill>
                  <a:srgbClr val="000000"/>
                </a:solidFill>
                <a:latin typeface="Times New Roman"/>
              </a:rPr>
              <a:t>v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oluzione ottenuta al punto a), utilizzand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 due grafici , rispettivamente linea tratteggiata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ratto continuo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d i dati forniti in a) indic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l simbolo ‘o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i  corredi il grafico con titolo, legenda ed etichet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 ) – Si commentino i risulta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i a), b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6800" y="990720"/>
            <a:ext cx="810576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clc; clea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nt=32;T=1;dt=T/nt;fc=1/dt;df=1/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=0:dt:(nt-1)*d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=[ 0  0.2996  0.3536  0.2006  0.1000  0.2006  0.3536  0.2996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-0.2996 -0.3536 -0.2006 -0.1000 -0.2006 -0.3536 -0.2996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 0.2996  0.3536  0.2006  0.1000  0.2006  0.3536  0.2996</a:t>
            </a: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0 -0.2996 -0.3536 -0.2006 -0.1000 -0.2006 -0.3536 -0.2996  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f=fft(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p=(2/nt)*yf(1:nt/2); 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% fft scal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1=0:df:(nt/2-1)*df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igur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plot(2,1,1),plot(t,y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Andamento del segnale con 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num2str(nt)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 campioni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Tempo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plot(2,1,2),bar(f1,abs(y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requenza (Hz)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abs(DFT)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i c), 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1200" y="990720"/>
            <a:ext cx="8715240" cy="53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28b22"/>
                </a:solidFill>
                <a:latin typeface="Courier New"/>
              </a:rPr>
              <a:t>% Ricostruzione della funzione mediante somma delle funzioni armon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228b22"/>
                </a:solidFill>
                <a:latin typeface="Courier New"/>
              </a:rPr>
              <a:t>% A*cos(2*pi*k*t/tper+fa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camp=nt/T; </a:t>
            </a:r>
            <a:r>
              <a:rPr b="1" lang="it-IT" sz="1600" spc="-1" strike="noStrike">
                <a:solidFill>
                  <a:srgbClr val="228b22"/>
                </a:solidFill>
                <a:latin typeface="Courier New"/>
              </a:rPr>
              <a:t>%frequenza di campion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2=(fcamp/nt)*(0:(nt/2-1)); </a:t>
            </a:r>
            <a:r>
              <a:rPr b="1" lang="it-IT" sz="1600" spc="-1" strike="noStrike">
                <a:solidFill>
                  <a:srgbClr val="228b22"/>
                </a:solidFill>
                <a:latin typeface="Courier New"/>
              </a:rPr>
              <a:t>%contenuto in frequ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=2*abs(yf(1:nt/2))/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=angle(yf(1:nt/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(1)=yf(1)/nt;F(1)=0;y2=A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nt2=8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dt2=T/n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t=0:dt2: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j=2:nt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k=j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2=y2+A(j)*cos(2*pi*k*tt/T+F(j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Courier New"/>
              </a:rPr>
              <a:t>e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1=2;f2=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t3=0:dt2: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t=0.3*sin(2*pi*f1*tt3)+0.2*sin(2*pi*f2*tt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3=0:df:(nt2/2-1)*d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uzioni quesiti e), f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1000" y="762120"/>
            <a:ext cx="7495560" cy="59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igure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f3=fft(y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p3=(2/nt2)*yf3(1:nt2/2); </a:t>
            </a:r>
            <a:r>
              <a:rPr b="1" lang="it-IT" sz="1600" spc="-1" strike="noStrike">
                <a:solidFill>
                  <a:srgbClr val="ff3300"/>
                </a:solidFill>
                <a:latin typeface="Courier New"/>
              </a:rPr>
              <a:t>% fft scal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plot(2,1,1),plot(tt3,y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Andamento del segnal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,x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Tempo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ubplot(2,1,2),bar(f3,abs(yp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Spettro del segnale per 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num2str(nt2)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 campioni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requenza (Hz)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abs(DFT)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figure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plot(tt,y2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tt,yt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r--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t,y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ko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set(gca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Weight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bold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Fontsiz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axis([0 T -.5 .5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legend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Somma arm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segnale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valori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title([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Ricostruzione con 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,num2str(j-1),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 armoniche 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Tempo [s]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'Ampiezza'</a:t>
            </a: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urier New"/>
              </a:rPr>
              <a:t>grid </a:t>
            </a:r>
            <a:r>
              <a:rPr b="1" lang="it-IT" sz="1600" spc="-1" strike="noStrike">
                <a:solidFill>
                  <a:srgbClr val="a020f0"/>
                </a:solidFill>
                <a:latin typeface="Courier New"/>
              </a:rPr>
              <a:t>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22200" y="311040"/>
            <a:ext cx="84978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ction PDE_ellitt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838080"/>
            <a:ext cx="9067680" cy="6532920"/>
          </a:xfrm>
          <a:prstGeom prst="rect">
            <a:avLst/>
          </a:prstGeom>
          <a:gradFill rotWithShape="0">
            <a:gsLst>
              <a:gs pos="0">
                <a:srgbClr val="cdf1ff"/>
              </a:gs>
              <a:gs pos="50000">
                <a:srgbClr val="ffffff"/>
              </a:gs>
              <a:gs pos="100000">
                <a:srgbClr val="cdf1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%Chiama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%function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[x,y,sol]=PDE_ellittiche(y0,yM,x0,xN,h,f,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1,g2,g3,g4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=(x0:h:xN)'; x(end)=xN; N=length(x)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y=(y0:h:yM)'; y(end)=yM; M=length(y)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=[f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x+0*y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f=inline(f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=[r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x+0*y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r=inline(r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1=[g1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x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g1=inline(g1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2=[g2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y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g2=inline(g2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3=[g3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x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g3=inline(g3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4=[g4,</a:t>
            </a:r>
            <a:r>
              <a:rPr b="1" lang="it-IT" sz="2000" spc="-1" strike="noStrike">
                <a:solidFill>
                  <a:srgbClr val="a020f0"/>
                </a:solidFill>
                <a:latin typeface="Courier New"/>
              </a:rPr>
              <a:t>'+0*y'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]; g4=inline(g4);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edi com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Queste istruzioni sono utilizzate solo se le funzioni f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r,g1,g2,g3,g4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sono costanti o dipendono da una s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Courier New"/>
              </a:rPr>
              <a:t>% varia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ostruzione della matrice dei coefficienti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=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j=1:M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=[R,feval(r,x(2:N),y(j+1))'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s è il numero di nodi interni in cui viene calcolata la solu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=(M-1)*(N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ction PDE_ellitt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838080"/>
            <a:ext cx="9067680" cy="6004800"/>
          </a:xfrm>
          <a:prstGeom prst="rect">
            <a:avLst/>
          </a:prstGeom>
          <a:gradFill rotWithShape="0">
            <a:gsLst>
              <a:gs pos="0">
                <a:srgbClr val="cdf1ff"/>
              </a:gs>
              <a:gs pos="50000">
                <a:srgbClr val="ffffff"/>
              </a:gs>
              <a:gs pos="100000">
                <a:srgbClr val="cdf1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N.B. Le righe commentate possono utilizzarsi in caso di mat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di piccole dimensioni. In caso di grandi dimensioni 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conveniente usare la costruzione mediante il comando spdia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A=diag((4-h^2*R))-diag(ones(s-1,1),1)-diag(ones(s-1,1),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A=A-diag(ones((M-2)*(N-1),1),N-1)-diag(ones((M-2)*(N-1),1),-(N-% 1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e = ones(s,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 = spdiags([ -e -e (4-h^2*R)' -e  -e],[-(N-1) -1 0 1 N-1],s,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devono essere azzerati alcuni elementi delle codiag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princip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k=N-1:N-1:(M-2)*(N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(k,k+1)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(k+1,k)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228b22"/>
                </a:solidFill>
                <a:latin typeface="Courier New"/>
              </a:rPr>
              <a:t>% costruzione del vettore termini noti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[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j=1:M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F=[F,feval(f,x(2:N),y(j+1))'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Function PDE_ellittich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857160"/>
            <a:ext cx="8686800" cy="5923080"/>
          </a:xfrm>
          <a:prstGeom prst="rect">
            <a:avLst/>
          </a:prstGeom>
          <a:gradFill rotWithShape="0">
            <a:gsLst>
              <a:gs pos="0">
                <a:srgbClr val="c8c878"/>
              </a:gs>
              <a:gs pos="50000">
                <a:srgbClr val="ffff99"/>
              </a:gs>
              <a:gs pos="100000">
                <a:srgbClr val="c8c87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ondizioni al bordo infer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=zeros(1,(N-1)*(M-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1:N-1)=[feval(g1,x(2:N))'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1)=G(1)+feval(g4,y(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N-1)=G(N-1)+feval(g2,y(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ondizioni ai bordi destro e sinis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j=2:M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(j-1)*(N-1)+1)=feval(g4,y(j+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j*(N-1))=feval(g2,y(j+1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28b22"/>
                </a:solidFill>
                <a:latin typeface="Courier New"/>
              </a:rPr>
              <a:t>% condizioni al bordo superi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(M-2)*(N-1)+1:end)=[feval(g3,x(2:N))'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(M-2)*(N-1)+1)=G((M-2)*(N-1)+1)+feval(g4,y(M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G((M-1)*(N-1))=G((M-1)*(N-1))+feval(g2,y(M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=h^2*F+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5:47:51Z</dcterms:created>
  <dc:creator>Ing. Enza Pellegrino</dc:creator>
  <dc:description/>
  <dc:language>en-US</dc:language>
  <cp:lastModifiedBy>Elisabetta Santi</cp:lastModifiedBy>
  <cp:lastPrinted>2004-10-28T08:57:03Z</cp:lastPrinted>
  <dcterms:modified xsi:type="dcterms:W3CDTF">2007-12-11T12:27:05Z</dcterms:modified>
  <cp:revision>169</cp:revision>
  <dc:subject/>
  <dc:title> 8a lezione - laboratorio</dc:title>
</cp:coreProperties>
</file>