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0.wmf" ContentType="image/x-wmf"/>
  <Override PartName="/ppt/media/image4.png" ContentType="image/png"/>
  <Override PartName="/ppt/media/image5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46AE-C6EF-4E8C-8B9F-D545DD61830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Matlab consente di trattare intere matrici in maniera veloce ed accurata. matlab è un sistema interattivo in cui il generico elemento non richiede dimension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um = a+b+c se dopo aver calcolato sum cambio c il valore di sum rimane inveria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=[1 2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4 5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7 8 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uò essere inserita co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=[1,2,3;4,5,6;7,8,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=[1 2 3; 4 5 6; 7 8  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ostrare i risultati con e senza  l’operatore “;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ttore riga        x=[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ttore colonna  x=[]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ncatenazione di array numeric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x=[y z]   vettore ri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x=[y;z]   matrice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 z ed y devono avere stessa dimensi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elementi di una matrice possono essere individuati o tramite riga e colonna o utilizzando una numerazione progress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indici di una matrice possono essere vett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elementi di una matrice possono essere individuati o tramite riga e colonna o utilizzando una numerazione progress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indici di una matrice possono essere vett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’operatore “</a:t>
            </a: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” individua tutte le colonne se messo nella posizione delle colo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ando si lavora nel command windows si può decidere il formato di tutti i risultati numerici da un certo punto in poi con il comand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format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chiamare qualche variabile precedente cambiando il formato Format long e ricaricar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ando si fa concatenazione tutti gli array devono avere stessa dimensione vero anche per gli array numeric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ncatena, nel senso che costruisce una matrice di stringhe in cui il numero di elementi appartenenti alle righe devono essere ugua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ps la più piccola quantità di cui possono differire due numeri nel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almax il più grande numero positivo rappresentab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almin il più piccolo floating point rappresentab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,j =sqrt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gni variabile può essere riassegnata ma attenzione al conflitto di variabili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ps la più piccola quantità di cui possono differire due numeri nel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almax il più grande numero positivo rappresentab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almin il più piccolo floating point rappresentab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,j =sqrt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gni variabile può essere riassegnata ma attenzione al conflitto di variabili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ssono tornare utili per definire dati che non hanno attinenza logica tra loro. Sono usati per creare elementi non significativi all’interno di matrici più avanti vi farò un esemp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» x=2.5e20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» y=1.0e20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» z=x*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z 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n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» x=2.5e-20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» y=1.0e20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» z=x/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z 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iag -&gt; se è un vettore costruisce la matrice altrimenti restituisce il vet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emp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zeros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zeros(3,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=[1 2 3; 4 5 6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im=size(c); [m,n]=size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atrice della stessa dimensione di c d=zeros(size(c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=magic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_inf=tril(m) piu la 1° sopradiagonale mi1=tril(m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_sup=triu(m) più la 1° sottodiagonale ms1=triu(m,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=diag(m)  la 1° sopradiagonale v1=diag(m,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1° sottodiagonale v2=diag(m,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=diag(v) matrice con la diagonale di m =&gt; diag(diag(m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ercizio: costruire una matrice 5x5 che abbia tutti 2 sulla diagonale principale e 1  -1 sulla sovradiagonale e sottodiagon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= diag(4*ones(1,n))+1*diag(ones(n-1,1),1)-1*diag(ones(n-1,1),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.^2 % eleva al quadrtato tutti gli elementi di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x=[1 2 3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y=[4 5 6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% osservare la differenza tra divisione a destra e a sinis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format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z=x./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z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/4          2/5          1/2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z=y.\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z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/4          2/5          1/2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z=x.\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z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4           5/2           2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divisione a  sinistra è come fare l’inversa di quello che c’è a sinistra e moltiplicare, cioè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v(y)*x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Path è un insieme di directory nei quali Matlab va a cercar i file da eseg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er cancellare una directory bisogna selezionarla nella finestra Set Path e poi spingere il pulsante Remove; opzione disponibile nel momento in cui si seleziona una dire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C W di M è una finestra di testo che compare al lancio di Matlab e che dà la possibilità di digitare i comandi (che vengono eseguiti subito e riga dopo riga)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i visualizzare i risultati del calco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raphic windows finestra in cui viene visualizzato l’andamento dei risulta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dit w. In cui èpossibile scrivere e salvare un file, in modo che tutte le istruzioni non debbano essere riscritte nel C. 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((La C W di M è una finestra di testo che compare al lancio di Matlab e che dà la possibilità di digitare i comandi e di visualizzare i risultati del calcoli.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Workspace è un’area di memoria dove vengono memorizzate le variabili che vengono create durante una sessione di lav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8149-C19F-4322-85A2-D37315D1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AB62-D18F-423E-BE2E-8B5C92F4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CB7-D25A-4F02-8314-0B62C962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D4A-6814-4818-B4D9-F283A80B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757-C143-485C-93BE-9EF94ADB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A417-640E-425C-B4F3-86AE19F2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2304-2E01-4195-976D-37DE2405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DC2-FE10-40F3-BC4D-0DAD3654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572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1C23-6C80-455E-9AC5-E6F41254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AD0-F628-4024-BDB7-DF1DD81A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D0B-246C-4F26-9201-3779A01D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903-119C-4FFE-98FE-CBA94451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ABF3-5CA1-4828-956B-363776259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it-IT" sz="4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it-IT" sz="4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 lezione di laboratorio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07680" y="5503680"/>
            <a:ext cx="632484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2600" y="1787400"/>
            <a:ext cx="8153280" cy="34455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Laurea Ingegneria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Mecca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L.S. Modellistica Fisico-Matematica per l’Ingegn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81120" y="5568840"/>
            <a:ext cx="58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.a. 2006-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Edit window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99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888840" y="2641680"/>
            <a:ext cx="6465960" cy="4044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357720" y="3481560"/>
            <a:ext cx="5092560" cy="2806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3440" y="981000"/>
            <a:ext cx="893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lternativamente, si digita dal Command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comando </a:t>
            </a: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edit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; se il file esiste già, e si vuole richiamare, si digita invece </a:t>
            </a: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edit seguito dal nome del fil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Graphic window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3200" y="695160"/>
            <a:ext cx="8782200" cy="19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480000"/>
                <a:tab algn="l" pos="847404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Per </a:t>
            </a:r>
            <a:r>
              <a:rPr b="1" sz="3200" spc="-1" strike="noStrike">
                <a:solidFill>
                  <a:srgbClr val="3333cc"/>
                </a:solidFill>
                <a:latin typeface="Times New Roman"/>
              </a:rPr>
              <a:t>visualizzare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d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utilizzare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la finestra graf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480000"/>
                <a:tab algn="l" pos="847404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el Matlab si possono utilizzare diversi comand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480000"/>
                <a:tab algn="l" pos="847404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al Command window oppure inserire tal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480000"/>
                <a:tab algn="l" pos="847404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mandi tra le  istruzioni in edit window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6960" y="3381480"/>
            <a:ext cx="292392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x=[1 2 3 4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y=[3 5 7 9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plot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2240" y="2728800"/>
            <a:ext cx="17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empi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16520" y="2687760"/>
            <a:ext cx="467496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Graphic window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6880" y="2409840"/>
            <a:ext cx="32878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f='2*cos(x)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fplot(f,[0,3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7280" y="1285920"/>
            <a:ext cx="17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empi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86200" y="2227320"/>
            <a:ext cx="514836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Introduzione al MATLAB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015560"/>
            <a:ext cx="91440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4" marL="1974960" indent="-2192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MATrix LABora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it-IT" sz="3600" spc="-1" strike="noStrike">
                <a:solidFill>
                  <a:srgbClr val="ff3300"/>
                </a:solidFill>
                <a:latin typeface="Times New Roman"/>
              </a:rPr>
              <a:t>MATRICE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è la chiave per comprendere MATLAB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nessun dimensionamen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trattata nel suo insiem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operazioni più naturali possibil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Gli elementi di una matrice possono essere sia dei numeri che dei caratter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Regole per i nomi delle variabili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7320" y="1155600"/>
            <a:ext cx="8629560" cy="4533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I nomi </a:t>
            </a:r>
            <a:r>
              <a:rPr b="1" lang="it-IT" sz="4000" spc="-1" strike="noStrike">
                <a:solidFill>
                  <a:srgbClr val="ff3300"/>
                </a:solidFill>
                <a:latin typeface="Times New Roman"/>
              </a:rPr>
              <a:t>devono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 cominciare con una letter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3300"/>
                </a:solidFill>
                <a:latin typeface="Times New Roman"/>
              </a:rPr>
              <a:t>possono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 contenere lettere, cifre e il carattere </a:t>
            </a:r>
            <a:r>
              <a:rPr b="1" lang="it-IT" sz="4000" spc="-1" strike="noStrike">
                <a:solidFill>
                  <a:srgbClr val="006600"/>
                </a:solidFill>
                <a:latin typeface="Times New Roman"/>
              </a:rPr>
              <a:t>underscore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_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3399"/>
                </a:solidFill>
                <a:latin typeface="Times New Roman"/>
              </a:rPr>
              <a:t>Matlab distingue il </a:t>
            </a:r>
            <a:r>
              <a:rPr b="1" lang="it-IT" sz="4000" spc="-1" strike="noStrike">
                <a:solidFill>
                  <a:srgbClr val="006600"/>
                </a:solidFill>
                <a:latin typeface="Times New Roman"/>
              </a:rPr>
              <a:t>Maiuscolo</a:t>
            </a:r>
            <a:r>
              <a:rPr b="1" lang="it-IT" sz="4000" spc="-1" strike="noStrike">
                <a:solidFill>
                  <a:srgbClr val="ff3399"/>
                </a:solidFill>
                <a:latin typeface="Times New Roman"/>
              </a:rPr>
              <a:t> dal </a:t>
            </a: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Minuscol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121880" y="3676320"/>
            <a:ext cx="1174680" cy="343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66880" y="3420000"/>
            <a:ext cx="1032480" cy="656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79640" y="57240"/>
            <a:ext cx="6245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Array numerici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065560"/>
            <a:ext cx="3619440" cy="18003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 dati sono memorizzati in Double-Precision Floating-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38600" y="2610000"/>
            <a:ext cx="5962680" cy="2654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 x=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 c=[1,2;3,4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 x=[-1.6 sqrt(4) (7+5)*4/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-1.6000    2.0000   16.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441680" y="466560"/>
            <a:ext cx="4701960" cy="3283560"/>
            <a:chOff x="4441680" y="466560"/>
            <a:chExt cx="4701960" cy="3283560"/>
          </a:xfrm>
        </p:grpSpPr>
        <p:sp>
          <p:nvSpPr>
            <p:cNvPr id="126" name=""/>
            <p:cNvSpPr/>
            <p:nvPr/>
          </p:nvSpPr>
          <p:spPr>
            <a:xfrm flipH="1" rot="10800000">
              <a:off x="4441680" y="1587600"/>
              <a:ext cx="2072160" cy="2162520"/>
            </a:xfrm>
            <a:custGeom>
              <a:avLst/>
              <a:gdLst/>
              <a:ahLst/>
              <a:rect l="l" t="t" r="r" b="b"/>
              <a:pathLst>
                <a:path w="1104" h="528">
                  <a:moveTo>
                    <a:pt x="1104" y="528"/>
                  </a:moveTo>
                  <a:cubicBezTo>
                    <a:pt x="860" y="524"/>
                    <a:pt x="616" y="520"/>
                    <a:pt x="432" y="432"/>
                  </a:cubicBezTo>
                  <a:cubicBezTo>
                    <a:pt x="248" y="344"/>
                    <a:pt x="124" y="172"/>
                    <a:pt x="0" y="0"/>
                  </a:cubicBezTo>
                </a:path>
              </a:pathLst>
            </a:custGeom>
            <a:solidFill>
              <a:srgbClr val="99ffcc"/>
            </a:solidFill>
            <a:ln w="57240">
              <a:solidFill>
                <a:srgbClr val="80808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93400" y="466560"/>
              <a:ext cx="2550240" cy="2653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it-IT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it-IT" sz="2800" spc="-1" strike="noStrike">
                  <a:solidFill>
                    <a:srgbClr val="ff3300"/>
                  </a:solidFill>
                  <a:latin typeface="Times New Roman"/>
                </a:rPr>
                <a:t>;</a:t>
              </a: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 “ indica: </a:t>
              </a:r>
              <a:r>
                <a:rPr b="1" lang="it-IT" sz="2800" spc="-1" strike="noStrike">
                  <a:solidFill>
                    <a:srgbClr val="3333cc"/>
                  </a:solidFill>
                  <a:latin typeface="Times New Roman"/>
                </a:rPr>
                <a:t>fine di una riga in una matrice</a:t>
              </a: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 oppure </a:t>
              </a:r>
              <a:r>
                <a:rPr b="1" lang="it-IT" sz="2800" spc="-1" strike="noStrike">
                  <a:solidFill>
                    <a:srgbClr val="ff3300"/>
                  </a:solidFill>
                  <a:latin typeface="Times New Roman"/>
                </a:rPr>
                <a:t>soppressione di un outpu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rot="10800000">
              <a:off x="5376960" y="1587960"/>
              <a:ext cx="1135800" cy="2142720"/>
            </a:xfrm>
            <a:custGeom>
              <a:avLst/>
              <a:gdLst/>
              <a:ahLst/>
              <a:rect l="l" t="t" r="r" b="b"/>
              <a:pathLst>
                <a:path w="1104" h="528">
                  <a:moveTo>
                    <a:pt x="1104" y="528"/>
                  </a:moveTo>
                  <a:cubicBezTo>
                    <a:pt x="860" y="524"/>
                    <a:pt x="616" y="520"/>
                    <a:pt x="432" y="432"/>
                  </a:cubicBezTo>
                  <a:cubicBezTo>
                    <a:pt x="248" y="344"/>
                    <a:pt x="124" y="172"/>
                    <a:pt x="0" y="0"/>
                  </a:cubicBezTo>
                </a:path>
              </a:pathLst>
            </a:custGeom>
            <a:solidFill>
              <a:srgbClr val="ccccff"/>
            </a:solidFill>
            <a:ln w="57240">
              <a:solidFill>
                <a:srgbClr val="80808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-103320" y="3122640"/>
            <a:ext cx="4282920" cy="1373760"/>
            <a:chOff x="-103320" y="3122640"/>
            <a:chExt cx="4282920" cy="1373760"/>
          </a:xfrm>
        </p:grpSpPr>
        <p:sp>
          <p:nvSpPr>
            <p:cNvPr id="130" name=""/>
            <p:cNvSpPr/>
            <p:nvPr/>
          </p:nvSpPr>
          <p:spPr>
            <a:xfrm>
              <a:off x="-103320" y="3122640"/>
              <a:ext cx="3426480" cy="137376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Virgola/Spazio: gli elementi sono sulla stessa rig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73640" y="3873600"/>
              <a:ext cx="1605960" cy="297720"/>
            </a:xfrm>
            <a:custGeom>
              <a:avLst/>
              <a:gdLst/>
              <a:ahLst/>
              <a:rect l="l" t="t" r="r" b="b"/>
              <a:pathLst>
                <a:path w="912" h="112">
                  <a:moveTo>
                    <a:pt x="0" y="0"/>
                  </a:moveTo>
                  <a:cubicBezTo>
                    <a:pt x="140" y="40"/>
                    <a:pt x="280" y="80"/>
                    <a:pt x="432" y="96"/>
                  </a:cubicBezTo>
                  <a:cubicBezTo>
                    <a:pt x="584" y="112"/>
                    <a:pt x="748" y="104"/>
                    <a:pt x="912" y="96"/>
                  </a:cubicBezTo>
                </a:path>
              </a:pathLst>
            </a:custGeom>
            <a:solidFill>
              <a:srgbClr val="ff7c80"/>
            </a:solidFill>
            <a:ln w="57240">
              <a:solidFill>
                <a:srgbClr val="80808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176720" y="4495680"/>
            <a:ext cx="4738320" cy="2402640"/>
            <a:chOff x="4176720" y="4495680"/>
            <a:chExt cx="4738320" cy="2402640"/>
          </a:xfrm>
        </p:grpSpPr>
        <p:sp>
          <p:nvSpPr>
            <p:cNvPr id="133" name=""/>
            <p:cNvSpPr/>
            <p:nvPr/>
          </p:nvSpPr>
          <p:spPr>
            <a:xfrm flipH="1">
              <a:off x="6648120" y="4495680"/>
              <a:ext cx="80280" cy="1123920"/>
            </a:xfrm>
            <a:custGeom>
              <a:avLst/>
              <a:gdLst/>
              <a:ahLst/>
              <a:rect l="l" t="t" r="r" b="b"/>
              <a:pathLst>
                <a:path w="672" h="576">
                  <a:moveTo>
                    <a:pt x="672" y="576"/>
                  </a:moveTo>
                  <a:cubicBezTo>
                    <a:pt x="656" y="456"/>
                    <a:pt x="640" y="336"/>
                    <a:pt x="528" y="240"/>
                  </a:cubicBezTo>
                  <a:cubicBezTo>
                    <a:pt x="416" y="144"/>
                    <a:pt x="208" y="72"/>
                    <a:pt x="0" y="0"/>
                  </a:cubicBezTo>
                </a:path>
              </a:pathLst>
            </a:custGeom>
            <a:solidFill>
              <a:srgbClr val="6699ff"/>
            </a:solidFill>
            <a:ln w="57240">
              <a:solidFill>
                <a:srgbClr val="80808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76720" y="5524560"/>
              <a:ext cx="4738320" cy="137376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Qualunque espressione Matlab può essere usata come elemento di una matri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66760" y="69840"/>
            <a:ext cx="861048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Array numerici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66960" y="1546200"/>
            <a:ext cx="5334120" cy="46677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x=[-1.6 sqrt(4) (7+5)*4/3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x(5)=abs(x(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x = -1.6000 2.0000 16.0000 0 1.6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x=0: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0  1  2  3  4  5  6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y=0:0.5: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z=7:-1: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x=linspace(0,7,1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rand(1,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0.8913 0.7621 0.4565 0.01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253120" y="433440"/>
            <a:ext cx="3711600" cy="2125080"/>
            <a:chOff x="5253120" y="433440"/>
            <a:chExt cx="3711600" cy="2125080"/>
          </a:xfrm>
        </p:grpSpPr>
        <p:sp>
          <p:nvSpPr>
            <p:cNvPr id="138" name=""/>
            <p:cNvSpPr/>
            <p:nvPr/>
          </p:nvSpPr>
          <p:spPr>
            <a:xfrm>
              <a:off x="5253120" y="433440"/>
              <a:ext cx="3711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Elementi non definiti sono posti a zer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6936120" y="1823760"/>
              <a:ext cx="1236240" cy="233280"/>
            </a:xfrm>
            <a:custGeom>
              <a:avLst/>
              <a:gdLst/>
              <a:ahLst/>
              <a:rect l="l" t="t" r="r" b="b"/>
              <a:pathLst>
                <a:path w="816" h="96">
                  <a:moveTo>
                    <a:pt x="0" y="96"/>
                  </a:moveTo>
                  <a:cubicBezTo>
                    <a:pt x="100" y="80"/>
                    <a:pt x="200" y="64"/>
                    <a:pt x="336" y="48"/>
                  </a:cubicBezTo>
                  <a:cubicBezTo>
                    <a:pt x="472" y="32"/>
                    <a:pt x="644" y="16"/>
                    <a:pt x="816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23840" y="819000"/>
            <a:ext cx="3747960" cy="2226960"/>
            <a:chOff x="123840" y="819000"/>
            <a:chExt cx="3747960" cy="2226960"/>
          </a:xfrm>
        </p:grpSpPr>
        <p:sp>
          <p:nvSpPr>
            <p:cNvPr id="141" name=""/>
            <p:cNvSpPr/>
            <p:nvPr/>
          </p:nvSpPr>
          <p:spPr>
            <a:xfrm>
              <a:off x="123840" y="819000"/>
              <a:ext cx="3504960" cy="22269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Gli elementi di una matrice si possono individuare mediante numeri all’interno di parentesi ton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4400" y="2464920"/>
              <a:ext cx="1157400" cy="113040"/>
            </a:xfrm>
            <a:custGeom>
              <a:avLst/>
              <a:gdLst/>
              <a:ahLst/>
              <a:rect l="l" t="t" r="r" b="b"/>
              <a:pathLst>
                <a:path w="720" h="56">
                  <a:moveTo>
                    <a:pt x="0" y="8"/>
                  </a:moveTo>
                  <a:cubicBezTo>
                    <a:pt x="84" y="4"/>
                    <a:pt x="168" y="0"/>
                    <a:pt x="288" y="8"/>
                  </a:cubicBezTo>
                  <a:cubicBezTo>
                    <a:pt x="408" y="16"/>
                    <a:pt x="564" y="36"/>
                    <a:pt x="720" y="56"/>
                  </a:cubicBezTo>
                </a:path>
              </a:pathLst>
            </a:custGeom>
            <a:solidFill>
              <a:srgbClr val="33ccff"/>
            </a:solidFill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0" y="4870440"/>
            <a:ext cx="4668840" cy="1373760"/>
            <a:chOff x="0" y="4870440"/>
            <a:chExt cx="4668840" cy="1373760"/>
          </a:xfrm>
        </p:grpSpPr>
        <p:sp>
          <p:nvSpPr>
            <p:cNvPr id="144" name=""/>
            <p:cNvSpPr/>
            <p:nvPr/>
          </p:nvSpPr>
          <p:spPr>
            <a:xfrm>
              <a:off x="0" y="4870440"/>
              <a:ext cx="3638520" cy="13737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Senza  assegnazione esplicita: ogni entità è memorizzata in  ‘ans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68680" y="5519880"/>
              <a:ext cx="1100160" cy="263520"/>
            </a:xfrm>
            <a:custGeom>
              <a:avLst/>
              <a:gdLst/>
              <a:ahLst/>
              <a:rect l="l" t="t" r="r" b="b"/>
              <a:pathLst>
                <a:path w="809" h="141">
                  <a:moveTo>
                    <a:pt x="0" y="59"/>
                  </a:moveTo>
                  <a:cubicBezTo>
                    <a:pt x="59" y="29"/>
                    <a:pt x="119" y="0"/>
                    <a:pt x="254" y="14"/>
                  </a:cubicBezTo>
                  <a:cubicBezTo>
                    <a:pt x="389" y="28"/>
                    <a:pt x="718" y="120"/>
                    <a:pt x="809" y="141"/>
                  </a:cubicBezTo>
                </a:path>
              </a:pathLst>
            </a:custGeom>
            <a:solidFill>
              <a:srgbClr val="ff7c80"/>
            </a:solidFill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85760" y="2840040"/>
            <a:ext cx="8646840" cy="2425680"/>
            <a:chOff x="185760" y="2840040"/>
            <a:chExt cx="8646840" cy="2425680"/>
          </a:xfrm>
        </p:grpSpPr>
        <p:sp>
          <p:nvSpPr>
            <p:cNvPr id="147" name=""/>
            <p:cNvSpPr/>
            <p:nvPr/>
          </p:nvSpPr>
          <p:spPr>
            <a:xfrm>
              <a:off x="185760" y="3029040"/>
              <a:ext cx="31298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L’operatore “</a:t>
              </a:r>
              <a:r>
                <a:rPr b="1" lang="it-IT" sz="2800" spc="-1" strike="noStrike">
                  <a:solidFill>
                    <a:srgbClr val="ff3300"/>
                  </a:solidFill>
                  <a:latin typeface="Times New Roman"/>
                </a:rPr>
                <a:t>:</a:t>
              </a: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” crea vettori di elementi equispaziat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29960" y="2840040"/>
              <a:ext cx="5102640" cy="24256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90600" y="3657600"/>
              <a:ext cx="503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La matric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8280" y="3222720"/>
            <a:ext cx="8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80" y="4000680"/>
            <a:ext cx="17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Rig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(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54200" y="1717560"/>
            <a:ext cx="212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Colon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53160" y="223920"/>
            <a:ext cx="4138560" cy="2226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atr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Vettore : m x 1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1 x n 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atrice: m x n array Scalare : 1 x 1 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0640" y="3313080"/>
          <a:ext cx="5173560" cy="25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3313080"/>
                    <a:ext cx="5173560" cy="2529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155680" y="2878200"/>
            <a:ext cx="47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1          2          3          4          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134600">
            <a:off x="-1765800" y="6455520"/>
            <a:ext cx="6835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1          2          3          4          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Come individuare gli elementi di una matrice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4160" y="2411280"/>
            <a:ext cx="8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28760" y="2087640"/>
            <a:ext cx="42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1         2        3       4         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134600">
            <a:off x="-1609920" y="5644080"/>
            <a:ext cx="6835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1          2          3          4          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240" y="1473120"/>
            <a:ext cx="3168000" cy="52056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&gt;&gt; A=magic(5)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101680" y="2662200"/>
          <a:ext cx="4368960" cy="244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1680" y="2662200"/>
                    <a:ext cx="4368960" cy="2440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pSp>
        <p:nvGrpSpPr>
          <p:cNvPr id="166" name=""/>
          <p:cNvGrpSpPr/>
          <p:nvPr/>
        </p:nvGrpSpPr>
        <p:grpSpPr>
          <a:xfrm>
            <a:off x="3678840" y="3905640"/>
            <a:ext cx="3733920" cy="1834920"/>
            <a:chOff x="3678840" y="3905640"/>
            <a:chExt cx="3733920" cy="1834920"/>
          </a:xfrm>
        </p:grpSpPr>
        <p:sp>
          <p:nvSpPr>
            <p:cNvPr id="167" name=""/>
            <p:cNvSpPr/>
            <p:nvPr/>
          </p:nvSpPr>
          <p:spPr>
            <a:xfrm>
              <a:off x="6156000" y="5159160"/>
              <a:ext cx="125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Times New Roman"/>
                </a:rPr>
                <a:t>A(3,2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3678840" y="3905640"/>
              <a:ext cx="2266920" cy="1500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13080" y="3627360"/>
            <a:ext cx="2431440" cy="2266200"/>
            <a:chOff x="613080" y="3627360"/>
            <a:chExt cx="2431440" cy="2266200"/>
          </a:xfrm>
        </p:grpSpPr>
        <p:sp>
          <p:nvSpPr>
            <p:cNvPr id="170" name=""/>
            <p:cNvSpPr/>
            <p:nvPr/>
          </p:nvSpPr>
          <p:spPr>
            <a:xfrm>
              <a:off x="613080" y="5312160"/>
              <a:ext cx="1256760" cy="5814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3300"/>
                  </a:solidFill>
                  <a:latin typeface="Times New Roman"/>
                </a:rPr>
                <a:t>A(3,1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51000" y="3627360"/>
              <a:ext cx="893520" cy="42084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453320" y="3920400"/>
              <a:ext cx="735120" cy="1427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179880" y="4078440"/>
            <a:ext cx="5557680" cy="2661120"/>
            <a:chOff x="3179880" y="4078440"/>
            <a:chExt cx="5557680" cy="2661120"/>
          </a:xfrm>
        </p:grpSpPr>
        <p:sp>
          <p:nvSpPr>
            <p:cNvPr id="174" name=""/>
            <p:cNvSpPr/>
            <p:nvPr/>
          </p:nvSpPr>
          <p:spPr>
            <a:xfrm>
              <a:off x="3179880" y="4078440"/>
              <a:ext cx="1503000" cy="100656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4599000" y="4934160"/>
              <a:ext cx="1594800" cy="1101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25560" y="5670720"/>
              <a:ext cx="2412000" cy="10688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Times New Roman"/>
                </a:rPr>
                <a:t>A([4,5],[2,3]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Times New Roman"/>
                </a:rPr>
                <a:t>A(4:5,2:3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960" y="263520"/>
            <a:ext cx="8877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Come estrarre elementi da una matrice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400" y="2411280"/>
            <a:ext cx="8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09760" y="2522520"/>
          <a:ext cx="5173560" cy="25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2522520"/>
                    <a:ext cx="5173560" cy="2529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774800" y="2087640"/>
            <a:ext cx="47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1          2          3          4          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134600">
            <a:off x="-2146680" y="5644080"/>
            <a:ext cx="6835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1          2          3          4          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689440"/>
            <a:ext cx="830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i vogliono estrarre gli elementi dell’ultima colon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11680" y="2568600"/>
            <a:ext cx="830520" cy="2406600"/>
          </a:xfrm>
          <a:prstGeom prst="rect">
            <a:avLst/>
          </a:prstGeom>
          <a:noFill/>
          <a:ln w="414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095880" y="5038560"/>
            <a:ext cx="0" cy="874800"/>
          </a:xfrm>
          <a:prstGeom prst="line">
            <a:avLst/>
          </a:prstGeom>
          <a:ln w="414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240" y="1473120"/>
            <a:ext cx="3168000" cy="52056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&gt;&gt; A=magic(5)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Desktop del MATLAB 7.0.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0360" y="5627520"/>
            <a:ext cx="891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00"/>
                </a:solidFill>
                <a:uFillTx/>
                <a:latin typeface="Courier New"/>
              </a:rPr>
              <a:t>3)Start</a:t>
            </a:r>
            <a:r>
              <a:rPr b="1" lang="it-IT" sz="2800" spc="-1" strike="noStrike">
                <a:solidFill>
                  <a:srgbClr val="003300"/>
                </a:solidFill>
                <a:latin typeface="Times New Roman"/>
              </a:rPr>
              <a:t>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ccesso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i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ols, demos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documentazione  dei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rodotti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thWorks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stallati sul compute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360" y="833400"/>
            <a:ext cx="267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ff3300"/>
                </a:solidFill>
                <a:uFillTx/>
                <a:latin typeface="Courier New"/>
              </a:rPr>
              <a:t>1)workspac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iporta le variabili memorizz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00" y="2668680"/>
            <a:ext cx="240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cc"/>
                </a:solidFill>
                <a:uFillTx/>
                <a:latin typeface="Courier New"/>
              </a:rPr>
              <a:t>2)Command History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iporta i comandi eseguiti nel Command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774880" y="1271520"/>
            <a:ext cx="6159600" cy="4041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V="1">
            <a:off x="2228400" y="5311080"/>
            <a:ext cx="721440" cy="35856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60240" y="2513880"/>
            <a:ext cx="1227960" cy="203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5400" y="4046040"/>
            <a:ext cx="1171800" cy="2494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66760" y="22176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Come estrarre gli elementi dell’ultima colonna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6120" y="1590840"/>
            <a:ext cx="4722840" cy="222696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&gt;&gt; A=magic(5)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&gt;&gt; A([1,2,3,4,5],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&gt;&gt; A(1:5,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&gt;&gt; A(:,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84400" y="3936960"/>
            <a:ext cx="1460880" cy="2653560"/>
          </a:xfrm>
          <a:prstGeom prst="rect">
            <a:avLst/>
          </a:prstGeom>
          <a:solidFill>
            <a:srgbClr val="ff7c8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391200" y="1200240"/>
            <a:ext cx="5498640" cy="1823400"/>
            <a:chOff x="3391200" y="1200240"/>
            <a:chExt cx="5498640" cy="1823400"/>
          </a:xfrm>
        </p:grpSpPr>
        <p:sp>
          <p:nvSpPr>
            <p:cNvPr id="191" name=""/>
            <p:cNvSpPr/>
            <p:nvPr/>
          </p:nvSpPr>
          <p:spPr>
            <a:xfrm>
              <a:off x="5749560" y="1200240"/>
              <a:ext cx="3140280" cy="1373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L’operatore “</a:t>
              </a:r>
              <a:r>
                <a:rPr b="1" lang="it-IT" sz="2800" spc="-1" strike="noStrike">
                  <a:solidFill>
                    <a:srgbClr val="ff3300"/>
                  </a:solidFill>
                  <a:latin typeface="Times New Roman"/>
                </a:rPr>
                <a:t>:</a:t>
              </a: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” prende le righe 1-5 della matri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796000">
              <a:off x="4343040" y="1197000"/>
              <a:ext cx="411120" cy="2344680"/>
            </a:xfrm>
            <a:custGeom>
              <a:avLst/>
              <a:gdLst/>
              <a:ahLst/>
              <a:rect l="l" t="t" r="r" b="b"/>
              <a:pathLst>
                <a:path w="816" h="96">
                  <a:moveTo>
                    <a:pt x="0" y="96"/>
                  </a:moveTo>
                  <a:cubicBezTo>
                    <a:pt x="100" y="80"/>
                    <a:pt x="200" y="64"/>
                    <a:pt x="336" y="48"/>
                  </a:cubicBezTo>
                  <a:cubicBezTo>
                    <a:pt x="472" y="32"/>
                    <a:pt x="644" y="16"/>
                    <a:pt x="816" y="0"/>
                  </a:cubicBezTo>
                </a:path>
              </a:pathLst>
            </a:custGeom>
            <a:solidFill>
              <a:srgbClr val="ff7c80"/>
            </a:solidFill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27320" y="2993400"/>
            <a:ext cx="5662800" cy="2159640"/>
            <a:chOff x="3127320" y="2993400"/>
            <a:chExt cx="5662800" cy="2159640"/>
          </a:xfrm>
        </p:grpSpPr>
        <p:sp>
          <p:nvSpPr>
            <p:cNvPr id="194" name=""/>
            <p:cNvSpPr/>
            <p:nvPr/>
          </p:nvSpPr>
          <p:spPr>
            <a:xfrm>
              <a:off x="5649840" y="3352680"/>
              <a:ext cx="3140280" cy="1800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L’operatore “</a:t>
              </a:r>
              <a:r>
                <a:rPr b="1" lang="it-IT" sz="2800" spc="-1" strike="noStrike">
                  <a:solidFill>
                    <a:srgbClr val="ff3300"/>
                  </a:solidFill>
                  <a:latin typeface="Times New Roman"/>
                </a:rPr>
                <a:t>:</a:t>
              </a: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”, senza alcuna specifica, individua tutte le righ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6804000">
              <a:off x="4267080" y="2300400"/>
              <a:ext cx="215640" cy="2625840"/>
            </a:xfrm>
            <a:custGeom>
              <a:avLst/>
              <a:gdLst/>
              <a:ahLst/>
              <a:rect l="l" t="t" r="r" b="b"/>
              <a:pathLst>
                <a:path w="816" h="96">
                  <a:moveTo>
                    <a:pt x="0" y="96"/>
                  </a:moveTo>
                  <a:cubicBezTo>
                    <a:pt x="100" y="80"/>
                    <a:pt x="200" y="64"/>
                    <a:pt x="336" y="48"/>
                  </a:cubicBezTo>
                  <a:cubicBezTo>
                    <a:pt x="472" y="32"/>
                    <a:pt x="644" y="16"/>
                    <a:pt x="816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Esercizio 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6800" y="984240"/>
            <a:ext cx="84582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ata la matrice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A=eye(4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) estrarre la prima riga e la terza colonna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) sostituire l’ultima riga di A con il vettore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r=[-1 2 -3 4]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3840" y="4145040"/>
            <a:ext cx="8826480" cy="19227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 A=eye(4); % matrice identità 4x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)» p=A(1,:);q=A(: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b)» r=[-1 2 -3 4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 A(end,1:4)=r; </a:t>
            </a:r>
            <a:r>
              <a:rPr b="1" lang="it-IT" sz="2400" spc="-1" strike="noStrike">
                <a:solidFill>
                  <a:srgbClr val="000099"/>
                </a:solidFill>
                <a:latin typeface="Courier New"/>
              </a:rPr>
              <a:t>%oppure A(end,:)=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ourier New"/>
              </a:rPr>
              <a:t>                  </a:t>
            </a:r>
            <a:r>
              <a:rPr b="1" lang="it-IT" sz="2400" spc="-1" strike="noStrike">
                <a:solidFill>
                  <a:srgbClr val="000099"/>
                </a:solidFill>
                <a:latin typeface="Courier New"/>
              </a:rPr>
              <a:t>%oppure A(end,:)=[-1 2 -3 4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Formato dell’output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4960" y="928800"/>
            <a:ext cx="38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Comando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616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90400" y="1704960"/>
            <a:ext cx="7718400" cy="4572000"/>
            <a:chOff x="590400" y="1704960"/>
            <a:chExt cx="7718400" cy="4572000"/>
          </a:xfrm>
        </p:grpSpPr>
        <p:sp>
          <p:nvSpPr>
            <p:cNvPr id="203" name=""/>
            <p:cNvSpPr/>
            <p:nvPr/>
          </p:nvSpPr>
          <p:spPr>
            <a:xfrm>
              <a:off x="590400" y="1704960"/>
              <a:ext cx="2317680" cy="716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-6840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Comando MATLA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08080" y="1704960"/>
              <a:ext cx="2070000" cy="716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Cifre decimal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78080" y="1704960"/>
              <a:ext cx="3330720" cy="716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-33804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Esemp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0400" y="2421000"/>
              <a:ext cx="2317680" cy="807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t sh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08080" y="2421000"/>
              <a:ext cx="2070000" cy="807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ault (4 cifr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78080" y="2421000"/>
              <a:ext cx="3330720" cy="807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.23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0400" y="3228840"/>
              <a:ext cx="2317680" cy="762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t lo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08080" y="3228840"/>
              <a:ext cx="2070000" cy="762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 decimal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78080" y="3228840"/>
              <a:ext cx="3330720" cy="762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.234533333333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400" y="3990960"/>
              <a:ext cx="2317680" cy="762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t short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08080" y="3990960"/>
              <a:ext cx="2070000" cy="762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decimal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78080" y="3990960"/>
              <a:ext cx="3330720" cy="762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5235e+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0400" y="4753080"/>
              <a:ext cx="2317680" cy="761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t long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08080" y="4753080"/>
              <a:ext cx="2070000" cy="761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 decimal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78080" y="4753080"/>
              <a:ext cx="3330720" cy="761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523453333333333e+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0400" y="5514840"/>
              <a:ext cx="2317680" cy="762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t 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08080" y="5514840"/>
              <a:ext cx="2070000" cy="762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zion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78080" y="5514840"/>
              <a:ext cx="3330720" cy="762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911/38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0" y="53341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ncatenazione di vettor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05160" y="1368360"/>
            <a:ext cx="5667120" cy="4972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gt;&gt; x1=1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x1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     2    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gt;&gt; x2=4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x2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4     5    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gt;&gt; x3=[x1 x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x3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     2     3     4     5    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gt;&gt; x4=[x1;x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x4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     2    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4     5    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0600" y="1317600"/>
            <a:ext cx="2926800" cy="825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operatore [ ] se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 concatenare vet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04800" y="2209680"/>
            <a:ext cx="16765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Array di Stringh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680" y="2433600"/>
            <a:ext cx="8923320" cy="48502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r1= ’Questa e’’ una stringa di prova’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r2=’che contiene 58 elementi’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r=strvcat(str1,str2)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% strvcat costruisce un vettore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                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% colo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r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Questa e' una stringa di pr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he contiene 58 ele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r=strcat(str1,str2)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% strcat costruisce u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               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% vettore riga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r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Questa e’ una stringa di prova che contiene 58 ele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89640" y="955800"/>
            <a:ext cx="2970000" cy="1373760"/>
          </a:xfrm>
          <a:prstGeom prst="rect">
            <a:avLst/>
          </a:prstGeom>
          <a:solidFill>
            <a:srgbClr val="ffe1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’operatore (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) delimita una strin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rot="19956600">
            <a:off x="3283920" y="1644480"/>
            <a:ext cx="2251080" cy="485640"/>
          </a:xfrm>
          <a:custGeom>
            <a:avLst/>
            <a:gdLst/>
            <a:ahLst/>
            <a:rect l="l" t="t" r="r" b="b"/>
            <a:pathLst>
              <a:path w="1418" h="306">
                <a:moveTo>
                  <a:pt x="0" y="215"/>
                </a:moveTo>
                <a:cubicBezTo>
                  <a:pt x="118" y="107"/>
                  <a:pt x="236" y="0"/>
                  <a:pt x="472" y="15"/>
                </a:cubicBezTo>
                <a:cubicBezTo>
                  <a:pt x="708" y="30"/>
                  <a:pt x="1262" y="260"/>
                  <a:pt x="1418" y="306"/>
                </a:cubicBezTo>
              </a:path>
            </a:pathLst>
          </a:custGeom>
          <a:noFill/>
          <a:ln w="4140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Esercizio 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3250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struire un vettore x costituito da 10 numeri progressivi (es. da 51 a 60)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i calcoli dapprima la somma delle componenti del vettore x e poi la somma della prima ed ultima componente</a:t>
            </a:r>
            <a:r>
              <a:rPr b="1" lang="it-IT" sz="3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i costruisca un vettore p, le cui prime 10 componenti siano le stesse di x, mentre l’undicesima e la dodicesima siano rispettivamente la somma e la differenza delle prime due componenti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Soluzione Esercizio 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774720"/>
            <a:ext cx="9144000" cy="60663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1.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» x=51:6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% oppure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x=linspace(51,60,10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2.  » sum(x)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%somma di tutte le compon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» x(1)+x(10)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% oppure x(1)+x(end)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% opp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» n=length(x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» x(1)+x(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3.  » p=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» p(11)=x(1)+x(2);  » p(12)=x(1)-x(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% oppure p=[x x(1)+x(2) x(1)-x(2)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% opp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» q=[x(1)+x(2) x(1)-x(2)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» p=[x q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Variabili predefinit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7640" y="1541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3300"/>
                </a:solidFill>
                <a:latin typeface="Courier New"/>
              </a:rPr>
              <a:t>pi       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3300"/>
                </a:solidFill>
                <a:latin typeface="Courier New"/>
              </a:rPr>
              <a:t>i, j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3300"/>
                </a:solidFill>
                <a:latin typeface="Courier New"/>
              </a:rPr>
              <a:t>ep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3300"/>
                </a:solidFill>
                <a:latin typeface="Courier New"/>
              </a:rPr>
              <a:t>realmin </a:t>
            </a:r>
            <a:r>
              <a:rPr b="1" lang="it-IT" sz="4000" spc="-1" strike="noStrike">
                <a:solidFill>
                  <a:srgbClr val="ff3300"/>
                </a:solidFill>
                <a:latin typeface="Courier New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3300"/>
                </a:solidFill>
                <a:latin typeface="Courier New"/>
              </a:rPr>
              <a:t>realma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3300"/>
                </a:solidFill>
                <a:latin typeface="Courier New"/>
              </a:rPr>
              <a:t>a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19240" y="1484280"/>
            <a:ext cx="6224760" cy="521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»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3.141592653589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» 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2.220446049250313e-0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» real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2.225073858507201e-3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» real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1.797693134862316e+3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Variabili predefinit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780000" y="2892600"/>
            <a:ext cx="512424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p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ans 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3.1415926535897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&gt;&gt; pi=3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&gt;&gt; p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pi 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     </a:t>
            </a: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6360" y="923760"/>
            <a:ext cx="8458200" cy="180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ATTENZIONE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Nel caso si assegni il nome di una variabile predefinita ad una quantità di valore diverso, si perde il valore predefini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16080" y="294336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6360" y="6229440"/>
            <a:ext cx="87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l valore rimane tale finché non si conclude la sessione MATL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57240"/>
            <a:ext cx="893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Variabili non numeriche predefinit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7628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ourier New"/>
              </a:rPr>
              <a:t>NaN</a:t>
            </a: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 (Not a Number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3300"/>
                </a:solidFill>
                <a:latin typeface="Courier New"/>
              </a:rPr>
              <a:t>Inf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0800" y="2490840"/>
            <a:ext cx="6253200" cy="4299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» 0/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Warning: Divide by z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» b=1/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Warning: Divide by z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b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I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70240" y="1277640"/>
            <a:ext cx="2273400" cy="5414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Times New Roman"/>
              </a:rPr>
              <a:t>5) Command   Window</a:t>
            </a: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finestra di lavoro; esso viene usato per inserire variabili ed eseguire fil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function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file scrip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1280" y="63360"/>
            <a:ext cx="649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00"/>
                </a:solidFill>
                <a:uFillTx/>
                <a:latin typeface="Times New Roman"/>
              </a:rPr>
              <a:t>4) Current Directory</a:t>
            </a:r>
            <a:r>
              <a:rPr b="1" lang="it-IT" sz="2800" spc="-1" strike="noStrike">
                <a:solidFill>
                  <a:srgbClr val="003300"/>
                </a:solidFill>
                <a:latin typeface="Times New Roman"/>
              </a:rPr>
              <a:t>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permette l’accesso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ai file memorizzati nella directory di lavoro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93760" y="1471680"/>
            <a:ext cx="5799240" cy="5137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46400" y="2228040"/>
            <a:ext cx="321480" cy="185256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4761000" y="2709360"/>
            <a:ext cx="1722240" cy="478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83640" y="1218960"/>
            <a:ext cx="2741400" cy="77364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175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Funzioni di utilità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-360" y="701280"/>
            <a:ext cx="8991720" cy="60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zeros(m,n)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atric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mxn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con tutti elem. = 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Courier New"/>
              </a:rPr>
              <a:t>oppure zeros(m)se la matrice è mxm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ones(m,n)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matric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mxn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con tutti elem. =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Courier New"/>
              </a:rPr>
              <a:t>oppure ones(m) se la matrice è mxm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cc"/>
                </a:solidFill>
                <a:latin typeface="Courier New"/>
              </a:rPr>
              <a:t>Se si vuole un vettore colonna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(riga)</a:t>
            </a:r>
            <a:r>
              <a:rPr b="1" lang="it-IT" sz="2800" spc="-1" strike="noStrike">
                <a:solidFill>
                  <a:srgbClr val="ff33cc"/>
                </a:solidFill>
                <a:latin typeface="Courier New"/>
              </a:rPr>
              <a:t>di m componenti nulle oppure tutte uguali a 1, basta scrivere zeros(m,1)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(zeros(1,m))</a:t>
            </a:r>
            <a:r>
              <a:rPr b="1" lang="it-IT" sz="2800" spc="-1" strike="noStrike">
                <a:solidFill>
                  <a:srgbClr val="ff33cc"/>
                </a:solidFill>
                <a:latin typeface="Courier New"/>
              </a:rPr>
              <a:t> o ones(m,1)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(ones(1,m))</a:t>
            </a:r>
            <a:r>
              <a:rPr b="1" lang="it-IT" sz="2800" spc="-1" strike="noStrike">
                <a:solidFill>
                  <a:srgbClr val="ff33cc"/>
                </a:solidFill>
                <a:latin typeface="Courier New"/>
              </a:rPr>
              <a:t> rispettivament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magic(m)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matrice magica di dimensioni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mx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eye (m)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matrice identità di dimensioni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mx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tril(A)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matrice triang. infer. estratta da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triu(A)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matrice triang. super. estratta da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diag(A)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vettore contenente la diagonale di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2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7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2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7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2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7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2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7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2" dur="500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2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7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2" dur="500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Matrici particolar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5680" y="750960"/>
            <a:ext cx="1842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Courier New"/>
              </a:rPr>
              <a:t>tr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Courier New"/>
              </a:rPr>
              <a:t>tr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Courier New"/>
              </a:rPr>
              <a:t>di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76280" y="1249200"/>
            <a:ext cx="56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intassi: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omando(nome_var,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920880" y="3008160"/>
          <a:ext cx="421632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3008160"/>
                    <a:ext cx="421632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2" name=""/>
          <p:cNvGrpSpPr/>
          <p:nvPr/>
        </p:nvGrpSpPr>
        <p:grpSpPr>
          <a:xfrm>
            <a:off x="1620720" y="2905200"/>
            <a:ext cx="4446720" cy="3015360"/>
            <a:chOff x="1620720" y="2905200"/>
            <a:chExt cx="4446720" cy="3015360"/>
          </a:xfrm>
        </p:grpSpPr>
        <p:sp>
          <p:nvSpPr>
            <p:cNvPr id="253" name=""/>
            <p:cNvSpPr/>
            <p:nvPr/>
          </p:nvSpPr>
          <p:spPr>
            <a:xfrm>
              <a:off x="1620720" y="2905200"/>
              <a:ext cx="3614760" cy="2801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38080" y="54608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3300"/>
                  </a:solidFill>
                  <a:latin typeface="Courier New"/>
                </a:rPr>
                <a:t>k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021200" y="2583000"/>
            <a:ext cx="2748960" cy="1495440"/>
            <a:chOff x="4021200" y="2583000"/>
            <a:chExt cx="2748960" cy="1495440"/>
          </a:xfrm>
        </p:grpSpPr>
        <p:sp>
          <p:nvSpPr>
            <p:cNvPr id="256" name=""/>
            <p:cNvSpPr/>
            <p:nvPr/>
          </p:nvSpPr>
          <p:spPr>
            <a:xfrm flipV="1">
              <a:off x="4021200" y="2830680"/>
              <a:ext cx="1247760" cy="1247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05600" y="2583000"/>
              <a:ext cx="156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urier New"/>
                </a:rPr>
                <a:t>k </a:t>
              </a: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posi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08520" y="4358520"/>
            <a:ext cx="2745000" cy="1774800"/>
            <a:chOff x="308520" y="4358520"/>
            <a:chExt cx="2745000" cy="1774800"/>
          </a:xfrm>
        </p:grpSpPr>
        <p:sp>
          <p:nvSpPr>
            <p:cNvPr id="259" name=""/>
            <p:cNvSpPr/>
            <p:nvPr/>
          </p:nvSpPr>
          <p:spPr>
            <a:xfrm flipH="1">
              <a:off x="1807200" y="4358520"/>
              <a:ext cx="1246320" cy="1249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8520" y="5673600"/>
              <a:ext cx="154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urier New"/>
                </a:rPr>
                <a:t>k</a:t>
              </a: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 nega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5280480" y="3244680"/>
            <a:ext cx="3744000" cy="192276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k=0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può essere om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k=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codiagonale superi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k=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codiagonale inferi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Esercizio 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320" y="971640"/>
            <a:ext cx="8934480" cy="56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ata la matrice A=[1:3; 4:6; 7:9]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) estrarre la seconda riga e la terza colonna;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) scambiare l’ultima riga con la prima riga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2. Estrarre la diagonale della matrice A data in 1. e creare una matrice diagonale avente sulla diagonale gli elementi della diagonale di A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3. Costruire una matrice tridiagonale 5x5 che abbia  tutti 4 sulla diagonale principale, 1 sulla codiagonale superiore e -1 su quella  inferior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Soluzione Esercizio 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934920"/>
            <a:ext cx="9144000" cy="60055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1.» A=[1:3;4:6;7:9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» p=A(2,:);q=A(:,3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» x=A(1,:); </a:t>
            </a: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% x: variabile di appogg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» A(1,:)=A(end,: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» A(end,:)=x;</a:t>
            </a: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%oppure A([1,3],:)=A([3,1],: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2.» b=diag(A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» c=diag(b); </a:t>
            </a: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%oppure c=diag(diag(A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3.» n=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» I1=ones(n,1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» I2=ones(n-1,1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» A=diag(4*I1)+1*diag(I2,1)-1*diag(I2,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%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in questo caso anche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A=diag(4*I1)+diag(I2,1)-diag(I2,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0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Esercizio 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09520" y="97128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ata la matri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A=[-5 1 2 0; 3 9 4 -7; 1 9 9 8;</a:t>
            </a:r>
            <a:r>
              <a:rPr b="1" lang="it-IT" sz="4800" spc="-1" strike="noStrike">
                <a:solidFill>
                  <a:srgbClr val="ff3300"/>
                </a:solidFill>
                <a:latin typeface="Courier New"/>
              </a:rPr>
              <a:t>…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-1 0 0 6]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calcolarne il determinan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costruire la matrice L, triangolare inferiore, estratta da A </a:t>
            </a: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(istruzione tril)</a:t>
            </a: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costruire la matrice U, triangolare superiore, estratta da A (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istruzione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triu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costruire la matrice T, tridiagonale con gli stessi elementi di A sulla diagonale e le codiagonali (</a:t>
            </a: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istruzione</a:t>
            </a: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diag</a:t>
            </a: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7083360" y="1292400"/>
            <a:ext cx="1160640" cy="6379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Soluzione Esercizio 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117440"/>
            <a:ext cx="9144000" cy="4420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»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det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» L=tril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» U=triu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» T1=diag(A,-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» T2=diag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» T3=diag(A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» T=diag(T1,-1)+ diag(T2)+diag(T3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41760" y="57240"/>
            <a:ext cx="9186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Operazioni su vettori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280" y="1503360"/>
          <a:ext cx="7844040" cy="500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03360"/>
                    <a:ext cx="784404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88772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Esempio1: elevamento a potenza di matric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3800" y="1245960"/>
            <a:ext cx="7394400" cy="55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» format r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» a=hilb(3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 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       1/2    1/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/2    1/3    1/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/3    1/4    1/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» 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b1=a^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%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b1=a*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1 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49/36    3/4          21/4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3/4        61/144    3/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21/40    3/10        769/360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» </a:t>
            </a:r>
            <a:r>
              <a:rPr b="1" lang="it-IT" sz="2400" spc="-1" strike="noStrike">
                <a:solidFill>
                  <a:srgbClr val="ff3399"/>
                </a:solidFill>
                <a:latin typeface="Times New Roman"/>
              </a:rPr>
              <a:t>b2=a.^2 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% b2=a.*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2 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       1/4       1/9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/4    1/9       1/1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/9    1/16    1/2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28520" y="961920"/>
            <a:ext cx="6067440" cy="3590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=[1:5; 2: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1     2     3     4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2     3     4     5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B=[2:6; 3: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2     3     4     5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3     4     5     6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%  A*B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Esempio2: moltiplicazione tra matric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74880" y="4863960"/>
            <a:ext cx="5746680" cy="17614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A.*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2     6    12    20   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6    12    20    30    4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84960" y="1173240"/>
            <a:ext cx="2759040" cy="1542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A*B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70    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90   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Esercizio 5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09520" y="1142640"/>
            <a:ext cx="855360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terminare la matrice con elementi pari al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adrato dei singoli elementi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della matrice di Hilbert 6x6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alcolare il prodotto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emento per elemento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tra la matrice di Hilbert 6x6 e la matrice magica 6x6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nfrontare la matrice così ottenuta con la matric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hilb(6)*magic(6)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struire due vettori: il primo x, contenente i numeri pari da 1 a 40, il secondo y, contenente i numeri dispari da 1 a 40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alcolare il prodotto scalare dei due vettori x, y ed il vettore prodotto componente per component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La directory di lavoro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939960"/>
            <a:ext cx="884412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La directory di default è C:\Programmi\MATLAB704\wor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00"/>
                </a:solidFill>
                <a:latin typeface="Times New Roman"/>
              </a:rPr>
              <a:t>Se si vuole usare un’altra directory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si va nella directory desiderata utilizzando “current directory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si inserisce la directory desiderata  nel pat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bright="-12000"/>
          </a:blip>
          <a:srcRect l="17502" t="0" r="-1237" b="72487"/>
          <a:stretch/>
        </p:blipFill>
        <p:spPr>
          <a:xfrm>
            <a:off x="1963800" y="2336760"/>
            <a:ext cx="6838920" cy="1806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flipV="1">
            <a:off x="4518000" y="3116160"/>
            <a:ext cx="2617920" cy="223056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15040" y="2797200"/>
            <a:ext cx="463680" cy="485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Soluzione Esercizio 5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1279440"/>
            <a:ext cx="9144000" cy="5882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1.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A=hilb(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A.^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2. B=hilb(6).*magic(6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C= hilb(6)*magic(6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3. x=2:2:4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y=1:2:4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z=x*y’; </a:t>
            </a:r>
            <a:r>
              <a:rPr b="1" lang="it-IT" sz="3200" spc="-1" strike="noStrike">
                <a:solidFill>
                  <a:srgbClr val="ff3300"/>
                </a:solidFill>
                <a:latin typeface="Courier New"/>
              </a:rPr>
              <a:t>%(z=x’*y è una matrice!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z=x.*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Come visualizzare il Path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5320" y="1030320"/>
            <a:ext cx="8883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Per </a:t>
            </a:r>
            <a:r>
              <a:rPr b="1" sz="3200" spc="-1" strike="noStrike">
                <a:solidFill>
                  <a:srgbClr val="3333cc"/>
                </a:solidFill>
                <a:latin typeface="Times New Roman"/>
              </a:rPr>
              <a:t>visualizzare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 il path si può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digitare il comando </a:t>
            </a:r>
            <a:r>
              <a:rPr b="0" sz="32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3200" spc="-1" strike="noStrike">
                <a:solidFill>
                  <a:srgbClr val="ff3300"/>
                </a:solidFill>
                <a:latin typeface="Courier New"/>
              </a:rPr>
              <a:t>path</a:t>
            </a:r>
            <a:r>
              <a:rPr b="0" sz="3200" spc="-1" strike="noStrike">
                <a:solidFill>
                  <a:srgbClr val="000000"/>
                </a:solidFill>
                <a:latin typeface="Courier New"/>
              </a:rPr>
              <a:t> ”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selezionare con il mouse dall’ambient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di calcolo la voce </a:t>
            </a:r>
            <a:r>
              <a:rPr b="1" sz="3200" spc="-1" strike="noStrike">
                <a:solidFill>
                  <a:srgbClr val="ff3300"/>
                </a:solidFill>
                <a:latin typeface="Courier New"/>
              </a:rPr>
              <a:t>File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 e dal menu a tendina che compare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 la voce </a:t>
            </a:r>
            <a:r>
              <a:rPr b="1" sz="3200" spc="-1" strike="noStrike">
                <a:solidFill>
                  <a:srgbClr val="ff3300"/>
                </a:solidFill>
                <a:latin typeface="Courier New"/>
              </a:rPr>
              <a:t>Set path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lum bright="-12000"/>
          </a:blip>
          <a:srcRect l="0" t="0" r="23355" b="43773"/>
          <a:stretch/>
        </p:blipFill>
        <p:spPr>
          <a:xfrm>
            <a:off x="3265560" y="3772080"/>
            <a:ext cx="5667480" cy="2889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6124" r="72984" b="53065"/>
          <a:stretch/>
        </p:blipFill>
        <p:spPr>
          <a:xfrm>
            <a:off x="3279600" y="4184640"/>
            <a:ext cx="205920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me utilizzare il Path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5680" y="1009800"/>
            <a:ext cx="88837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Per </a:t>
            </a:r>
            <a:r>
              <a:rPr b="1" sz="3200" spc="-1" strike="noStrike">
                <a:solidFill>
                  <a:srgbClr val="ff3300"/>
                </a:solidFill>
                <a:latin typeface="Times New Roman"/>
              </a:rPr>
              <a:t>aggiungere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 una directory al path preesistente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elezionare con il mouse  la voce </a:t>
            </a:r>
            <a:r>
              <a:rPr b="1" sz="3200" spc="-1" strike="noStrike">
                <a:solidFill>
                  <a:srgbClr val="ff3300"/>
                </a:solidFill>
                <a:latin typeface="Courier New"/>
              </a:rPr>
              <a:t>File</a:t>
            </a: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 …. </a:t>
            </a:r>
            <a:r>
              <a:rPr b="1" sz="3200" spc="-1" strike="noStrike">
                <a:solidFill>
                  <a:srgbClr val="ff3300"/>
                </a:solidFill>
                <a:latin typeface="Courier New"/>
              </a:rPr>
              <a:t>Set path</a:t>
            </a: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 …… </a:t>
            </a:r>
            <a:r>
              <a:rPr b="1" lang="it-IT" sz="3200" spc="-1" strike="noStrike">
                <a:solidFill>
                  <a:srgbClr val="ff3300"/>
                </a:solidFill>
                <a:latin typeface="Courier New"/>
              </a:rPr>
              <a:t>Add Folder</a:t>
            </a: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746360" y="2579760"/>
            <a:ext cx="7059600" cy="4278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959120" y="3265560"/>
            <a:ext cx="4037040" cy="3062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010120" y="4370400"/>
            <a:ext cx="285912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416400" y="1473120"/>
            <a:ext cx="5549760" cy="3395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760" y="56880"/>
            <a:ext cx="8610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Finestre Matlab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520" y="819000"/>
            <a:ext cx="86011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445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e finestre di lavoro del MATLAB sono tre 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1000" y="4552920"/>
            <a:ext cx="8434440" cy="2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99"/>
                </a:solidFill>
                <a:latin typeface="Times New Roman"/>
              </a:rPr>
              <a:t>Comandi util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clc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:ripulisce la finestra Command wind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99"/>
                </a:solidFill>
                <a:latin typeface="Times New Roman"/>
              </a:rPr>
              <a:t>clf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:ripulisce la finestra Graphic wind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00"/>
                </a:solidFill>
                <a:latin typeface="Times New Roman"/>
              </a:rPr>
              <a:t>quit o exit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: per uscire da MATL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122720" y="2230560"/>
            <a:ext cx="4673520" cy="2727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5872320" y="2867040"/>
            <a:ext cx="2825640" cy="2279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19240" y="1714680"/>
            <a:ext cx="30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Command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8480" y="2584440"/>
            <a:ext cx="21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cc99"/>
                </a:solidFill>
                <a:latin typeface="Times New Roman"/>
              </a:rPr>
              <a:t>Edit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3280" y="3630600"/>
            <a:ext cx="27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Graphic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Command Window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2666880"/>
            <a:ext cx="2514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32080" y="957240"/>
            <a:ext cx="7994160" cy="1581120"/>
            <a:chOff x="532080" y="957240"/>
            <a:chExt cx="7994160" cy="1581120"/>
          </a:xfrm>
        </p:grpSpPr>
        <p:sp>
          <p:nvSpPr>
            <p:cNvPr id="92" name=""/>
            <p:cNvSpPr/>
            <p:nvPr/>
          </p:nvSpPr>
          <p:spPr>
            <a:xfrm>
              <a:off x="532080" y="1211040"/>
              <a:ext cx="412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it-IT" sz="3600" spc="-1" strike="noStrike">
                  <a:solidFill>
                    <a:srgbClr val="000000"/>
                  </a:solidFill>
                  <a:latin typeface="Times New Roman"/>
                </a:rPr>
                <a:t>Utilizzo interattiv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92280" y="957240"/>
              <a:ext cx="3333960" cy="1581120"/>
            </a:xfrm>
            <a:prstGeom prst="rect">
              <a:avLst/>
            </a:prstGeom>
            <a:solidFill>
              <a:srgbClr val="00cc99"/>
            </a:solidFill>
            <a:ln w="64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urier New"/>
                </a:rPr>
                <a:t>» </a:t>
              </a: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3*5^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ans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3.6621e+00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84240" y="2976480"/>
            <a:ext cx="8997480" cy="3715920"/>
            <a:chOff x="84240" y="2976480"/>
            <a:chExt cx="8997480" cy="3715920"/>
          </a:xfrm>
        </p:grpSpPr>
        <p:sp>
          <p:nvSpPr>
            <p:cNvPr id="95" name=""/>
            <p:cNvSpPr/>
            <p:nvPr/>
          </p:nvSpPr>
          <p:spPr>
            <a:xfrm>
              <a:off x="84240" y="3670200"/>
              <a:ext cx="8997480" cy="3022200"/>
            </a:xfrm>
            <a:prstGeom prst="rect">
              <a:avLst/>
            </a:prstGeom>
            <a:solidFill>
              <a:srgbClr val="00cc99"/>
            </a:solidFill>
            <a:ln w="64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urier New"/>
                </a:rPr>
                <a:t>» </a:t>
              </a: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help mag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MAGIC  Magic squar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MAGIC(N) is an N-by-N matrix constructed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from the integers 1 through N^2 with equ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row, column, and diagonal sums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8160" y="2976480"/>
              <a:ext cx="2750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000000"/>
                  </a:solidFill>
                  <a:latin typeface="Times New Roman"/>
                </a:rPr>
                <a:t>Help onlin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Edit window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4080" y="981000"/>
            <a:ext cx="888372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480000"/>
                <a:tab algn="l" pos="847404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Per </a:t>
            </a:r>
            <a:r>
              <a:rPr b="1" sz="3200" spc="-1" strike="noStrike">
                <a:solidFill>
                  <a:srgbClr val="3333cc"/>
                </a:solidFill>
                <a:latin typeface="Times New Roman"/>
              </a:rPr>
              <a:t>visualizzare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’editor del Matlab s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i pu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480000"/>
                <a:tab algn="l" pos="847404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selezionare con il mouse dall’ambient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di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calc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480000"/>
                <a:tab algn="l" pos="847404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la voce </a:t>
            </a:r>
            <a:r>
              <a:rPr b="1" sz="2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e dal menu a tendina che compar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la vo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480000"/>
                <a:tab algn="l" pos="847404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New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oppure  </a:t>
            </a: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Open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e il file esiste gi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>
            <a:lum bright="-6000"/>
          </a:blip>
          <a:srcRect l="0" t="0" r="0" b="40448"/>
          <a:stretch/>
        </p:blipFill>
        <p:spPr>
          <a:xfrm>
            <a:off x="747720" y="3200400"/>
            <a:ext cx="7583400" cy="3483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0" t="6363" r="64004" b="43533"/>
          <a:stretch/>
        </p:blipFill>
        <p:spPr>
          <a:xfrm>
            <a:off x="777960" y="3711600"/>
            <a:ext cx="2743200" cy="2833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3465360" y="3965400"/>
            <a:ext cx="5092920" cy="26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09:39:38Z</dcterms:created>
  <dc:creator>enza</dc:creator>
  <dc:description/>
  <dc:language>en-US</dc:language>
  <cp:lastModifiedBy>Elisabetta Santi</cp:lastModifiedBy>
  <cp:lastPrinted>2003-10-01T09:13:22Z</cp:lastPrinted>
  <dcterms:modified xsi:type="dcterms:W3CDTF">2007-06-05T10:36:32Z</dcterms:modified>
  <cp:revision>250</cp:revision>
  <dc:subject/>
  <dc:title>Introduzione al MATLAB</dc:title>
</cp:coreProperties>
</file>