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5A28-DB1F-420E-A46E-024A6E98081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 x è una matrice le operazioni vengono fatte automaticamente su ogni elemento. 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=[1 2 3; 4 5 6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sqrt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.0000    1.4142    1.73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.0000    2.2361    2.44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 x è una matrice le operazioni vengono fatte automaticamente su ogni ele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=linspace(0,2*pi,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y=sin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nciare il programm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\analisi_numerica\didat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clo_for.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 volessi creare un file che interagisca con l’utente, e quindi sia parametrizz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 volessi creare un file che interagisca con l’utente, e quindi sia parametrizz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ccennare al formato  g : scegli il formato più breve tra i due formati %f  ed %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.10f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36» fprintf('%.10f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.10e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36e+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.10g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g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operatore % può essere utilizzato per creare dei commenti se inserito fuori da una strin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ccennare al formato  g : scegli il formato più breve tra i due formati %f  ed %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.10f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36» fprintf('%.10f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.10e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36e+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.10g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g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operatore % può essere utilizzato per creare dei commenti se inserito fuori da una strin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^(-5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.2204e-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C5F-F769-4267-A52A-0B65E2DA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660-F2B8-4F62-A970-74EB7AF9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0B2-5F3C-47A2-BC89-7FFDA587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8DB-D0F2-4120-94DD-639E6C4D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5B0-5D56-48F3-A25B-1DD3B2C4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2DD-4E34-4D6B-8249-166DB9D1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EA2-F308-4D62-A678-9166499B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9AE-7808-4BC3-BAA7-1E61D735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572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CB0-E9E5-47C4-B05B-1CF42279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F0F-BE59-43EF-9336-8F7C4CEA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76D-41F6-411F-B6CF-F32354AD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24B-B969-49F9-B15B-CB65215B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4F18-84AE-4BFB-8965-C7DB1294A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 lezione di laboratorio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07680" y="5503680"/>
            <a:ext cx="632484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2600" y="1787400"/>
            <a:ext cx="8153280" cy="3445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Laurea Ingegneria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Mecca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L.S. Modellistica Fisico-Matematica per l’Ingegn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1120" y="556884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.a. 2006-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6400" y="132840"/>
            <a:ext cx="846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er utilizzare i file function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ui PC del laboratori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03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Sul PC o sul floppy sono presenti le cartell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Sis_lin, Eq_non_lin, Approx, ecc. che 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non devono essere modificate per alcun motiv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piare perciò dalla cartella relativa al problema, la function che si vuole utilizzare nella directory di lavoro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:\Documents and Settings\studente\Document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cegliere, in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Current Directory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l Matlab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percorso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:\Documents and Settings\studente\Documenti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file che si sta creando nell’ editor e che talvolta contiene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ati per l’input della function che si vuole utilizzare, dovrà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ssere salvato nella directory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:\Documents and Settings\studente\Document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                    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Buon lavoro!!!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unzioni matematiche elementa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8760" y="1092240"/>
          <a:ext cx="5477040" cy="51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092240"/>
                    <a:ext cx="5477040" cy="5159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978520" y="1720800"/>
            <a:ext cx="2975040" cy="39344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» x=[-1.9 -0.2 3.4 5.6 7.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» round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-2     0     3     6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» fix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-1     0     3     5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» floor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-2    -1     3     5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» ceil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-1     0     4     6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unzioni trigonometric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3120" y="1488960"/>
            <a:ext cx="2975040" cy="344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» x=[0:0.2:1]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» y=sin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» [x 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0 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0.2000    0.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0.4000    0.38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0.6000    0.56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0.8000    0.71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1.0000    0.84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20" y="5448240"/>
            <a:ext cx="839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imes New Roman"/>
              </a:rPr>
              <a:t>L’angolo </a:t>
            </a:r>
            <a:r>
              <a:rPr b="1" i="1" lang="it-IT" sz="28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1" lang="it-IT" sz="2800" spc="-1" strike="noStrike">
                <a:solidFill>
                  <a:srgbClr val="003399"/>
                </a:solidFill>
                <a:latin typeface="Times New Roman"/>
              </a:rPr>
              <a:t> deve essere espresso in radianti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imes New Roman"/>
              </a:rPr>
              <a:t>Esistono anche funzioni trigonometriche che agisc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imes New Roman"/>
              </a:rPr>
              <a:t>su angoli misurati in gra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19040" y="812880"/>
          <a:ext cx="3824280" cy="46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812880"/>
                    <a:ext cx="3824280" cy="4674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Times New Roman"/>
              </a:rPr>
              <a:t>ciclo f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8120" y="3435480"/>
            <a:ext cx="68295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È simile a quello di  altri linguaggi di programm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Ripete le istruzioni molte vol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uò essere annid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6280" y="826920"/>
            <a:ext cx="6728040" cy="25812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003399"/>
                </a:solidFill>
                <a:latin typeface="Courier New"/>
              </a:rPr>
              <a:t>% ESEMP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N = 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I = 1: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8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J = 1: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(I,J) = 1/(I+J-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800" spc="-1" strike="noStrike">
                <a:solidFill>
                  <a:srgbClr val="3333ff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3333ff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71280" y="5943600"/>
            <a:ext cx="93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Osservazione: le istruzioni del ciclo su scritto consentono di costruire la matrice di Hilbert 4x4 che si può ottenere chiamando la functio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hilb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00880" y="334800"/>
            <a:ext cx="2554200" cy="1191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espr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480" y="1552680"/>
            <a:ext cx="8915400" cy="41173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format 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           1/2          1/3          1/4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/2          1/3          1/4          1/5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/3          1/4          1/5          1/6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/4          1/5          1/6          1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1: applicazione del </a:t>
            </a:r>
            <a:r>
              <a:rPr b="1" lang="it-IT" sz="4400" spc="-1" strike="noStrike">
                <a:solidFill>
                  <a:srgbClr val="ff3300"/>
                </a:solidFill>
                <a:latin typeface="Times New Roman"/>
              </a:rPr>
              <a:t>ciclo for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6440" y="14173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crivere un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file scrip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tale che, assegnate due matrici                           con n=3 e m=3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=[1:3; 4:6; 7:9], B=[5 -6 -9; 1 1 0; 24 1 0]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etermini la matrice C delle stesse dimensioni, che ha l’elemento C(i,j) pari a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(i,j)=A(i,j)+cos((i+j)*pi/(n+m))*B(i,j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N.B. Si salvi lo script col nome prov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006640" y="1932120"/>
                <a:ext cx="2274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r>
                      <m:t xml:space="preserve">B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ile </a:t>
            </a:r>
            <a:r>
              <a:rPr b="1" lang="it-IT" sz="4400" spc="-1" strike="noStrike">
                <a:solidFill>
                  <a:srgbClr val="ff3300"/>
                </a:solidFill>
                <a:latin typeface="Courier New"/>
              </a:rPr>
              <a:t>prova.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760" y="1552680"/>
            <a:ext cx="8776080" cy="3751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=[1:3; 4:6; 7:9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B=[5 -6 -9; 1 1 0; 24 1 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n,m]=size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i 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j=1: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(i,j)=A(i,j)+cos((i+j)*pi/(n+m))*B(i,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'Il risultato è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isp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file </a:t>
            </a:r>
            <a:r>
              <a:rPr b="1" lang="it-IT" sz="4400" spc="-1" strike="noStrike">
                <a:solidFill>
                  <a:srgbClr val="ff3300"/>
                </a:solidFill>
                <a:latin typeface="Courier New"/>
              </a:rPr>
              <a:t>prova.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298600"/>
            <a:ext cx="7162920" cy="265356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&gt;&gt;pr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l risultato 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3.5000    2.0000    7.5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4.0000    4.5000    6.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-5.0000    7.1340    9.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&gt;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2960" y="136080"/>
            <a:ext cx="73180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Operatori relazionali e log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078440" y="4381560"/>
          <a:ext cx="2584440" cy="188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440" y="4381560"/>
                    <a:ext cx="2584440" cy="1887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200960" y="505476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og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81480" y="798480"/>
          <a:ext cx="4601880" cy="3468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1480" y="798480"/>
                    <a:ext cx="4601880" cy="3468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715320" y="205884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Relazion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80" y="6237360"/>
            <a:ext cx="88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li operatori relazionali precedono nell’ordine gli operatori log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ciclo whi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840" y="1987560"/>
            <a:ext cx="3228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sente di ripetere le istruzioni sotto il controllo di una </a:t>
            </a:r>
            <a:r>
              <a:rPr b="1" lang="it-IT" sz="3200" spc="-1" strike="noStrike">
                <a:solidFill>
                  <a:srgbClr val="003399"/>
                </a:solidFill>
                <a:latin typeface="Times New Roman"/>
              </a:rPr>
              <a:t>condizione lo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1360" y="2043000"/>
            <a:ext cx="4841640" cy="364716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% 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=1; N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I &lt;=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J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J &lt;=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(I,J) =(I+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J=J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040" y="863640"/>
            <a:ext cx="3438720" cy="1191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whil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condizione_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35160" y="2833560"/>
            <a:ext cx="4572000" cy="2870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m-fi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640" y="1063800"/>
            <a:ext cx="825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ile di testo contenente codici MATLAB. Consente 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emorizzare ed organizzare istruzioni  e coman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TL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24360" y="35082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Times New Roman"/>
              </a:rPr>
              <a:t>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892680" y="3774600"/>
            <a:ext cx="655560" cy="5367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93760" y="4473360"/>
            <a:ext cx="775440" cy="3402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960" y="449280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99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7280" y="38797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Times New Roman"/>
              </a:rPr>
              <a:t>m-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06440" y="1484280"/>
            <a:ext cx="668988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2     3     4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3     4     5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4     5     6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5     6     7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705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struire con cicli while la matrice di Hilbert 4x4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2960" y="136080"/>
            <a:ext cx="73180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strutto </a:t>
            </a:r>
            <a:r>
              <a:rPr b="1" lang="it-IT" sz="4400" spc="-1" strike="noStrike">
                <a:solidFill>
                  <a:srgbClr val="660066"/>
                </a:solidFill>
                <a:latin typeface="Times New Roman"/>
              </a:rPr>
              <a:t>if - els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8680" y="1046160"/>
            <a:ext cx="395280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È una struttura condiz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e una condizione è verificata esegue le istruzioni associ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02320" y="2236680"/>
            <a:ext cx="4252680" cy="4483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condizione_logica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elseif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dizione_logica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elseif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dizione_logica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7360" y="4286160"/>
            <a:ext cx="494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N.B. La parola chiav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3399"/>
                </a:solidFill>
                <a:latin typeface="Times New Roman"/>
              </a:rPr>
              <a:t>elseif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nel  costrutto qui presentat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va scritta  senza spazio t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else’ e ‘if ‘.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38960" y="888840"/>
            <a:ext cx="346860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condizione_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2960" y="136080"/>
            <a:ext cx="73180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21200" y="928800"/>
            <a:ext cx="5011560" cy="43578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I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J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I ==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(I,J) = N^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lseif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I&lt;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(I,J)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(I,J)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79560"/>
            <a:ext cx="4030560" cy="55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Times New Roman"/>
              </a:rPr>
              <a:t>Questo script consente di costruire una matrice simmetrica che ha tut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Times New Roman"/>
              </a:rPr>
              <a:t>4 ^2 sulla diagonale principale, il vett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Times New Roman"/>
              </a:rPr>
              <a:t>[2 3 4] sulla prima codiagonale (inferiore e superiore), il vet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660066"/>
                </a:solidFill>
                <a:latin typeface="Times New Roman"/>
              </a:rPr>
              <a:t>[3 4] sulla seconda codiagonale (inferiore e superiore) e gli elementi A(1,4) e A(4,1) uguali a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68760" y="2081160"/>
            <a:ext cx="4332240" cy="2425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63680" y="808200"/>
            <a:ext cx="6689880" cy="30200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6     2     3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2    16     3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3     3    16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4     4     4  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800" y="3998880"/>
            <a:ext cx="91249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o studente verifichi che lo script precedente, per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enerico, costruisce una matrice simmetrica che ha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^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u ogni elemento della diagonale principale e il vett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v=k+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: N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sulla codiagonale k-esima (inferiore e superiore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,…,N-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ando  di </a:t>
            </a:r>
            <a:r>
              <a:rPr b="1" lang="it-IT" sz="4400" spc="-1" strike="noStrike">
                <a:solidFill>
                  <a:srgbClr val="660066"/>
                </a:solidFill>
                <a:latin typeface="Times New Roman"/>
              </a:rPr>
              <a:t>in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960" y="792000"/>
            <a:ext cx="887724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inserimento di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variabili numerich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da tastier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4280" y="2835360"/>
            <a:ext cx="6124320" cy="13136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z=input(' Introduci il valore di z 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roduci il valore di z 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z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55520" y="4361040"/>
            <a:ext cx="7953120" cy="1923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a=input(' Introduci la matrice a 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roduci la matrice a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[0 -1 0; 3:5; -2*ones(1,3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a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0    -1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3     4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-2    -2    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2400" y="1652760"/>
            <a:ext cx="902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intassi: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nome_var=input(st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str: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tringa che si vuole compaia sul prompt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ando  di </a:t>
            </a:r>
            <a:r>
              <a:rPr b="1" lang="it-IT" sz="4400" spc="-1" strike="noStrike">
                <a:solidFill>
                  <a:srgbClr val="660066"/>
                </a:solidFill>
                <a:latin typeface="Times New Roman"/>
              </a:rPr>
              <a:t>in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4160" y="1025280"/>
            <a:ext cx="8889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0066"/>
                </a:solidFill>
                <a:latin typeface="Courier New"/>
              </a:rPr>
              <a:t>input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:  inserimento di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tringhe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da tastie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5120" y="3530520"/>
            <a:ext cx="8705880" cy="3020040"/>
          </a:xfrm>
          <a:prstGeom prst="rect">
            <a:avLst/>
          </a:prstGeom>
          <a:solidFill>
            <a:srgbClr val="ffe1e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flag=input('Vuoi continuare? 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uoi continuare?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'Si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flag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flag=input('Vuoi continuare?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s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uoi continuare?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flag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6320" y="1730520"/>
            <a:ext cx="773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intassi: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var_str=input(str)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pp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var_str=input(str,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it-IT" sz="3200" spc="-1" strike="noStrike">
                <a:solidFill>
                  <a:srgbClr val="ff0000"/>
                </a:solidFill>
                <a:latin typeface="Courier New"/>
              </a:rPr>
              <a:t>s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str: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tringa che compare sul prom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57880" y="5037120"/>
            <a:ext cx="811080" cy="40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130160" y="5025960"/>
            <a:ext cx="687600" cy="17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425480" y="4108320"/>
            <a:ext cx="63972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335120" y="5632560"/>
            <a:ext cx="63972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andi di </a:t>
            </a:r>
            <a:r>
              <a:rPr b="1" lang="it-IT" sz="4400" spc="-1" strike="noStrike">
                <a:solidFill>
                  <a:srgbClr val="006699"/>
                </a:solidFill>
                <a:latin typeface="Times New Roman"/>
              </a:rPr>
              <a:t>out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5240" y="875880"/>
            <a:ext cx="881352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urier New"/>
              </a:rPr>
              <a:t>disp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consente di stampare linee di testo e  valori di variabili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605040"/>
            <a:ext cx="6108840" cy="825480"/>
          </a:xfrm>
          <a:prstGeom prst="rect">
            <a:avLst/>
          </a:prstGeom>
          <a:solidFill>
            <a:srgbClr val="ffe1e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disp('valore della funzione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alore della funzio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4480" y="4541760"/>
            <a:ext cx="6765840" cy="2287800"/>
            <a:chOff x="114480" y="4541760"/>
            <a:chExt cx="6765840" cy="2287800"/>
          </a:xfrm>
        </p:grpSpPr>
        <p:sp>
          <p:nvSpPr>
            <p:cNvPr id="185" name=""/>
            <p:cNvSpPr/>
            <p:nvPr/>
          </p:nvSpPr>
          <p:spPr>
            <a:xfrm>
              <a:off x="114480" y="4541760"/>
              <a:ext cx="2895480" cy="228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Courier New"/>
                </a:rPr>
                <a:t>num2str(x)</a:t>
              </a: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 converte lo scalare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 in una stringa di caratter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56040" y="5021280"/>
              <a:ext cx="3824280" cy="331560"/>
            </a:xfrm>
            <a:custGeom>
              <a:avLst/>
              <a:gdLst/>
              <a:ahLst/>
              <a:rect l="l" t="t" r="r" b="b"/>
              <a:pathLst>
                <a:path w="2409" h="209">
                  <a:moveTo>
                    <a:pt x="0" y="0"/>
                  </a:moveTo>
                  <a:cubicBezTo>
                    <a:pt x="253" y="9"/>
                    <a:pt x="506" y="18"/>
                    <a:pt x="836" y="36"/>
                  </a:cubicBezTo>
                  <a:cubicBezTo>
                    <a:pt x="1166" y="54"/>
                    <a:pt x="1719" y="80"/>
                    <a:pt x="1981" y="109"/>
                  </a:cubicBezTo>
                  <a:cubicBezTo>
                    <a:pt x="2243" y="138"/>
                    <a:pt x="2339" y="194"/>
                    <a:pt x="2409" y="209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404040" y="3713040"/>
            <a:ext cx="2357280" cy="119124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x=sqrt(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disp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.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93880" y="5570640"/>
            <a:ext cx="6311880" cy="703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disp(['Il valore di x è ',num2str(x)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l valore di x è 1.4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5960" y="1736640"/>
            <a:ext cx="844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intassi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disp(str)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stringa o nome di una variabile numerica che si vuole far comparire sul prom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andi di </a:t>
            </a:r>
            <a:r>
              <a:rPr b="1" lang="it-IT" sz="4400" spc="-1" strike="noStrike">
                <a:solidFill>
                  <a:srgbClr val="cc3300"/>
                </a:solidFill>
                <a:latin typeface="Times New Roman"/>
              </a:rPr>
              <a:t>out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38360"/>
            <a:ext cx="88977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printf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consente di stampare linee di testo, valori numerici e matrici (tabelle) specificandone il format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60" y="1522440"/>
            <a:ext cx="89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intassi: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formato \n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, tab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i="1" lang="it-IT" sz="3200" spc="-1" strike="noStrike">
                <a:solidFill>
                  <a:srgbClr val="ff3399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344680"/>
            <a:ext cx="9144000" cy="3993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urier New"/>
              </a:rPr>
              <a:t>format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è una stringa  contenente i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mati scelti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con la specifica  </a:t>
            </a:r>
            <a:r>
              <a:rPr b="1" lang="it-IT" sz="3200" spc="-1" strike="noStrike">
                <a:solidFill>
                  <a:srgbClr val="ff0000"/>
                </a:solidFill>
                <a:latin typeface="Courier New"/>
              </a:rPr>
              <a:t>f oppure e,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er i formati virgola fissa o virgola mobile con la rego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99"/>
                </a:solidFill>
                <a:latin typeface="Times New Roman"/>
              </a:rPr>
              <a:t>%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campo_totale</a:t>
            </a:r>
            <a:r>
              <a:rPr b="1" lang="it-IT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it-IT" sz="3200" spc="-1" strike="noStrike">
                <a:solidFill>
                  <a:srgbClr val="660066"/>
                </a:solidFill>
                <a:latin typeface="Times New Roman"/>
              </a:rPr>
              <a:t>num_cifre_decimali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tipo_form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formati devono essere in numero pari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alle colonne della matric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ab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99"/>
                </a:solidFill>
                <a:latin typeface="Times New Roman"/>
              </a:rPr>
              <a:t>%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campo</a:t>
            </a:r>
            <a:r>
              <a:rPr b="1" lang="it-IT" sz="32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è la scrittura per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it-IT" sz="3200" spc="-1" strike="noStrike">
                <a:solidFill>
                  <a:srgbClr val="006600"/>
                </a:solidFill>
                <a:latin typeface="Times New Roman"/>
              </a:rPr>
              <a:t>numeri</a:t>
            </a:r>
            <a:r>
              <a:rPr b="1" lang="it-IT" sz="3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006600"/>
                </a:solidFill>
                <a:latin typeface="Times New Roman"/>
              </a:rPr>
              <a:t>int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urier New"/>
              </a:rPr>
              <a:t>\n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erve  per andare a ca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85840" y="351000"/>
            <a:ext cx="8631000" cy="100872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temp=3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fprintf('La temperatura è di %4.1f gradi C°\n',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a temperatura è di 31.0 gradi C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1360" y="1432080"/>
            <a:ext cx="8744040" cy="2844720"/>
            <a:chOff x="171360" y="1432080"/>
            <a:chExt cx="8744040" cy="2844720"/>
          </a:xfrm>
        </p:grpSpPr>
        <p:sp>
          <p:nvSpPr>
            <p:cNvPr id="196" name=""/>
            <p:cNvSpPr/>
            <p:nvPr/>
          </p:nvSpPr>
          <p:spPr>
            <a:xfrm>
              <a:off x="3276720" y="2543040"/>
              <a:ext cx="5638680" cy="825480"/>
            </a:xfrm>
            <a:prstGeom prst="rect">
              <a:avLst/>
            </a:prstGeom>
            <a:solidFill>
              <a:srgbClr val="ffe1e1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» fprintf(' %f\n',p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3.14159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71360" y="1432080"/>
              <a:ext cx="4354560" cy="2844720"/>
              <a:chOff x="171360" y="1432080"/>
              <a:chExt cx="4354560" cy="2844720"/>
            </a:xfrm>
          </p:grpSpPr>
          <p:sp>
            <p:nvSpPr>
              <p:cNvPr id="198" name=""/>
              <p:cNvSpPr/>
              <p:nvPr/>
            </p:nvSpPr>
            <p:spPr>
              <a:xfrm>
                <a:off x="171360" y="1432080"/>
                <a:ext cx="2465280" cy="2844720"/>
              </a:xfrm>
              <a:prstGeom prst="rect">
                <a:avLst/>
              </a:prstGeom>
              <a:solidFill>
                <a:srgbClr val="ffe1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3333cc"/>
                    </a:solidFill>
                    <a:latin typeface="Courier New"/>
                  </a:rPr>
                  <a:t>%f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 consente la stampa dei numeri in fixed point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ff0000"/>
                    </a:solidFill>
                    <a:latin typeface="Courier New"/>
                  </a:rPr>
                  <a:t>%e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 consente la stampa in floating poi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649240" y="2282760"/>
                <a:ext cx="1876680" cy="331200"/>
              </a:xfrm>
              <a:custGeom>
                <a:avLst/>
                <a:gdLst/>
                <a:ahLst/>
                <a:rect l="l" t="t" r="r" b="b"/>
                <a:pathLst>
                  <a:path w="1182" h="209">
                    <a:moveTo>
                      <a:pt x="0" y="0"/>
                    </a:moveTo>
                    <a:cubicBezTo>
                      <a:pt x="369" y="14"/>
                      <a:pt x="739" y="29"/>
                      <a:pt x="936" y="64"/>
                    </a:cubicBezTo>
                    <a:cubicBezTo>
                      <a:pt x="1133" y="99"/>
                      <a:pt x="1157" y="154"/>
                      <a:pt x="1182" y="209"/>
                    </a:cubicBezTo>
                  </a:path>
                </a:pathLst>
              </a:custGeom>
              <a:solidFill>
                <a:srgbClr val="ffe1e1"/>
              </a:solidFill>
              <a:ln w="38160">
                <a:solidFill>
                  <a:srgbClr val="808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123840" y="4332240"/>
            <a:ext cx="8688240" cy="2445840"/>
            <a:chOff x="123840" y="4332240"/>
            <a:chExt cx="8688240" cy="2445840"/>
          </a:xfrm>
        </p:grpSpPr>
        <p:sp>
          <p:nvSpPr>
            <p:cNvPr id="201" name=""/>
            <p:cNvSpPr/>
            <p:nvPr/>
          </p:nvSpPr>
          <p:spPr>
            <a:xfrm>
              <a:off x="3173400" y="4414680"/>
              <a:ext cx="5638680" cy="1557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» fprintf(’ %13.10f\n ',p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3.14159265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» fprintf(’ %18.10e\n ',p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3.1415926536e+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23840" y="4332240"/>
              <a:ext cx="4424400" cy="2445840"/>
              <a:chOff x="123840" y="4332240"/>
              <a:chExt cx="4424400" cy="2445840"/>
            </a:xfrm>
          </p:grpSpPr>
          <p:sp>
            <p:nvSpPr>
              <p:cNvPr id="203" name=""/>
              <p:cNvSpPr/>
              <p:nvPr/>
            </p:nvSpPr>
            <p:spPr>
              <a:xfrm>
                <a:off x="123840" y="4549680"/>
                <a:ext cx="2663640" cy="222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Nei formati </a:t>
                </a:r>
                <a:r>
                  <a:rPr b="1" lang="it-IT" sz="2000" spc="-1" strike="noStrike">
                    <a:solidFill>
                      <a:srgbClr val="ff0000"/>
                    </a:solidFill>
                    <a:latin typeface="Courier New"/>
                  </a:rPr>
                  <a:t>f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ed </a:t>
                </a:r>
                <a:r>
                  <a:rPr b="1" lang="it-IT" sz="2000" spc="-1" strike="noStrike">
                    <a:solidFill>
                      <a:srgbClr val="ff0000"/>
                    </a:solidFill>
                    <a:latin typeface="Courier New"/>
                  </a:rPr>
                  <a:t>e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il </a:t>
                </a:r>
                <a:r>
                  <a:rPr b="1" lang="it-IT" sz="2000" spc="-1" strike="noStrike">
                    <a:solidFill>
                      <a:srgbClr val="cc3300"/>
                    </a:solidFill>
                    <a:latin typeface="Times New Roman"/>
                  </a:rPr>
                  <a:t>numero alla sinistra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it-IT" sz="2000" spc="-1" strike="noStrike">
                    <a:solidFill>
                      <a:srgbClr val="cc3300"/>
                    </a:solidFill>
                    <a:latin typeface="Times New Roman"/>
                  </a:rPr>
                  <a:t>del punto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è il </a:t>
                </a:r>
                <a:r>
                  <a:rPr b="1" lang="it-IT" sz="2000" spc="-1" strike="noStrike">
                    <a:solidFill>
                      <a:srgbClr val="333399"/>
                    </a:solidFill>
                    <a:latin typeface="Times New Roman"/>
                  </a:rPr>
                  <a:t>campo totale, </a:t>
                </a:r>
                <a:r>
                  <a:rPr b="1" lang="it-IT" sz="2000" spc="-1" strike="noStrike">
                    <a:solidFill>
                      <a:srgbClr val="ff33cc"/>
                    </a:solidFill>
                    <a:latin typeface="Times New Roman"/>
                  </a:rPr>
                  <a:t>quello alla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it-IT" sz="2000" spc="-1" strike="noStrike">
                    <a:solidFill>
                      <a:srgbClr val="ff33cc"/>
                    </a:solidFill>
                    <a:latin typeface="Times New Roman"/>
                  </a:rPr>
                  <a:t>destra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it-IT" sz="2000" spc="-1" strike="noStrike">
                    <a:solidFill>
                      <a:srgbClr val="333399"/>
                    </a:solidFill>
                    <a:latin typeface="Times New Roman"/>
                  </a:rPr>
                  <a:t>indica  quante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it-IT" sz="2000" spc="-1" strike="noStrike">
                    <a:solidFill>
                      <a:srgbClr val="333399"/>
                    </a:solidFill>
                    <a:latin typeface="Times New Roman"/>
                  </a:rPr>
                  <a:t>cifre decimali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devono essere stamp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33320" y="4332240"/>
                <a:ext cx="2914920" cy="201600"/>
              </a:xfrm>
              <a:custGeom>
                <a:avLst/>
                <a:gdLst/>
                <a:ahLst/>
                <a:rect l="l" t="t" r="r" b="b"/>
                <a:pathLst>
                  <a:path w="1836" h="127">
                    <a:moveTo>
                      <a:pt x="0" y="127"/>
                    </a:moveTo>
                    <a:cubicBezTo>
                      <a:pt x="283" y="63"/>
                      <a:pt x="566" y="0"/>
                      <a:pt x="872" y="0"/>
                    </a:cubicBezTo>
                    <a:cubicBezTo>
                      <a:pt x="1178" y="0"/>
                      <a:pt x="1507" y="63"/>
                      <a:pt x="1836" y="127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e visualizzare una tabel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2760" y="1038240"/>
            <a:ext cx="797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Quesito: Perché è stato scritto </a:t>
            </a:r>
            <a:r>
              <a:rPr b="1" lang="it-IT" sz="3200" spc="-1" strike="noStrike">
                <a:solidFill>
                  <a:srgbClr val="3333cc"/>
                </a:solidFill>
                <a:latin typeface="Courier New"/>
              </a:rPr>
              <a:t>tab'?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Risposta: Per stampare nel formato scelto, la matric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ab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, che è stata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struita per colonn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, così come si visualizza sul Command  quando si digita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ab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.B. Se la matric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ab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fosse stata </a:t>
            </a:r>
            <a:r>
              <a:rPr b="1" lang="it-IT" sz="3200" spc="-1" strike="noStrike" u="sng">
                <a:solidFill>
                  <a:srgbClr val="3333cc"/>
                </a:solidFill>
                <a:uFillTx/>
                <a:latin typeface="Times New Roman"/>
              </a:rPr>
              <a:t>costruita per righe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fprintf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arebbe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astato porre semplicement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ta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84720" y="1065240"/>
            <a:ext cx="1513080" cy="49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3480" y="4738680"/>
            <a:ext cx="1513080" cy="492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m-file </a:t>
            </a:r>
            <a:r>
              <a:rPr b="1" lang="it-IT" sz="4800" spc="-1" strike="noStrike">
                <a:solidFill>
                  <a:srgbClr val="006600"/>
                </a:solidFill>
                <a:latin typeface="Times New Roman"/>
              </a:rPr>
              <a:t>scrip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41440"/>
            <a:ext cx="414504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tandard ASCII file di t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segue una serie di comandi MATLAB sul workspac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64120" y="4778280"/>
            <a:ext cx="4908600" cy="1907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carattere “ 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%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“ è usato  p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crivere commenti all’interno di M-f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finire il formato di sta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1320" y="409680"/>
            <a:ext cx="4834080" cy="4057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eps1.m - m-file 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calcolare la precisione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macchina</a:t>
            </a: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um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PS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while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1+EPS)&gt;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PS=EPS/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um=num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b(num,:)=[num EP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000" spc="-1" strike="noStrike">
                <a:solidFill>
                  <a:srgbClr val="b22222"/>
                </a:solidFill>
                <a:latin typeface="Courier New"/>
              </a:rPr>
              <a:t>'%3d %30.16e\n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,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b(num,: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PS=tab(end-1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1000" y="4621320"/>
            <a:ext cx="36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N.B.  Lo script non  accetta argomenti di input e di 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03240"/>
            <a:ext cx="9144000" cy="55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alcolare la funzione </a:t>
            </a:r>
            <a:r>
              <a:rPr b="1" i="1" lang="it-IT" sz="3200" spc="-1" strike="noStrike">
                <a:solidFill>
                  <a:srgbClr val="ff33cc"/>
                </a:solidFill>
                <a:latin typeface="Times New Roman"/>
              </a:rPr>
              <a:t>f </a:t>
            </a:r>
            <a:r>
              <a:rPr b="1" lang="it-IT" sz="3200" spc="-1" strike="noStrike">
                <a:solidFill>
                  <a:srgbClr val="ff33cc"/>
                </a:solidFill>
                <a:latin typeface="Times New Roman"/>
              </a:rPr>
              <a:t>= e</a:t>
            </a:r>
            <a:r>
              <a:rPr b="1" lang="it-IT" sz="3200" spc="-1" strike="noStrike" baseline="30000">
                <a:solidFill>
                  <a:srgbClr val="ff33cc"/>
                </a:solidFill>
                <a:latin typeface="Times New Roman"/>
              </a:rPr>
              <a:t>-</a:t>
            </a:r>
            <a:r>
              <a:rPr b="1" i="1" lang="it-IT" sz="3200" spc="-1" strike="noStrike" baseline="30000">
                <a:solidFill>
                  <a:srgbClr val="ff33cc"/>
                </a:solidFill>
                <a:latin typeface="Times New Roman"/>
              </a:rPr>
              <a:t>x</a:t>
            </a:r>
            <a:r>
              <a:rPr b="1" lang="it-IT" sz="3200" spc="-1" strike="noStrike">
                <a:solidFill>
                  <a:srgbClr val="ff33cc"/>
                </a:solidFill>
                <a:latin typeface="Times New Roman"/>
              </a:rPr>
              <a:t>sin(</a:t>
            </a:r>
            <a:r>
              <a:rPr b="1" i="1" lang="it-IT" sz="3200" spc="-1" strike="noStrike">
                <a:solidFill>
                  <a:srgbClr val="ff33cc"/>
                </a:solidFill>
                <a:latin typeface="Times New Roman"/>
              </a:rPr>
              <a:t>x</a:t>
            </a:r>
            <a:r>
              <a:rPr b="1" lang="it-IT" sz="3200" spc="-1" strike="noStrike">
                <a:solidFill>
                  <a:srgbClr val="ff33cc"/>
                </a:solidFill>
                <a:latin typeface="Times New Roman"/>
              </a:rPr>
              <a:t>)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nei punti appartenenti all’intervallo [0,1] equispaziati con passo  0.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struire una tabella contenente i valori di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e di 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e stamparla utilizzando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3 cifre decimali in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formato virgola fiss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per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8 cifre decimali in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virgola fiss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per 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.B. Si memorizzi il file col nom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funzi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2840" y="3228840"/>
            <a:ext cx="4645080" cy="1464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Numero di formati pari alle </a:t>
            </a:r>
            <a:r>
              <a:rPr b="1" lang="it-IT" sz="3000" spc="-1" strike="noStrike">
                <a:solidFill>
                  <a:srgbClr val="3333cc"/>
                </a:solidFill>
                <a:latin typeface="Times New Roman"/>
              </a:rPr>
              <a:t>righe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 della matrice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</a:rPr>
              <a:t>tab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ile </a:t>
            </a:r>
            <a:r>
              <a:rPr b="1" lang="it-IT" sz="4400" spc="-1" strike="noStrike">
                <a:solidFill>
                  <a:srgbClr val="000000"/>
                </a:solidFill>
                <a:latin typeface="Courier New"/>
              </a:rPr>
              <a:t>funzione.m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e risulta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74720" y="849240"/>
            <a:ext cx="7647120" cy="26535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x=[0:.2:1]; </a:t>
            </a:r>
            <a:r>
              <a:rPr b="1" lang="it-IT" sz="2800" spc="-1" strike="noStrike">
                <a:solidFill>
                  <a:srgbClr val="006600"/>
                </a:solidFill>
                <a:latin typeface="Courier New"/>
              </a:rPr>
              <a:t>% vettore r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=exp(-x).*sin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tab=[x; f];</a:t>
            </a: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%tab costruita per rig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printf(' x         f\n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printf('%6.3f %12.8f\n',t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982880" y="3692520"/>
            <a:ext cx="7118280" cy="3080160"/>
            <a:chOff x="1982880" y="3692520"/>
            <a:chExt cx="7118280" cy="3080160"/>
          </a:xfrm>
        </p:grpSpPr>
        <p:sp>
          <p:nvSpPr>
            <p:cNvPr id="215" name=""/>
            <p:cNvSpPr/>
            <p:nvPr/>
          </p:nvSpPr>
          <p:spPr>
            <a:xfrm>
              <a:off x="4422960" y="3692520"/>
              <a:ext cx="4678200" cy="308016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x        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0.000   0.00000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0.200   0.1626566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0.400   0.261034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0.600   0.309882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0.800   0.3223288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1.000   0.3095598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82880" y="4994280"/>
              <a:ext cx="21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</a:rPr>
                <a:t>Risultati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 flipH="1">
            <a:off x="6707880" y="1850040"/>
            <a:ext cx="514080" cy="673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981960" y="2925000"/>
            <a:ext cx="108000" cy="840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6239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struire una stringa che mostri il valore di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 6 cifre decimali; utilizzare poi un comando di output per farlo stampare sul promp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reare la stringa di input che consente di assegnare alla variabile A una matrice generic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reare la stringa di input che consente di assegnare alla variabile f  la string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4ln(x)-7e</a:t>
            </a:r>
            <a:r>
              <a:rPr b="1" lang="it-IT" sz="2800" spc="-1" strike="noStrike" baseline="30000">
                <a:solidFill>
                  <a:srgbClr val="ff0000"/>
                </a:solidFill>
                <a:latin typeface="Times New Roman"/>
              </a:rPr>
              <a:t>-x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951680" y="1555920"/>
          <a:ext cx="633600" cy="58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1680" y="1555920"/>
                    <a:ext cx="633600" cy="58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oluzioni esercizio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74880"/>
            <a:ext cx="9144000" cy="5580360"/>
          </a:xfrm>
          <a:prstGeom prst="rect">
            <a:avLst/>
          </a:prstGeom>
          <a:solidFill>
            <a:srgbClr val="ffe1e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str=[‘Il valore di pi greco è ‘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um2str(pi,7)];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il secondo numero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parentesi rappresenta il numero massimo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cifre significative con cui si vu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rappresentare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disp(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l valore di pi greco è 3.1415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2. » A=input('inserisci la matrice A = 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nserisci la matrice A = -3*ones(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3. » f=input('inserisci la funzione 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nserisci la funzion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4*log(x)-7*exp(-x)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4*log(x)-7*exp(-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760" y="84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alvare e richiamare un m-script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5800" y="3322440"/>
            <a:ext cx="837720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Richiamare:  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i richiama digitando solo il nome con cui è stato memorizzato il fil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eps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N.B. </a:t>
            </a:r>
            <a:r>
              <a:rPr b="1" lang="it-IT" sz="3200" spc="-1" strike="noStrike">
                <a:solidFill>
                  <a:srgbClr val="3333cc"/>
                </a:solidFill>
                <a:latin typeface="Courier New"/>
              </a:rPr>
              <a:t>Lo </a:t>
            </a:r>
            <a:r>
              <a:rPr b="1" lang="it-IT" sz="3200" spc="-1" strike="noStrike">
                <a:solidFill>
                  <a:srgbClr val="ff0000"/>
                </a:solidFill>
                <a:latin typeface="Courier New"/>
              </a:rPr>
              <a:t>script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opera sul Workspace base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41400" y="917640"/>
            <a:ext cx="91440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alvare un m-scri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opo avere digitato le istruzioni nella finestra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ell’editor di testo, si salva  selezionando sulla barra la voce 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fil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e scegliendo nel menu :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Save as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. Assegnare un nome: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eps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760" y="2095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Risultati del file eps1.m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240" y="1547640"/>
            <a:ext cx="5400720" cy="4057920"/>
          </a:xfrm>
          <a:prstGeom prst="rect">
            <a:avLst/>
          </a:prstGeom>
          <a:solidFill>
            <a:srgbClr val="ffe1e1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eps1.m - m-file 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calcolare la precisione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macchin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um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PS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while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1+EPS)&gt;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PS=EPS/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um=num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b(num,:)=[num EP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000" spc="-1" strike="noStrike">
                <a:solidFill>
                  <a:srgbClr val="b22222"/>
                </a:solidFill>
                <a:latin typeface="Courier New"/>
              </a:rPr>
              <a:t>'%3d %30.16e \n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,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b(num,: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PS=tab(end-1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1840" y="1187280"/>
            <a:ext cx="4575240" cy="25333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» ep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1        5.0000000000000000e-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        2.5000000000000000e-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3        1.2500000000000000e-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52        2.2204460492503131e-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53        1.1102230246251565e-01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640" y="5805360"/>
            <a:ext cx="48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variabile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EPS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è stata scelta con lett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iuscole per differenziarla dalla varia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eps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del Matlab .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12694" r="65041" b="57947"/>
          <a:stretch/>
        </p:blipFill>
        <p:spPr>
          <a:xfrm>
            <a:off x="5665680" y="4586400"/>
            <a:ext cx="340992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m-file </a:t>
            </a:r>
            <a:r>
              <a:rPr b="1" lang="it-IT" sz="4800" spc="-1" strike="noStrike">
                <a:solidFill>
                  <a:srgbClr val="ff3300"/>
                </a:solidFill>
                <a:latin typeface="Times New Roman"/>
              </a:rPr>
              <a:t>functio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62200" y="1979640"/>
            <a:ext cx="72165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 = fatt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%fatt calcola il fattoriale di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&gt;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=1: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=s*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60" y="2505240"/>
            <a:ext cx="2002680" cy="947160"/>
            <a:chOff x="2160" y="2505240"/>
            <a:chExt cx="2002680" cy="947160"/>
          </a:xfrm>
        </p:grpSpPr>
        <p:sp>
          <p:nvSpPr>
            <p:cNvPr id="77" name=""/>
            <p:cNvSpPr/>
            <p:nvPr/>
          </p:nvSpPr>
          <p:spPr>
            <a:xfrm>
              <a:off x="2160" y="2505240"/>
              <a:ext cx="1384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it-IT" sz="2800" spc="-1" strike="noStrike">
                  <a:solidFill>
                    <a:srgbClr val="3333cc"/>
                  </a:solidFill>
                  <a:latin typeface="Times New Roman"/>
                </a:rPr>
                <a:t>Help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it-IT" sz="2800" spc="-1" strike="noStrike">
                  <a:solidFill>
                    <a:srgbClr val="3333cc"/>
                  </a:solidFill>
                  <a:latin typeface="Times New Roman"/>
                </a:rPr>
                <a:t>Online</a:t>
              </a: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64280" y="2924280"/>
              <a:ext cx="290880" cy="2858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671840" y="2510640"/>
              <a:ext cx="333000" cy="2750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7600" y="3642480"/>
            <a:ext cx="1728720" cy="1881000"/>
            <a:chOff x="57600" y="3642480"/>
            <a:chExt cx="1728720" cy="1881000"/>
          </a:xfrm>
        </p:grpSpPr>
        <p:sp>
          <p:nvSpPr>
            <p:cNvPr id="81" name=""/>
            <p:cNvSpPr/>
            <p:nvPr/>
          </p:nvSpPr>
          <p:spPr>
            <a:xfrm>
              <a:off x="57600" y="3970440"/>
              <a:ext cx="146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3300"/>
                  </a:solidFill>
                  <a:latin typeface="Times New Roman"/>
                </a:rPr>
                <a:t>Codice</a:t>
              </a:r>
              <a:r>
                <a:rPr b="1" lang="it-IT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80880" y="4419000"/>
              <a:ext cx="452880" cy="11044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364760" y="3642480"/>
              <a:ext cx="421560" cy="5965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062360" y="952560"/>
            <a:ext cx="3844440" cy="1428480"/>
            <a:chOff x="1062360" y="952560"/>
            <a:chExt cx="3844440" cy="1428480"/>
          </a:xfrm>
        </p:grpSpPr>
        <p:sp>
          <p:nvSpPr>
            <p:cNvPr id="85" name=""/>
            <p:cNvSpPr/>
            <p:nvPr/>
          </p:nvSpPr>
          <p:spPr>
            <a:xfrm>
              <a:off x="1062360" y="952560"/>
              <a:ext cx="384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Argomento di outpu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57280" y="1447560"/>
              <a:ext cx="1047960" cy="5716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86160" y="2076480"/>
              <a:ext cx="304560" cy="30456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233960" y="838080"/>
            <a:ext cx="4418280" cy="1542960"/>
            <a:chOff x="4233960" y="838080"/>
            <a:chExt cx="4418280" cy="1542960"/>
          </a:xfrm>
        </p:grpSpPr>
        <p:sp>
          <p:nvSpPr>
            <p:cNvPr id="89" name=""/>
            <p:cNvSpPr/>
            <p:nvPr/>
          </p:nvSpPr>
          <p:spPr>
            <a:xfrm>
              <a:off x="4920480" y="838080"/>
              <a:ext cx="373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Nome della funzi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501800" y="1256040"/>
              <a:ext cx="567720" cy="8024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33960" y="2019240"/>
              <a:ext cx="590400" cy="36180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00760" y="1544760"/>
            <a:ext cx="3820680" cy="815400"/>
            <a:chOff x="5000760" y="1544760"/>
            <a:chExt cx="3820680" cy="815400"/>
          </a:xfrm>
        </p:grpSpPr>
        <p:sp>
          <p:nvSpPr>
            <p:cNvPr id="93" name=""/>
            <p:cNvSpPr/>
            <p:nvPr/>
          </p:nvSpPr>
          <p:spPr>
            <a:xfrm>
              <a:off x="5848920" y="1544760"/>
              <a:ext cx="297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Argom. di inpu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215680" y="1926360"/>
              <a:ext cx="722880" cy="1558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0760" y="2082600"/>
              <a:ext cx="338400" cy="27756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44360" y="4430880"/>
            <a:ext cx="8837640" cy="1992240"/>
            <a:chOff x="144360" y="4430880"/>
            <a:chExt cx="8837640" cy="1992240"/>
          </a:xfrm>
        </p:grpSpPr>
        <p:sp>
          <p:nvSpPr>
            <p:cNvPr id="97" name=""/>
            <p:cNvSpPr/>
            <p:nvPr/>
          </p:nvSpPr>
          <p:spPr>
            <a:xfrm>
              <a:off x="144360" y="5948280"/>
              <a:ext cx="8837640" cy="4748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500" spc="-1" strike="noStrike">
                  <a:solidFill>
                    <a:srgbClr val="0000ff"/>
                  </a:solidFill>
                  <a:latin typeface="Courier New"/>
                </a:rPr>
                <a:t>function </a:t>
              </a:r>
              <a:r>
                <a:rPr b="1" lang="it-IT" sz="2500" spc="-1" strike="noStrike">
                  <a:solidFill>
                    <a:srgbClr val="000000"/>
                  </a:solidFill>
                  <a:latin typeface="Courier New"/>
                </a:rPr>
                <a:t>[out1,out2,out3] = nome_fun(in1,in2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18240" y="4430880"/>
              <a:ext cx="2033640" cy="15562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it-IT" sz="3200" spc="-1" strike="noStrike">
                  <a:solidFill>
                    <a:srgbClr val="33ccff"/>
                  </a:solidFill>
                  <a:latin typeface="Times New Roman"/>
                </a:rPr>
                <a:t> </a:t>
              </a: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Caso  </a:t>
              </a:r>
              <a:r>
                <a:rPr b="1" lang="it-IT" sz="3200" spc="-1" strike="noStrike">
                  <a:solidFill>
                    <a:srgbClr val="33ccff"/>
                  </a:solidFill>
                  <a:latin typeface="Times New Roman"/>
                </a:rPr>
                <a:t> </a:t>
              </a: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           genera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387760" y="5072400"/>
              <a:ext cx="1252440" cy="7909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98480" y="1932120"/>
            <a:ext cx="1946160" cy="520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00640" y="2747880"/>
            <a:ext cx="1946160" cy="638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14200" y="1461960"/>
            <a:ext cx="875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Si salva in modo analogo ad un m-script:  nome_fu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Si richiama digitando un’uguaglianza del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tipo: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[out1,out2,out3] = nome_fun(in1,in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ut1,out2,out3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sono i parametri in uscita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1,in2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sono i parametri in inpu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alore=fatt(5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N.B.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La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fun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accetta argomenti di input e di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opera su un’area di memoria distinta dal Workspace base (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variabili locali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6676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Salvare e Richiamare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una m-</a:t>
            </a:r>
            <a:r>
              <a:rPr b="1" lang="it-IT" sz="4800" spc="-1" strike="noStrike">
                <a:solidFill>
                  <a:srgbClr val="ff3300"/>
                </a:solidFill>
                <a:latin typeface="Times New Roman"/>
              </a:rPr>
              <a:t>functio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6280" y="1338120"/>
            <a:ext cx="4575240" cy="3753000"/>
          </a:xfrm>
          <a:prstGeom prst="rect">
            <a:avLst/>
          </a:prstGeom>
          <a:solidFill>
            <a:srgbClr val="ffe1e1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 = fatt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fatt calcola il fattoriale del numero c usando la defini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&gt;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=1: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=s*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760" y="-1080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Risultati della function fatt.m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809640"/>
            <a:ext cx="4292640" cy="161856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numero =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valore=fatt(num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valor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120" y="5413320"/>
            <a:ext cx="387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Osservaz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Esiste inoltr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unction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factori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 Matla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he restituisce il fattoriale di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umero (si faccia l’hel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12694" r="71176" b="66865"/>
          <a:stretch/>
        </p:blipFill>
        <p:spPr>
          <a:xfrm>
            <a:off x="5256360" y="2263680"/>
            <a:ext cx="3606480" cy="19195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921120" y="4362480"/>
            <a:ext cx="5118480" cy="2014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Usando la function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prod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 del Matlab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si può anche calcolare il fattor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di un nume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» valore=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pro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(1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valor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85680"/>
            <a:ext cx="8877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Un secondo esempio di file fun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6280" y="1123920"/>
            <a:ext cx="4575240" cy="4057920"/>
          </a:xfrm>
          <a:prstGeom prst="rect">
            <a:avLst/>
          </a:prstGeom>
          <a:solidFill>
            <a:srgbClr val="ffe1e1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 = media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MEDIA calcola la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aritmetica di  n num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memorizzati nel vettore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=length(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=m+v(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=m/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21320" y="1243080"/>
            <a:ext cx="4410000" cy="161856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v =[-3 0 4 5 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media_ar=media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edia_a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.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2650" r="70837" b="66885"/>
          <a:stretch/>
        </p:blipFill>
        <p:spPr>
          <a:xfrm>
            <a:off x="4587840" y="2476440"/>
            <a:ext cx="3220920" cy="1695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23360" y="4286160"/>
            <a:ext cx="4158360" cy="2288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Usando la function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di Matlab si ottiene anch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media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» v =[-3 0 4 5 6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» media_ar=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sum(v)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/length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edia_ar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2.4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160" y="5429160"/>
            <a:ext cx="438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Osservaz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Esiste la function </a:t>
            </a:r>
            <a:r>
              <a:rPr b="1" lang="it-IT" sz="2000" spc="-1" strike="noStrike">
                <a:solidFill>
                  <a:srgbClr val="006600"/>
                </a:solidFill>
                <a:latin typeface="Courier New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 Matlab che restituisce la media di 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umeri (si faccia l’hel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09:39:38Z</dcterms:created>
  <dc:creator>enza</dc:creator>
  <dc:description/>
  <dc:language>en-US</dc:language>
  <cp:lastModifiedBy>Elisabetta Santi</cp:lastModifiedBy>
  <cp:lastPrinted>2003-10-01T09:13:22Z</cp:lastPrinted>
  <dcterms:modified xsi:type="dcterms:W3CDTF">2007-07-29T15:08:03Z</dcterms:modified>
  <cp:revision>257</cp:revision>
  <dc:subject/>
  <dc:title>Introduzione al MATLAB</dc:title>
</cp:coreProperties>
</file>