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029-CFA0-439F-B33E-38527EDA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082-E44F-4516-9843-37A5A248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7D0-3604-4B49-B8DD-06294D2F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7D6-AC48-4508-8A63-99CBE148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E67-5BA0-4FE9-B2CB-DC0EC060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4E4-5C2F-48C4-8052-E255047E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1B0-4AC1-4D5D-8D88-7AA6DAE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716-5D2C-4054-8E3D-A373885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000-01E9-472C-A0DA-BBBB5FA4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CD2-9C69-4A0A-A99E-EBF1A36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950-3D43-45B0-9E32-FB6160A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-144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6A4-DD99-4801-BBF2-E853BC4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F5B9-B47A-4499-96AF-CBD8DC351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 lezione di laboratori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7680" y="5503680"/>
            <a:ext cx="6324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600" y="1787400"/>
            <a:ext cx="8153280" cy="3445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aurea Ingegneria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Mecca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.S. Modellistica Fisico-Matematica per l’Ingegn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1120" y="556884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.a. 2006-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20A-F5ED-4FD3-84DF-6049877EED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4480" y="135000"/>
            <a:ext cx="7578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o esercizio 1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8360" y="1096920"/>
            <a:ext cx="6118200" cy="45198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256680" y="980640"/>
            <a:ext cx="1978920" cy="467640"/>
            <a:chOff x="256680" y="980640"/>
            <a:chExt cx="1978920" cy="467640"/>
          </a:xfrm>
        </p:grpSpPr>
        <p:sp>
          <p:nvSpPr>
            <p:cNvPr id="84" name=""/>
            <p:cNvSpPr/>
            <p:nvPr/>
          </p:nvSpPr>
          <p:spPr>
            <a:xfrm rot="21568800">
              <a:off x="258480" y="984600"/>
              <a:ext cx="860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ito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259280" y="1234080"/>
              <a:ext cx="976320" cy="4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74160" y="1530360"/>
            <a:ext cx="438696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title('Grafico ed …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160" y="2898720"/>
            <a:ext cx="1949040" cy="825480"/>
            <a:chOff x="38160" y="2898720"/>
            <a:chExt cx="1949040" cy="825480"/>
          </a:xfrm>
        </p:grpSpPr>
        <p:sp>
          <p:nvSpPr>
            <p:cNvPr id="88" name=""/>
            <p:cNvSpPr/>
            <p:nvPr/>
          </p:nvSpPr>
          <p:spPr>
            <a:xfrm>
              <a:off x="38160" y="2898720"/>
              <a:ext cx="1441080" cy="825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etichetta asse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38120" y="3301920"/>
              <a:ext cx="649080" cy="3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85480" y="3954600"/>
            <a:ext cx="255816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ylabel('y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000760" y="5099040"/>
            <a:ext cx="3862080" cy="825480"/>
            <a:chOff x="5000760" y="5099040"/>
            <a:chExt cx="3862080" cy="825480"/>
          </a:xfrm>
        </p:grpSpPr>
        <p:sp>
          <p:nvSpPr>
            <p:cNvPr id="92" name=""/>
            <p:cNvSpPr/>
            <p:nvPr/>
          </p:nvSpPr>
          <p:spPr>
            <a:xfrm>
              <a:off x="7421400" y="5099040"/>
              <a:ext cx="1441440" cy="825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etichetta asse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000760" y="5451480"/>
              <a:ext cx="2309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951080" y="5918040"/>
            <a:ext cx="255816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xlabel('x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094360" y="2378160"/>
            <a:ext cx="2973960" cy="459720"/>
            <a:chOff x="5094360" y="2378160"/>
            <a:chExt cx="2973960" cy="459720"/>
          </a:xfrm>
        </p:grpSpPr>
        <p:sp>
          <p:nvSpPr>
            <p:cNvPr id="96" name=""/>
            <p:cNvSpPr/>
            <p:nvPr/>
          </p:nvSpPr>
          <p:spPr>
            <a:xfrm>
              <a:off x="7166880" y="2378160"/>
              <a:ext cx="90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tex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94360" y="2617560"/>
              <a:ext cx="200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824440" y="3021120"/>
            <a:ext cx="24955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gtext('x3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AC8-8430-4E99-8CB8-9CECD4A7B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9400" y="201240"/>
            <a:ext cx="80485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047600"/>
            <a:ext cx="8991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crivere un file script che consenta di disegna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ell’intervallo [-2,2] e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u due “finestre grafiche distinte ”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, il grafico della funzione: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f(x)=exp(-x</a:t>
            </a:r>
            <a:r>
              <a:rPr b="1" lang="it-IT" sz="28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)cos(20x)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he viene definita nella function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utilizzino i due comandi MATLA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lot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 la figura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plot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 la figura 2.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N.B.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ell’utilizzare il comand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lot s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 pu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siderare la partizione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Courier New"/>
              </a:rPr>
              <a:t>x=[-2:0.1:2]</a:t>
            </a:r>
            <a:r>
              <a:rPr b="1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1C0-88FE-42BB-9143-C5F5C2F1A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oluzione esercizio 2: comando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plo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353960"/>
            <a:ext cx="4592520" cy="9349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fun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exp(-x.^2).*cos(20*x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497400" y="1698480"/>
            <a:ext cx="169848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656480" cy="2667240"/>
          </a:xfrm>
          <a:prstGeom prst="rect">
            <a:avLst/>
          </a:prstGeom>
          <a:solidFill>
            <a:srgbClr val="ff99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igure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=[-2:0.1:2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y=fun(x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lot(x,y),title('Comando plot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label('x');ylabel('y'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440160" y="1698120"/>
            <a:ext cx="1814400" cy="42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614760" y="1696680"/>
            <a:ext cx="182880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81480" y="1681200"/>
            <a:ext cx="2076480" cy="88920"/>
          </a:xfrm>
          <a:prstGeom prst="leftArrow">
            <a:avLst>
              <a:gd name="adj1" fmla="val 50000"/>
              <a:gd name="adj2" fmla="val 5838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83000" y="2763720"/>
            <a:ext cx="1801800" cy="244440"/>
          </a:xfrm>
          <a:prstGeom prst="leftArrow">
            <a:avLst>
              <a:gd name="adj1" fmla="val 50000"/>
              <a:gd name="adj2" fmla="val 184278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0920" y="1965240"/>
            <a:ext cx="1801800" cy="244440"/>
          </a:xfrm>
          <a:prstGeom prst="leftArrow">
            <a:avLst>
              <a:gd name="adj1" fmla="val 50000"/>
              <a:gd name="adj2" fmla="val 184278"/>
            </a:avLst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68B-A788-4A74-B600-E20941B96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820800"/>
            <a:ext cx="4592520" cy="9349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fun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exp(-x.^2).*cos(20*x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497400" y="1698480"/>
            <a:ext cx="169848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11200" y="1828800"/>
            <a:ext cx="7656480" cy="4952880"/>
          </a:xfrm>
          <a:prstGeom prst="rect">
            <a:avLst/>
          </a:prstGeom>
          <a:solidFill>
            <a:srgbClr val="ff99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igure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=[-2,2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plot(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'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'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,I), grid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Matlab ver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utilizzabile anche nella ver.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itle('Comando fplot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label('x');ylabel('y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igure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=[-2,2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plot(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@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un,I), grid 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% Matlab ver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itle('Comando fplot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label('x');ylabel('y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440160" y="1698120"/>
            <a:ext cx="1814400" cy="42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614760" y="1696680"/>
            <a:ext cx="182880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81480" y="1681200"/>
            <a:ext cx="2076480" cy="88920"/>
          </a:xfrm>
          <a:prstGeom prst="leftArrow">
            <a:avLst>
              <a:gd name="adj1" fmla="val 50000"/>
              <a:gd name="adj2" fmla="val 5838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-76320"/>
            <a:ext cx="9448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oluzione esercizio 2: comando </a:t>
            </a: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fpl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70A-5172-4BB6-BF67-735781796A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4480" y="131400"/>
            <a:ext cx="75787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igura 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162080"/>
            <a:ext cx="7683480" cy="52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3B6-F4C8-4AF4-8E21-A7C9D6F289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igura 2 e 3 (sono ugual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087560"/>
            <a:ext cx="757872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54B-746E-4128-A25E-2B21C92A87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i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fplo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05120"/>
            <a:ext cx="9144000" cy="5260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=[-2:0.1: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exp(-x.^2).*cos(20*x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gure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lot(x,y),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oppure f='exp(-x.^2).*cos(20*x)';%stri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y=eval(f);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crea il vettore di dimensi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   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 =length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plot(x,y),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='exp(-x.^2).*cos(20*x)';% stri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gure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lot(f,[-2,2]),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83196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E’ possibile utilizzare i comandi </a:t>
            </a:r>
            <a:r>
              <a:rPr b="1" lang="it-IT" sz="3200" spc="-1" strike="noStrike">
                <a:solidFill>
                  <a:srgbClr val="0000ff"/>
                </a:solidFill>
                <a:latin typeface="Courier New"/>
              </a:rPr>
              <a:t>plot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 e </a:t>
            </a:r>
            <a:r>
              <a:rPr b="1" lang="it-IT" sz="3200" spc="-1" strike="noStrike">
                <a:solidFill>
                  <a:srgbClr val="0000ff"/>
                </a:solidFill>
                <a:latin typeface="Courier New"/>
              </a:rPr>
              <a:t>fplot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, senza definire un file function esterno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242100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01336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502-C62C-4A8F-8966-2BE3CB0D3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o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ezplo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62276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gure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zplot(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'x.^2-y.^2-1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[-4 4 -4 4]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forma impl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18000" y="2857680"/>
            <a:ext cx="5562360" cy="4171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873760" y="2827440"/>
            <a:ext cx="1219320" cy="457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245000" y="2492280"/>
            <a:ext cx="1143000" cy="3812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36360" y="692280"/>
            <a:ext cx="91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comand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ezplot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sente di graficare funzioni date in forma implicita ed in forma parame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46C-20ED-4340-A77A-69ADB2D445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7440" y="82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77012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81280" y="1666800"/>
            <a:ext cx="1828800" cy="6098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1463760"/>
            <a:ext cx="114300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0312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gure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zplot(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'cos(t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'sin(t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 forma parame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CBB-4B77-4FB2-8C6F-44AA31C39B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Comando subplo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7918200" cy="6019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%fil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=0.1:.1: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3,1);plot(x,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y=x');xlabel('x'); ylabel('y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3,2);plot(x,x.^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y= x^2');xlabel('x'); ylabel('y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3,3),plot(x,x.^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y= x^3');xlabel('x'); ylabel('y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3,4),plot(x,cos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y=cos(x)');xlabel('x');ylabel('y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3,5),plot(x,cos(2*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y=cos(2x)');xlabel('x');ylabel('y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3,6),plot(x,cos(3*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y=cos(3x)');xlabel('x');ylabel('y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% I colori e lo spessore sono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% aggiunti utilizzando i tool del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54200" y="1233360"/>
            <a:ext cx="812880" cy="39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1341360"/>
            <a:ext cx="2105280" cy="246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EA5-D2CB-4BE6-ACB7-7C6FC6EFD3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e creare un grafico 2-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046160"/>
            <a:ext cx="77724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ntassi per disegnare una curva c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pecifica dei dati nel vettore x e/o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pecifica del colore e dello stile della li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08000" y="3276720"/>
            <a:ext cx="6916680" cy="52056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lot(x, y, ‘colore_stilelinea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4240" y="5364000"/>
            <a:ext cx="7245360" cy="52056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lot(x1, y1,’r*’,x2, y2,‘b-’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82320" y="446256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ntassi per disegnare più cur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B1A-1F46-4DC5-AE01-2CD782D6D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isultati file fig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08080" y="960480"/>
            <a:ext cx="8689680" cy="5429160"/>
            <a:chOff x="208080" y="960480"/>
            <a:chExt cx="8689680" cy="542916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208080" y="960480"/>
              <a:ext cx="86896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208080" y="960480"/>
              <a:ext cx="8689680" cy="542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DA7-3EA8-4F2F-93B8-78719FE37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i: plot e semilo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7360" y="933480"/>
            <a:ext cx="60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ue modi di graficare la fun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124680" y="914400"/>
          <a:ext cx="27874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4680" y="914400"/>
                    <a:ext cx="27874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801800" y="1523880"/>
            <a:ext cx="1690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ala lineare su entrambi gli A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5943600"/>
            <a:ext cx="17985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ala logaritmica sull’Asse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79720" y="1484280"/>
            <a:ext cx="61293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2743200"/>
            <a:ext cx="3581280" cy="2838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=0:0.1: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y=exp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plot(1,2,1);plot(x,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id;title('plot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plot(1,2,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emilogy(x,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id;title('semilogy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6F4-FBAD-4A4D-8E4B-87256F8970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56680"/>
            <a:ext cx="89154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sercizio 2   (Esame 02/12/2002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07920"/>
            <a:ext cx="8820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 considerino i sistemi lineari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1,2,3,  con i vettori dei termini noti 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1,2,3,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celti in modo che la soluzione dei sistemi sia 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=[1,1,1,1]</a:t>
            </a:r>
            <a:r>
              <a:rPr b="1" i="1" lang="it-IT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, i=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1,2,3. Supponiamo che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3781440"/>
          <a:ext cx="914400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81440"/>
                    <a:ext cx="914400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E00-D64F-47C8-B64F-01621E0DC2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3880"/>
            <a:ext cx="914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832320" indent="-566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 determini, mediante  MATLAB, il condizionamento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1, 2, 3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 si verifichi che </a:t>
            </a:r>
            <a:r>
              <a:rPr b="1" i="1" lang="it-IT" sz="3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it-IT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it-IT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it-IT" sz="3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it-IT" sz="3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i="1" lang="it-IT" sz="36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it-IT" sz="3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it-IT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 ( </a:t>
            </a:r>
            <a:r>
              <a:rPr b="1" i="1" lang="it-IT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it-IT" sz="36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it-IT" sz="36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it-IT" sz="3600" spc="-1" strike="noStrike">
                <a:solidFill>
                  <a:srgbClr val="ff0000"/>
                </a:solidFill>
                <a:latin typeface="Times New Roman"/>
              </a:rPr>
              <a:t> , i=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2, 3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32320" indent="-566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 spieghi il motivo di tale relazione e se ne prevedano le conseguenz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7720" y="304920"/>
            <a:ext cx="243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886-F576-4AA4-946B-9540FB8CFB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 costruisca un file MATLAB: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Cognome_Nome.m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 che una volta avvia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) faccia visualizzare una schermata con i dati personali (cognome, nome, matricola, corso di Laurea) ed una breve presentazione del problem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38088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o 2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FF8-9EB1-41E9-AC20-92EAC73C1D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057400"/>
            <a:ext cx="914400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77200" indent="-27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b) mediante un 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ciclo for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 determini i dati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1, 2, 3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isolva quindi i sistemi                   applicando il metodo di Gauss con pivoting parziale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alcoli l’errore relativo in norma 2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760" y="407880"/>
            <a:ext cx="274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o 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76880" y="3162240"/>
          <a:ext cx="224784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6880" y="3162240"/>
                    <a:ext cx="224784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A37-DFF0-4A8C-A7CB-444364F34F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2133720"/>
            <a:ext cx="7010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) faccia visualizzare una tabella riassuntiva che riporti: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intestazione: indice    iter   soluzione   err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 su ogni  riga il valore dell’indice 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lla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trice, il numero di iterazioni           effettuate nel raffinamento, la soluzione corrispondente         scritta come vettore riga e l’errore relativo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 utilizzino i seguenti formati di stam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cifra intera per il valore di 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cifre intere per il valore di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cifre decimali e formato virgola fissa per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mponenti di      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cifre decimali e formato esponenziale per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32080" y="15228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o 2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707000" y="2743200"/>
          <a:ext cx="414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7000" y="2743200"/>
                    <a:ext cx="414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352680" y="5638680"/>
          <a:ext cx="48096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5638680"/>
                    <a:ext cx="4809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581280" y="2286000"/>
                <a:ext cx="685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te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562720" y="1905120"/>
                <a:ext cx="218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62520" y="3124080"/>
                <a:ext cx="609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257800" y="4191120"/>
                <a:ext cx="219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105520" y="4648320"/>
                <a:ext cx="685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te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391520" y="6232680"/>
                <a:ext cx="6094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F52-1B17-49E6-87E8-5F04BBA4F6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oluzione teorica del Quesito 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146560" y="836640"/>
          <a:ext cx="720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836640"/>
                    <a:ext cx="720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24000" y="1701720"/>
          <a:ext cx="8532720" cy="244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701720"/>
                    <a:ext cx="853272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907920"/>
            <a:ext cx="805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Proprietà della matrice          e conseguenze: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0920" y="4565520"/>
          <a:ext cx="8532720" cy="134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565520"/>
                    <a:ext cx="853272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433-F511-437B-A1F1-0FEE9792C7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oluzione teorica del Quesito 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549760" y="765000"/>
          <a:ext cx="25513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9760" y="765000"/>
                    <a:ext cx="2551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08000" y="1700280"/>
          <a:ext cx="43196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700280"/>
                    <a:ext cx="43196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46040" y="2708280"/>
          <a:ext cx="6953400" cy="92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040" y="2708280"/>
                    <a:ext cx="69534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838080" y="7621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roprietà delle matric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095880"/>
            <a:ext cx="535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nalogamente per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= 3.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651640" y="5805360"/>
            <a:ext cx="2736360" cy="788040"/>
            <a:chOff x="5651640" y="5805360"/>
            <a:chExt cx="2736360" cy="788040"/>
          </a:xfrm>
        </p:grpSpPr>
        <p:sp>
          <p:nvSpPr>
            <p:cNvPr id="196" name=""/>
            <p:cNvSpPr/>
            <p:nvPr/>
          </p:nvSpPr>
          <p:spPr>
            <a:xfrm>
              <a:off x="6582960" y="6083280"/>
              <a:ext cx="96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it-IT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it-IT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it-IT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it-IT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it-IT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6880680" y="4575960"/>
              <a:ext cx="277920" cy="2736360"/>
            </a:xfrm>
            <a:custGeom>
              <a:avLst/>
              <a:gdLst>
                <a:gd name="textAreaLeft" fmla="*/ 177480 w 277920"/>
                <a:gd name="textAreaRight" fmla="*/ 277920 w 277920"/>
                <a:gd name="textAreaTop" fmla="*/ 71280 h 2736360"/>
                <a:gd name="textAreaBottom" fmla="*/ 2665080 h 27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51280" y="177336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er la simmetria di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317080" y="1773360"/>
          <a:ext cx="79200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17080" y="1773360"/>
                    <a:ext cx="792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08000" y="3822840"/>
          <a:ext cx="6119640" cy="976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3822840"/>
                    <a:ext cx="61196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782760" y="39402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in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520" y="4917960"/>
          <a:ext cx="8993160" cy="111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520" y="4917960"/>
                    <a:ext cx="89931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324-515E-4BE1-B48C-30975FA1D2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relative al Quesito 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836640"/>
            <a:ext cx="8686800" cy="579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% file script: punto1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ear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Numero di condizionamento delle matrici Ai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1=[15 6 8 11 ;  6 6 5 3 ; 8 5 7 6; 11 3 6 9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ond_Ai=[];cond_A=[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i =1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i=A1^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ond_Ai=[cond_Ai,cond(Ai)]; </a:t>
            </a: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vettore dei cond(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ond_A=[cond_A,cond(A1)^i]; </a:t>
            </a: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vettore dei cond(A1^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cond(Ai)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sp(num2str(cond_Ai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%13.3e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(cond(A1))^i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sp(num2str(cond_A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%13.3e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DB8-227F-48E3-9BB8-76FBC30AFB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pletamento di un grafi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 completare un grafico si pu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ggiungere le label sugli ass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xlabel('x');ylabel('y'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Un titolo: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itle('Grafico ed …'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La griglia: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437-E531-4709-BEBB-35A9599DE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punto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620640"/>
            <a:ext cx="80787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punto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ero di condizionamento delle matrici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ond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6.499e+003   4.224e+007   2.746e+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(cond(A1))^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6.499e+003   4.224e+007   2.745e+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4080" y="4941720"/>
            <a:ext cx="571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seguenze del num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di condizionamento gran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760" y="3728880"/>
            <a:ext cx="9039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Indicheremo con K1, K2, K3 il condizionamento in norma 2 delle matrici A1, A2, A3 rispettivamente.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CFB-280A-4E29-9545-A10E2A5C9C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alcolo della soluzione di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765000"/>
          <a:ext cx="644544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5000"/>
                    <a:ext cx="64454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472080" y="44280"/>
          <a:ext cx="170028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2080" y="44280"/>
                    <a:ext cx="17002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79280" y="3284640"/>
            <a:ext cx="65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x2=A2\b2 % Operatore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.00000000037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0.99999999968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.000000000234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0.99999999948547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err2=norm(x2-alpha)/norm(alp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rr2 = 3.76e-010=.376e-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35640" y="3357720"/>
            <a:ext cx="3657600" cy="1447560"/>
            <a:chOff x="5435640" y="3357720"/>
            <a:chExt cx="3657600" cy="1447560"/>
          </a:xfrm>
        </p:grpSpPr>
        <p:sp>
          <p:nvSpPr>
            <p:cNvPr id="219" name=""/>
            <p:cNvSpPr/>
            <p:nvPr/>
          </p:nvSpPr>
          <p:spPr>
            <a:xfrm>
              <a:off x="5435640" y="3357720"/>
              <a:ext cx="3657600" cy="144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509800" y="3357720"/>
              <a:ext cx="3541320" cy="1443600"/>
              <a:chOff x="5509800" y="3357720"/>
              <a:chExt cx="3541320" cy="1443600"/>
            </a:xfrm>
          </p:grpSpPr>
          <p:sp>
            <p:nvSpPr>
              <p:cNvPr id="221" name=""/>
              <p:cNvSpPr/>
              <p:nvPr/>
            </p:nvSpPr>
            <p:spPr>
              <a:xfrm>
                <a:off x="6004080" y="3792600"/>
                <a:ext cx="24667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&gt;&gt; nc=log10(K2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nc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7.625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509800" y="3357720"/>
                <a:ext cx="354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</a:rPr>
                  <a:t>Numero di cifre significative per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2819520" y="40384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76720" y="5667480"/>
            <a:ext cx="4159440" cy="1191240"/>
            <a:chOff x="5076720" y="5667480"/>
            <a:chExt cx="4159440" cy="1191240"/>
          </a:xfrm>
        </p:grpSpPr>
        <p:graphicFrame>
          <p:nvGraphicFramePr>
            <p:cNvPr id="225" name=""/>
            <p:cNvGraphicFramePr/>
            <p:nvPr/>
          </p:nvGraphicFramePr>
          <p:xfrm>
            <a:off x="5076720" y="5776920"/>
            <a:ext cx="779400" cy="5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76720" y="5776920"/>
                      <a:ext cx="7794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5400720" y="5667480"/>
              <a:ext cx="383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it-IT" sz="3600" spc="-1" strike="noStrike">
                  <a:solidFill>
                    <a:srgbClr val="3333cc"/>
                  </a:solidFill>
                  <a:latin typeface="Times New Roman"/>
                </a:rPr>
                <a:t>10 cifre signific.,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3333cc"/>
                  </a:solidFill>
                  <a:latin typeface="Times New Roman"/>
                </a:rPr>
                <a:t>9 decimali corrett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858000" y="760320"/>
                <a:ext cx="146520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E2A-DF7C-46EC-900C-FA5F447A55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Oltre che sul numero di cifre significative che si perdono, come incide il valore grande di  </a:t>
            </a:r>
            <a:r>
              <a:rPr b="1" i="1" lang="it-IT" sz="36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it-IT" sz="3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i="1" lang="it-IT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it-IT" sz="3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)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16542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2m=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2m(2,2)=A2(2,2)+1e-3;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perturbazion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 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sulla m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pert=norm(A2-A2m)/norm(A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per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1.0546e-006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entità della perturb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x2m=A2m\b2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soluzione perturb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x2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2.060508134713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0.11143302866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1.65544907516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-0.437708937068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err2m=norm(x2m-alpha)/norm(alp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rr2m = 1.0501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&gt;100%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2CD-15CF-4750-8C5F-7AFC30B0D9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3472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struzioni relative al Quesito 2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81000"/>
            <a:ext cx="9144000" cy="5639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Cognome e nome studente: XXXX XXX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Numero di matricola: XXXX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Corso di Laurea: XXXX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 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Questo programma calcola e visualizza la soluzione dei 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sistemi lineari A_i x_i=b_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 =1,2,3, con i vettori b_i tali che sia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alpha=[1,1,1,1]'',essendo: 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1=[15 6 8 11;6 6 5 3;8 5 7 6;11 3 6 9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'A1=');disp(A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sp( 'e A_i= A1^i per i=2,3.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114-B2E5-47AA-8325-09BDB298F5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Output file Cognome_Nome.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69228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Cognome_N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gnome e nome studente: XXXX 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umero di matricola: XXXX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rso di Laurea:X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Questo programma calcola e visualizza la soluzione dei sistemi line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_i x_i=b_i, i =1,2,3, con i vettori b_i tali che sia alpha=[1 1 1 1]', essen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1= 15     6     8   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6     6     5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8     5     7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11     3     6    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e A_i= A1^i per i=2,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4AA-4A2E-4C0E-8752-A244B4B31C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relative al Quesito 2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736560"/>
            <a:ext cx="8686800" cy="603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tab=[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alpha=ones(4,1); </a:t>
            </a:r>
            <a:r>
              <a:rPr b="1" lang="it-IT" sz="2600" spc="-1" strike="noStrike">
                <a:solidFill>
                  <a:srgbClr val="228b22"/>
                </a:solidFill>
                <a:latin typeface="Courier New"/>
              </a:rPr>
              <a:t>% solu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i =1: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A=A1^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b=A*alpha; </a:t>
            </a:r>
            <a:r>
              <a:rPr b="1" lang="it-IT" sz="2600" spc="-1" strike="noStrike">
                <a:solidFill>
                  <a:srgbClr val="228b22"/>
                </a:solidFill>
                <a:latin typeface="Courier New"/>
              </a:rPr>
              <a:t>% vettore termini no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toll=1e-13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[L,U,P] = lu(A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y=L\(P*b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x=U\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[x,iter]=Raff_iter(A,b,L,U,P,x,toll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residuo=b-A*x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norm_residuo=norm(b-A*x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err=norm(alpha-x)/norm(alpha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tab=[tab;[i,iter,x',err,norm_residuo]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4343400"/>
            <a:ext cx="7467840" cy="45720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20" y="2481840"/>
            <a:ext cx="1065600" cy="3033720"/>
            <a:chOff x="720" y="2481840"/>
            <a:chExt cx="1065600" cy="3033720"/>
          </a:xfrm>
        </p:grpSpPr>
        <p:sp>
          <p:nvSpPr>
            <p:cNvPr id="239" name=""/>
            <p:cNvSpPr/>
            <p:nvPr/>
          </p:nvSpPr>
          <p:spPr>
            <a:xfrm>
              <a:off x="618840" y="3111120"/>
              <a:ext cx="447480" cy="1706760"/>
            </a:xfrm>
            <a:custGeom>
              <a:avLst/>
              <a:gdLst>
                <a:gd name="textAreaLeft" fmla="*/ 285840 w 447480"/>
                <a:gd name="textAreaRight" fmla="*/ 447840 w 447480"/>
                <a:gd name="textAreaTop" fmla="*/ 44280 h 1706760"/>
                <a:gd name="textAreaBottom" fmla="*/ 1662480 h 170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rot="16200000">
              <a:off x="-1316520" y="3799080"/>
              <a:ext cx="30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struzioni di Gausspv_r.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162240" y="3500280"/>
            <a:ext cx="598176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%La chiamata di Gausspv_r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[x,iter] = Gausspv_r(A,b,to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A27-F22B-428E-99A1-3FB6B1E94D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44000"/>
            <a:ext cx="8964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File Quesito 2b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Tabella Quesito 2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571760"/>
            <a:ext cx="85345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'i  iter  \t\t\t soluzion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\t\t \t\t         errore    residuo\n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%1d %2d %14.10f %14.10f %14.10f %14.10f %10.2e %10.2e \n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tab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1080" y="3213000"/>
            <a:ext cx="8821800" cy="946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i iter                       soluzione                         errore   resid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  0  1.0000000000  1.0000000000  1.0000000000  1.0000000000 8.17e-015 3.55e-0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  0  1.0000000007  0.9999999994  1.0000000004  0.9999999991 6.81e-010 1.97e-0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  0  0.9999998145  1.0000001554  0.9999998854  1.0000002514 1.84e-007 0.00e+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16200" y="3860640"/>
            <a:ext cx="8980920" cy="1526040"/>
            <a:chOff x="-16200" y="3860640"/>
            <a:chExt cx="8980920" cy="1526040"/>
          </a:xfrm>
        </p:grpSpPr>
        <p:sp>
          <p:nvSpPr>
            <p:cNvPr id="246" name=""/>
            <p:cNvSpPr/>
            <p:nvPr/>
          </p:nvSpPr>
          <p:spPr>
            <a:xfrm>
              <a:off x="7821720" y="3860640"/>
              <a:ext cx="114300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-16200" y="4317840"/>
              <a:ext cx="8506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Nell’ultimo caso calcolando la stima del num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di cifre che si perdono, si ottien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19640" y="5229360"/>
            <a:ext cx="3657600" cy="1447560"/>
            <a:chOff x="5219640" y="5229360"/>
            <a:chExt cx="3657600" cy="1447560"/>
          </a:xfrm>
        </p:grpSpPr>
        <p:sp>
          <p:nvSpPr>
            <p:cNvPr id="249" name=""/>
            <p:cNvSpPr/>
            <p:nvPr/>
          </p:nvSpPr>
          <p:spPr>
            <a:xfrm>
              <a:off x="5219640" y="5229360"/>
              <a:ext cx="3657600" cy="144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293800" y="5229360"/>
              <a:ext cx="3541320" cy="1443600"/>
              <a:chOff x="5293800" y="5229360"/>
              <a:chExt cx="3541320" cy="1443600"/>
            </a:xfrm>
          </p:grpSpPr>
          <p:sp>
            <p:nvSpPr>
              <p:cNvPr id="251" name=""/>
              <p:cNvSpPr/>
              <p:nvPr/>
            </p:nvSpPr>
            <p:spPr>
              <a:xfrm>
                <a:off x="5788080" y="5664240"/>
                <a:ext cx="24667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&gt;&gt; nc=log10(K3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nc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11.438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93800" y="5229360"/>
                <a:ext cx="354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</a:rPr>
                  <a:t>Numero di cifre significative per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385-BC02-48F3-B5C9-EF68F0051C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utilizzate in Raff_it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990720"/>
            <a:ext cx="8337600" cy="5277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[x,iter]=Raff_iter(A,b,L,U,P,x,to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8b22"/>
                </a:solidFill>
                <a:latin typeface="Courier New"/>
              </a:rPr>
              <a:t>%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te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iduo=b-A*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norm(residuo)&gt;toll*norm(b)&amp; iter&lt;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=L\(P*residu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=U\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=x+er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iduo=b-A*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ter=iter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ter==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GB" sz="2000" spc="-1" strike="noStrike">
                <a:solidFill>
                  <a:srgbClr val="a020f0"/>
                </a:solidFill>
                <a:latin typeface="Courier New"/>
              </a:rPr>
              <a:t>'Raggiunto il numero massimo di iterazioni'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140-6099-45A8-961C-4D27BB612F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1360" y="620640"/>
            <a:ext cx="882036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a dato il sistema lineare avente la matrice dei coefficienti ed il vettore dei termini noti così assegnati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14400" y="2438280"/>
          <a:ext cx="7083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083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5D8-65B8-4F4F-9F77-240683C1ED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9144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868320" indent="-5911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 studi la convergenza dei metodi di Jacobi, Gauss-Seidel e Rilassamento in serie (SOR) per il sistema assegna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68320" indent="-5911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 dica quale di questi metodi è il più veloce giustificando teoricamente la risposta e calcolando, mediante Matlab, i raggi spettrali delle rispettive matrici di iterazione ed il valore ottimale del parametro 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per il metodo S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i 1 e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FD3-EF6F-4CF3-836A-955145029B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ditore grafic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963360"/>
            <a:ext cx="89154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Uno dei modi per migliorare il grafico è il segu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1919160"/>
            <a:ext cx="4648320" cy="432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2286000"/>
            <a:ext cx="3341880" cy="38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lezionare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View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, dal menu che compare, scegliere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Plot Edit Toolbar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; nella finestra compare una  seconda ba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6A4-E84D-4C04-B696-E5A314E09E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1523880"/>
            <a:ext cx="8915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3. Si costruisca un file MATLAB ch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) calcoli la soluzione numerica del problema assegnato applicando il metodo con convergenza migliore e fissando una precisione non inferiore a 1.e-4 ed un  vettore di innesco pari a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0=[1 1 1 1 1 1]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o 3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7D3-FF2C-4098-8B25-BD02C60CBE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2133720"/>
            <a:ext cx="7010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914400"/>
            <a:ext cx="883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b) faccia visualizzare una tabella riassuntiva che riporti: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intestazione: iterazioni    soluzione    error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 su ogni  riga, il numero di iterazioni     , la soluzione approssimata corrispondente         e la norma del residuo         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 utilizzino i seguenti formati di stam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ifre intere per il valore di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ifre decimali e formato virgola fissa per l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oluzione approssimata      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ifra decimale e formato esponenziale per 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rma del residuo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o 3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157720" y="2276640"/>
          <a:ext cx="48096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7720" y="2276640"/>
                    <a:ext cx="4809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700520" y="4724280"/>
          <a:ext cx="48096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0520" y="4724280"/>
                    <a:ext cx="4809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038480" y="5775480"/>
                <a:ext cx="6098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28800" y="2658960"/>
                <a:ext cx="6858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369120" y="1905120"/>
                <a:ext cx="260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181480" y="3809880"/>
                <a:ext cx="30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13C-9E51-4E28-B9A5-1DC015633E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vergenza dei metod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066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aratteristiche di 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-579600"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diagonalmente dominant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Jacobi con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-579600">
              <a:buClr>
                <a:srgbClr val="33cc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Times New Roman"/>
              </a:rPr>
              <a:t>tridiagonal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anche Gauss-Seidel converge; inolt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3618000"/>
          <a:ext cx="6777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18000"/>
                    <a:ext cx="6777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76320" y="43434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cc"/>
                </a:solidFill>
                <a:latin typeface="Times New Roman"/>
              </a:rPr>
              <a:t>c) simmetrica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d) definita positiva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perché è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3600" spc="-1" strike="noStrike">
                <a:solidFill>
                  <a:srgbClr val="ff66cc"/>
                </a:solidFill>
                <a:latin typeface="Times New Roman"/>
              </a:rPr>
              <a:t>c)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e tutti gli elementi sulla diagonale principale  sono positi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690-0307-4F18-BE46-1DF9987CC4D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al è il metodo più veloc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143000" y="4008600"/>
          <a:ext cx="678168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08600"/>
                    <a:ext cx="678168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52280" y="134136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er la proprietà 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d)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SOR converge 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è inoltre il metodo più veloce se si assu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059280" y="2097000"/>
          <a:ext cx="338292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097000"/>
                    <a:ext cx="33829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0AC-BDE4-4217-A5C1-A6EAB2A3BA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relative al Quesito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771480"/>
            <a:ext cx="8839440" cy="5946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0=[4 5 6 5 3 2];I1=[1 2 3 -1 1]; A=diag(I0)+diag(I1,-1)+diag(I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=diag(diag(A));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,m]=size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_J=eye(n)-inv(D)*A;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% metodo di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Jacobi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ho_J=max(abs(eig(B_J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_J=-log(rho_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mega=1;            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% metodo di Gauss-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E=omega*tril(A,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_GS=eye(n)-omega*inv(D+OE)*A; rho_GS=max(abs(eig(B_GS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_GS=-log(rho_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mega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_ott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=2/(1+sqrt(1-rho_GS))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% metodo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E=omega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_ott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*tril(A,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_r=eye(n)-omega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_ott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*inv(D+OE)*A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ho_r=max(abs(eig(B_r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_r=-log(rho_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F18-A558-42BA-9426-FF9FCBC6AA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file Quesito 2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320" y="1676520"/>
            <a:ext cx="8839080" cy="3547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ho_J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=   0.7196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_J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=    0.3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ho_GS =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0.5179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_GS =    0.65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omega_ott =   1.18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ho_r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=   0.1804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_r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=    1.71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4BE-CB7B-4CC8-80D7-1D8F3BE46B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relative al Quesito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74880"/>
            <a:ext cx="91440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=[3 -2 1 -1 3 4]';K=cond(A,in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ecisione=input('precisione = ');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1.e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ll=precisione/K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toll = 9.3310e-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0=ones(n,1);omega=omega_ott;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max=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[x,iter,res,rho]=Gauss_Seidel_ril(A,b,x0,omega,nmax,to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t=[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iter]';tab=[it x re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='--------------------------------------------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printf('iter       soluzione    errore\n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printf('%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 %8.5f %8.5f %8.5f %8.5f %8.5f %8.5f %9.1e\n',tab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76B-C08F-4ECB-AA4A-61B77422A9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file Quesito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609480"/>
            <a:ext cx="9296280" cy="5375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r       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soluzione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rr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  1.00000  1.00000  1.00000  1.00000  1.00000  1.00000  2.5e+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  0.40980 -1.22145 -0.09326 -0.11434  0.56155  1.84897  1.1e+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  1.17181 -0.48443  0.47164 -0.41692  0.18755  1.91655  4.2e-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3  0.81686 -0.80030  0.67260 -0.59295  0.15916  1.92112  1.3e-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4  0.97411 -0.87533  0.76977 -0.63672  0.14526  1.92850  3.4e-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5  0.96788 -0.90620  0.79022 -0.64659  0.14099  1.92969  8.7e-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6  0.97811 -0.91270  0.79491 -0.64914  0.14028  1.92989  1.1e-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7  0.97819 -0.91376  0.79599 -0.64961  0.14015  1.92993  3.4e-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8  0.97849 -0.91415  0.79622 -0.64972  0.14011  1.92995  5.1e-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9  0.97855 -0.91421  0.79627 -0.64974  0.14010  1.92995  1.3e-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97855 -0.91422  0.79628 -0.64975  0.14010  1.92995  2.5e-0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586728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cc"/>
                </a:solidFill>
                <a:latin typeface="Times New Roman"/>
              </a:rPr>
              <a:t>Si invitano gli studenti a determinare la soluzione con precisione = 1.e-8 e riportare le componenti della soluzione approssimata con 10 cifre e virgola fis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872-42E7-4655-A550-FA66194D2B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4 (Esame 05-12-05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280" y="1628640"/>
          <a:ext cx="8610840" cy="29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28640"/>
                    <a:ext cx="8610840" cy="2944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160" y="90792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data la  seguente matrice: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56360" y="1614600"/>
            <a:ext cx="4572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0846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ettore </a:t>
            </a: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tale che la soluzione del sistema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124000" y="5157720"/>
            <a:ext cx="6048360" cy="1253880"/>
            <a:chOff x="2124000" y="5157720"/>
            <a:chExt cx="6048360" cy="1253880"/>
          </a:xfrm>
        </p:grpSpPr>
        <p:graphicFrame>
          <p:nvGraphicFramePr>
            <p:cNvPr id="301" name=""/>
            <p:cNvGraphicFramePr/>
            <p:nvPr/>
          </p:nvGraphicFramePr>
          <p:xfrm>
            <a:off x="6948360" y="5157720"/>
            <a:ext cx="122400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48360" y="5157720"/>
                      <a:ext cx="12240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2124000" y="5871960"/>
            <a:ext cx="2519280" cy="539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24000" y="5871960"/>
                      <a:ext cx="251928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2F8-0CA3-416B-85FC-2A5D11CD381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i 1, 2 e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480" y="765000"/>
            <a:ext cx="902952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Dopo aver determinato con MATLAB gli autovalori, si deduca motivando la risposta, la caratteristica fondamen_ tale della matri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si determini il condizionamento in norma 2 e si dica, sempre motivando la risposta,  se il sistema è ben condi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onato calcolando, inoltre, il numero di cifre significative che si perdono, rispetto alle 16 del MATLAB, risolvendo i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Si costruisca un file MATLA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it-IT" sz="2800" spc="-1" strike="noStrike">
                <a:solidFill>
                  <a:srgbClr val="ff0000"/>
                </a:solidFill>
                <a:latin typeface="Times New Roman"/>
              </a:rPr>
              <a:t>Cognome_NomeStudente.m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, una volta avviato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CB5-E1B5-4179-BD10-5D7F93B4F3C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e operare con l’editor grafi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280" y="1676520"/>
            <a:ext cx="2971800" cy="5031720"/>
            <a:chOff x="152280" y="1676520"/>
            <a:chExt cx="2971800" cy="5031720"/>
          </a:xfrm>
        </p:grpSpPr>
        <p:sp>
          <p:nvSpPr>
            <p:cNvPr id="58" name=""/>
            <p:cNvSpPr/>
            <p:nvPr/>
          </p:nvSpPr>
          <p:spPr>
            <a:xfrm>
              <a:off x="152280" y="1676520"/>
              <a:ext cx="297180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Cliccando sull’icona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si ottengono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i tool del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plot che consentono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di modificare la grafica della figura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rcRect l="62017" t="8471" r="32083" b="83569"/>
            <a:stretch/>
          </p:blipFill>
          <p:spPr>
            <a:xfrm>
              <a:off x="2209680" y="2362320"/>
              <a:ext cx="30492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5867640" cy="5102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86200" y="762120"/>
            <a:ext cx="8855280" cy="1601640"/>
            <a:chOff x="286200" y="762120"/>
            <a:chExt cx="8855280" cy="1601640"/>
          </a:xfrm>
        </p:grpSpPr>
        <p:sp>
          <p:nvSpPr>
            <p:cNvPr id="62" name=""/>
            <p:cNvSpPr/>
            <p:nvPr/>
          </p:nvSpPr>
          <p:spPr>
            <a:xfrm>
              <a:off x="286200" y="762120"/>
              <a:ext cx="885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046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imes New Roman"/>
                </a:rPr>
                <a:t>Le icone indicate dalle linee, consentono di inserire testo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6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imes New Roman"/>
                </a:rPr>
                <a:t>frecce e linee su  una figur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028840" y="1373400"/>
              <a:ext cx="60948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409720" y="1449360"/>
              <a:ext cx="22860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B44-9291-43B7-B3C1-5799553253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i a), b) e c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20" y="847800"/>
            <a:ext cx="8931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- faccia visualizzare una schermata con i dati personali e una breve presentazione del probl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oli la soluzione numerica del sistema assegnato con il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todo di Gauss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ffinamento iterativo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a tolleranza di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e-14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calcoli l’errore relativ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oli anche, sempre con lo stesso metodo, la soluzione del sistema che ha la stessa matrice dei coefficienti e vettore termini noti perturbato, rispetto  a quello dato, nel termine b(4) della quantità       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 faccia visualizzare una tabella in cui si ripor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stazione:   iterazioni  soluzione   error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umero di iterazioni eseguite nel raffinamen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luzione ottenuta e l’errore relativo nel primo e n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o ca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903920" y="4314960"/>
          <a:ext cx="6048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4314960"/>
                    <a:ext cx="60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B5B-0BDF-49C4-B263-39C7A6AF5CF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Quesito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920" y="765000"/>
            <a:ext cx="8691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ando i seguenti formati di stamp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fre  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o inter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il numero dell’ iterazio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fre decimali e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rgola fiss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le soluzioni nei due cas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 </a:t>
            </a:r>
            <a:r>
              <a:rPr b="1" lang="it-IT" sz="3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fre decimali e formato </a:t>
            </a:r>
            <a:r>
              <a:rPr b="1" lang="it-IT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floating poin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l’errore nel primo  caso.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040" y="5094360"/>
            <a:ext cx="80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Si  confrontino e si commentino i risultati.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304-CD73-44C1-A7DA-9C13E66618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relative al quesito 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400" y="692280"/>
            <a:ext cx="9019800" cy="61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ear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ostruzione della ma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=[6.36091 2.5 3.4695 4.6653 2 5.804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=length(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1=zeros(1,n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2=[-1.6685 0 0 -0.8399];d3=[-0.9371 0 1.861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4=zeros(1,n-4);d5=2.536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1=diag(d1,1)+diag(d2,2)+diag(d3,3)+diag(d4,4)+diag(d5,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2=A1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=(A1+A2+diag(d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lpha=ones(n,1)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=A*al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immetria=(A==A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Simmetria=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A e'' simmetrica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utovalori=eig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autovalori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A e'' definita positiva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A85-5D8C-4449-8C9F-7D5D987DA86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relative ai quesiti 2 e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92280"/>
            <a:ext cx="8964720" cy="5887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K2=cond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stima cifre p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ifre_perse=round(log10(K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oll=1e-1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[x,iter]=Gausspv_r(A,b,to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rr_rel=norm(x-alpha)/norm(alph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p=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p(4)=b(4)+1e-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[x1,iter1]=Gausspv_r(A,bp,to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rr_rel1=norm(x1-alpha)/norm(alph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=[[iter;iter1] [x';x1'] [err_rel;err_rel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=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%3d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=[st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 %10.6f 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=[st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%10.2e \n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iter           \t\t\t\t    soluzione   \t\t\t\t\t\t  errore \n\n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st,tab'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51280" y="61722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A2E-3EF6-4465-9A16-2AEC2FE2BA4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quesito 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07920"/>
            <a:ext cx="9921960" cy="588744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.3609       0   -1.6685   -0.9371       0    2.5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2.5000         0         0       0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-1.6685       0    3.4695         0       0    1.86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-0.9371       0         0    4.6653       0   -0.83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     0         0         0  2.0000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.5369       0    1.8615   -0.8399       0    5.80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.2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.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.66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.88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.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.36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A e' simme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A e' definita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22200" y="3645000"/>
            <a:ext cx="1509480" cy="2838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utovalori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.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.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4.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6.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9.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08000" y="5589720"/>
            <a:ext cx="3889440" cy="1268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057400" y="914400"/>
            <a:ext cx="3808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17040" y="689040"/>
            <a:ext cx="1826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format 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769-BD2B-4DDE-8D12-93D93FA1614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Tabella dei risulta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81000"/>
            <a:ext cx="9144000" cy="173988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er        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                    soluzione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                   err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   1.000000    1.000000    1.000000    1.000000    1.000000    1.000000  1.11e-0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   1.000002    1.000000    1.000000    1.000022    1.000000    1.000002  9.21e-0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440" y="3767040"/>
            <a:ext cx="2161800" cy="2838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K2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.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Quin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ifre_per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43280" y="400536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Il condizionamento K2 di A è bu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A piccole perturbazioni sui dati corrispond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piccole variazioni sui risult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24720" y="2060640"/>
            <a:ext cx="124308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0A4-CA47-4971-93EB-01550D7794B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e inserire un testo sulla fig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20" y="765000"/>
            <a:ext cx="3747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lezionare l’ic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alla barra opp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liccare su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‘Insert’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cegliere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 Text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osizionarsi nel punto desiderato e scri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criver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_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per ottenere x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(opp.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^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per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liccare fuori dal riquadro per rendere attivo lo scri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801720"/>
            <a:ext cx="5334120" cy="60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087-2321-4A48-8588-78B0B8AD2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e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nserire una freccia sulla fig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9360"/>
            <a:ext cx="3767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lezion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’icona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ppure dal menu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Inser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selezion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osizionarsi n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unto di inizio d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reccia, trascinare 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ouse tene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emuto il s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asto sinistro fino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unto di arrivo d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rec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68480" y="1052640"/>
            <a:ext cx="457200" cy="457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5960" y="1125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456-D840-4D8C-B16F-1F9E93F06B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4120" y="132840"/>
            <a:ext cx="7947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280" y="1028880"/>
            <a:ext cx="8137800" cy="53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 -  Scrivere un </a:t>
            </a:r>
            <a:r>
              <a:rPr b="1" lang="it-IT" sz="3200" spc="-1" strike="noStrike">
                <a:solidFill>
                  <a:srgbClr val="cc3300"/>
                </a:solidFill>
                <a:latin typeface="Times New Roman"/>
              </a:rPr>
              <a:t>file scrip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che consenta di disegnare, sull’intervallo [0,4], le funz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y=3*sin(pi*x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e 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y=exp(-0.2*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ella stessa finestra graf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 consideri la partizione </a:t>
            </a:r>
            <a:r>
              <a:rPr b="1" lang="it-IT" sz="3200" spc="-1" strike="noStrike">
                <a:solidFill>
                  <a:srgbClr val="003399"/>
                </a:solidFill>
                <a:latin typeface="Courier New"/>
              </a:rPr>
              <a:t>x=0:0.02: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 - Inserire le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label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per gli assi x, y ed il 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titol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 -  Usare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gtext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 indicare i vari punti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tersezione delle due cu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 - Memorizzare il file col nome </a:t>
            </a:r>
            <a:r>
              <a:rPr b="1" lang="it-IT" sz="3200" spc="-1" strike="noStrike">
                <a:solidFill>
                  <a:srgbClr val="660066"/>
                </a:solidFill>
                <a:latin typeface="Courier New"/>
              </a:rPr>
              <a:t>grafico</a:t>
            </a:r>
            <a:r>
              <a:rPr b="1" i="1" lang="it-IT" sz="32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2EE-027F-4DAB-A07A-BFE6411A59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4480" y="134640"/>
            <a:ext cx="7578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grafico.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1865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=0:0.02: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3*sin(pi*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lot(x,y,'r'),xlabel('x');ylabel('y');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o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1=exp(-0.2*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lot(x,y1,'g'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osservare il numero delle interse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text('x1');gtext('x2');gtext('x3');gtext('x4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Grafico ed intersezioni di 3*sin(pi*x) e exp(-0.2*x)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off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979640" y="2893680"/>
            <a:ext cx="8460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774440" y="2838600"/>
            <a:ext cx="585720" cy="27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743200"/>
            <a:ext cx="1801800" cy="244440"/>
          </a:xfrm>
          <a:prstGeom prst="leftArrow">
            <a:avLst>
              <a:gd name="adj1" fmla="val 50000"/>
              <a:gd name="adj2" fmla="val 184278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86400"/>
            <a:ext cx="1801800" cy="244440"/>
          </a:xfrm>
          <a:prstGeom prst="leftArrow">
            <a:avLst>
              <a:gd name="adj1" fmla="val 50000"/>
              <a:gd name="adj2" fmla="val 184278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400-5C92-4E43-A143-8B4E2F3DE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09:50:16Z</dcterms:created>
  <dc:creator>Lab. Analisi Numerica</dc:creator>
  <dc:description/>
  <dc:language>en-US</dc:language>
  <cp:lastModifiedBy>Elisabetta Santi</cp:lastModifiedBy>
  <cp:lastPrinted>2003-05-08T12:10:11Z</cp:lastPrinted>
  <dcterms:modified xsi:type="dcterms:W3CDTF">2007-05-18T16:12:34Z</dcterms:modified>
  <cp:revision>127</cp:revision>
  <dc:subject/>
  <dc:title> lezione - laboratorio</dc:title>
</cp:coreProperties>
</file>