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1.wmf" ContentType="image/x-wmf"/>
  <Override PartName="/ppt/media/image7.png" ContentType="image/png"/>
  <Override PartName="/ppt/media/image19.png" ContentType="image/png"/>
  <Override PartName="/ppt/media/image42.wmf" ContentType="image/x-wmf"/>
  <Override PartName="/ppt/media/image39.png" ContentType="image/png"/>
  <Override PartName="/ppt/media/image61.wmf" ContentType="image/x-wmf"/>
  <Override PartName="/ppt/media/image37.wmf" ContentType="image/x-wmf"/>
  <Override PartName="/ppt/media/image36.png" ContentType="image/png"/>
  <Override PartName="/ppt/media/image33.png" ContentType="image/png"/>
  <Override PartName="/ppt/media/image32.png" ContentType="image/png"/>
  <Override PartName="/ppt/media/image30.wmf" ContentType="image/x-wmf"/>
  <Override PartName="/ppt/media/image49.wmf" ContentType="image/x-wmf"/>
  <Override PartName="/ppt/media/image12.wmf" ContentType="image/x-wmf"/>
  <Override PartName="/ppt/media/image55.png" ContentType="image/png"/>
  <Override PartName="/ppt/media/image10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56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11.wmf" ContentType="image/x-wmf"/>
  <Override PartName="/ppt/media/image108.wmf" ContentType="image/x-wmf"/>
  <Override PartName="/ppt/media/image40.wmf" ContentType="image/x-wmf"/>
  <Override PartName="/ppt/media/image15.wmf" ContentType="image/x-wmf"/>
  <Override PartName="/ppt/media/image3.wmf" ContentType="image/x-wmf"/>
  <Override PartName="/ppt/media/image80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4.wmf" ContentType="image/x-wmf"/>
  <Override PartName="/ppt/media/image103.png" ContentType="image/png"/>
  <Override PartName="/ppt/media/image117.wmf" ContentType="image/x-wmf"/>
  <Override PartName="/ppt/media/image20.wmf" ContentType="image/x-wmf"/>
  <Override PartName="/ppt/media/image75.wmf" ContentType="image/x-wmf"/>
  <Override PartName="/ppt/media/image104.png" ContentType="image/png"/>
  <Override PartName="/ppt/media/image58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4.wmf" ContentType="image/x-wmf"/>
  <Override PartName="/ppt/media/image87.wmf" ContentType="image/x-wmf"/>
  <Override PartName="/ppt/media/image88.wmf" ContentType="image/x-wmf"/>
  <Override PartName="/ppt/media/image96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89.wmf" ContentType="image/x-wmf"/>
  <Override PartName="/ppt/media/image111.wmf" ContentType="image/x-wmf"/>
  <Override PartName="/ppt/media/image118.wmf" ContentType="image/x-wmf"/>
  <Override PartName="/ppt/media/image21.wmf" ContentType="image/x-wmf"/>
  <Override PartName="/ppt/media/image64.png" ContentType="image/png"/>
  <Override PartName="/ppt/media/image97.wmf" ContentType="image/x-wmf"/>
  <Override PartName="/ppt/media/image60.wmf" ContentType="image/x-wmf"/>
  <Override PartName="/ppt/media/image71.wmf" ContentType="image/x-wmf"/>
  <Override PartName="/ppt/media/image100.png" ContentType="image/png"/>
  <Override PartName="/ppt/media/image12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25.wmf" ContentType="image/x-wmf"/>
  <Override PartName="/ppt/media/image90.wmf" ContentType="image/x-wmf"/>
  <Override PartName="/ppt/media/image57.png" ContentType="image/png"/>
  <Override PartName="/ppt/media/image2.wmf" ContentType="image/x-wmf"/>
  <Override PartName="/ppt/media/image14.wmf" ContentType="image/x-wmf"/>
  <Override PartName="/ppt/media/image26.wmf" ContentType="image/x-wmf"/>
  <Override PartName="/ppt/media/image9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158-99E5-42A2-B4C1-A94E6FA5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A49-6EB0-440F-9CDF-BF5DC46D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325-02EB-4DF0-83F4-D1464D5D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D33-548C-402C-8B54-945BC3E2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393-6732-476E-9595-57B4AF86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36F-010B-48B0-B6B2-AEC6CE6C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AEB-C587-40C9-9A63-150B8C4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6E9-E4A1-4B72-9AB1-DF29D3E5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9FB-78CD-4B49-BBB3-1C5ECBA1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445-A45A-43B7-8435-29D25299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A45-B164-48E9-B480-0958F489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EB5-215C-4EAB-B827-726B8D5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6F85-F110-41C4-B34B-38E897B86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7.wmf"/><Relationship Id="rId1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0.wmf"/><Relationship Id="rId9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4.wmf"/><Relationship Id="rId9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7.wmf"/><Relationship Id="rId9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image" Target="../media/image120.wmf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it-IT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it-IT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 lezione di laboratorio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7680" y="5503680"/>
            <a:ext cx="632484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600" y="1787400"/>
            <a:ext cx="8153280" cy="3445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aurea Ingegneria Mecca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.S. Modellistica Fisico-Matematica per l’Ingegn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1120" y="556884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.a. 2006-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etodo di Newton: seconda radi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1219320"/>
            <a:ext cx="8880480" cy="4667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ero di Iterazioni :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adice calcolata     : 9.4435167809671094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Ordine stimato       : 1.998219598152285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attore di riduzione : 0.12269596020826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iter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x_app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x_diff      abs(f(x))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    2.000000000000000e-001    0.00e+000    5.53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  1.291942394744767e+000    1.09e+000    3.20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    9.534331952119588e-001    3.39e-001    8.08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   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9.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43618595426242e-001    9.07e-003    9.05e-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   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9.443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16781096928e-001    1.02e-005    1.15e-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  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9.44351678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967109e-001    1.30e-011    4.86e-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   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9.443516780967109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-001    0.00e+000    4.86e-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nvergenza del metodo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di punto fiss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920" y="1371600"/>
                <a:ext cx="4952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84360" y="2243160"/>
                <a:ext cx="60800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71640" y="4200480"/>
                <a:ext cx="504828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  <m:r>
                          <m:t xml:space="preserve">⊆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8520" y="355752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Hp. sufficienti di convergen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unto fisso: grafici di g e di g’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n [0, 1.5]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0840" y="1257480"/>
            <a:ext cx="8227440" cy="1557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121),fplot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1-exp(-2*x-1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[0 1.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rid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on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g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122),fplot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2*exp(-2*x-1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[0 1.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rid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on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derivata di g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320" y="2857680"/>
            <a:ext cx="7162560" cy="4000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51440" y="316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238880" y="3094200"/>
                <a:ext cx="167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207200" y="360036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r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cc"/>
                </a:solidFill>
                <a:latin typeface="Times New Roman"/>
              </a:rPr>
              <a:t>Verifica ipotesi di convergenza del metodo di punto fiss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4920" y="2409840"/>
                <a:ext cx="7824960" cy="22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∞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  <m:r>
                          <m:t xml:space="preserve">⊆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  <m:r>
                          <m:t xml:space="preserve">⊂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43800" y="1514520"/>
            <a:ext cx="79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ai grafici si verificano facilmente le ipotesi 2) e 3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0440" y="4867200"/>
            <a:ext cx="90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Osserviamo che </a:t>
            </a:r>
            <a:r>
              <a:rPr b="1" i="1" lang="it-IT" sz="2800" spc="-1" strike="noStrike">
                <a:solidFill>
                  <a:srgbClr val="3333cc"/>
                </a:solidFill>
                <a:latin typeface="Times New Roman"/>
              </a:rPr>
              <a:t>g’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&gt; 0: la successione generata dal met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di punto fisso è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monot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metodo del punto fiss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1052640"/>
            <a:ext cx="8948880" cy="3873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1-x-exp(-2*x-1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1-exp(-2*x-1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0=0.2;nmax=100;toll=1e-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vect,xdiff,fx,it,p,c]=Punto_fisso(x0,nmax,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oll,fun,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ab=[[0:it]' xvect xdiff f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 iter \t\t\t  x_app \t\t x_dif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abs(f(x)) \n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 %3d  %24.15e %12.2e %12.2e\n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ta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3360" y="4941720"/>
            <a:ext cx="749592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ero di Iterazioni : 1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adice calcolata     : 9.4435167809670972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Ordine stimato       : 0.999282419132207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attore di riduzione : 0.109160887975608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metodo del punto fiss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8760" y="914400"/>
            <a:ext cx="8867520" cy="5887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ter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x_app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x_diff      abs(f(x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    2.000000000000000e-001    0.00e+000    5.53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  7.534030360583935e-001    5.53e-001    1.65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    9.184717809063351e-001    1.65e-001    2.29e-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13954864198140e-001    2.29e-002    2.63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0216893358593e-001    2.63e-003    2.93e-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149393330886e-001    2.93e-004    3.26e-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75890453973e-001    3.26e-005    3.63e-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12229971625e-001    3.63e-006    4.04e-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8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51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274456355e-001    4.04e-007    4.50e-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9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516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24594159e-001    4.50e-008    5.01e-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0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5167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4692988e-001    5.01e-009    5.58e-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1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5167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80268820e-001    5.58e-010    6.21e-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2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516780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889392e-001    6.21e-011    6.91e-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3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516780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958460e-001    6.91e-012    7.69e-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4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5167809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6146e-001    7.69e-013    8.56e-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5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51678096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002e-001    8.56e-014    9.53e-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6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9.4435167809670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97e-001    9.55e-015    1.03e-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644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60480"/>
            <a:ext cx="451476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 u="sng">
                <a:solidFill>
                  <a:srgbClr val="ff0033"/>
                </a:solidFill>
                <a:uFillTx/>
                <a:latin typeface="Times New Roman"/>
              </a:rPr>
              <a:t>SISTEMA MECCANICO  DI RIFERIM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Moto del corpo rigido ADBC: il punto A descrive una circonferenza di raggio OA=R e centro O fisso, il punto B si muove sull’asse x ed il corpo rigido si muove oscilland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62520" y="1515960"/>
            <a:ext cx="3957480" cy="19890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 suppon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ω = cost. rad/sec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|OA| = R = cost.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|AB| = μ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 3 ≤ μ ≤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|AD| =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= hμ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 0 ≤ h ≤ 1</a:t>
            </a:r>
            <a:r>
              <a:rPr b="1" lang="it-IT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|DC| =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=cost. = kμ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2320" y="3710160"/>
            <a:ext cx="8269200" cy="2990160"/>
            <a:chOff x="382320" y="3710160"/>
            <a:chExt cx="8269200" cy="2990160"/>
          </a:xfrm>
        </p:grpSpPr>
        <p:sp>
          <p:nvSpPr>
            <p:cNvPr id="115" name=""/>
            <p:cNvSpPr/>
            <p:nvPr/>
          </p:nvSpPr>
          <p:spPr>
            <a:xfrm>
              <a:off x="2562480" y="3710160"/>
              <a:ext cx="3852000" cy="1973520"/>
            </a:xfrm>
            <a:custGeom>
              <a:avLst/>
              <a:gdLst/>
              <a:ahLst/>
              <a:rect l="l" t="t" r="r" b="b"/>
              <a:pathLst>
                <a:path w="3003" h="1450">
                  <a:moveTo>
                    <a:pt x="22" y="715"/>
                  </a:moveTo>
                  <a:cubicBezTo>
                    <a:pt x="31" y="640"/>
                    <a:pt x="0" y="529"/>
                    <a:pt x="43" y="472"/>
                  </a:cubicBezTo>
                  <a:cubicBezTo>
                    <a:pt x="73" y="433"/>
                    <a:pt x="113" y="416"/>
                    <a:pt x="147" y="382"/>
                  </a:cubicBezTo>
                  <a:cubicBezTo>
                    <a:pt x="159" y="346"/>
                    <a:pt x="186" y="325"/>
                    <a:pt x="216" y="305"/>
                  </a:cubicBezTo>
                  <a:cubicBezTo>
                    <a:pt x="249" y="256"/>
                    <a:pt x="295" y="212"/>
                    <a:pt x="348" y="187"/>
                  </a:cubicBezTo>
                  <a:cubicBezTo>
                    <a:pt x="362" y="180"/>
                    <a:pt x="396" y="154"/>
                    <a:pt x="410" y="153"/>
                  </a:cubicBezTo>
                  <a:cubicBezTo>
                    <a:pt x="484" y="147"/>
                    <a:pt x="558" y="148"/>
                    <a:pt x="632" y="146"/>
                  </a:cubicBezTo>
                  <a:cubicBezTo>
                    <a:pt x="659" y="128"/>
                    <a:pt x="670" y="112"/>
                    <a:pt x="702" y="104"/>
                  </a:cubicBezTo>
                  <a:cubicBezTo>
                    <a:pt x="709" y="99"/>
                    <a:pt x="715" y="93"/>
                    <a:pt x="723" y="90"/>
                  </a:cubicBezTo>
                  <a:cubicBezTo>
                    <a:pt x="736" y="84"/>
                    <a:pt x="752" y="84"/>
                    <a:pt x="764" y="76"/>
                  </a:cubicBezTo>
                  <a:cubicBezTo>
                    <a:pt x="801" y="52"/>
                    <a:pt x="815" y="49"/>
                    <a:pt x="854" y="35"/>
                  </a:cubicBezTo>
                  <a:cubicBezTo>
                    <a:pt x="901" y="0"/>
                    <a:pt x="912" y="6"/>
                    <a:pt x="979" y="0"/>
                  </a:cubicBezTo>
                  <a:cubicBezTo>
                    <a:pt x="1123" y="11"/>
                    <a:pt x="1234" y="17"/>
                    <a:pt x="1389" y="21"/>
                  </a:cubicBezTo>
                  <a:cubicBezTo>
                    <a:pt x="1450" y="36"/>
                    <a:pt x="1513" y="37"/>
                    <a:pt x="1576" y="42"/>
                  </a:cubicBezTo>
                  <a:cubicBezTo>
                    <a:pt x="1662" y="56"/>
                    <a:pt x="1747" y="59"/>
                    <a:pt x="1833" y="76"/>
                  </a:cubicBezTo>
                  <a:cubicBezTo>
                    <a:pt x="1884" y="110"/>
                    <a:pt x="1927" y="155"/>
                    <a:pt x="1979" y="187"/>
                  </a:cubicBezTo>
                  <a:cubicBezTo>
                    <a:pt x="1998" y="216"/>
                    <a:pt x="2062" y="266"/>
                    <a:pt x="2097" y="278"/>
                  </a:cubicBezTo>
                  <a:cubicBezTo>
                    <a:pt x="2144" y="325"/>
                    <a:pt x="2186" y="338"/>
                    <a:pt x="2249" y="347"/>
                  </a:cubicBezTo>
                  <a:cubicBezTo>
                    <a:pt x="2272" y="362"/>
                    <a:pt x="2286" y="380"/>
                    <a:pt x="2312" y="389"/>
                  </a:cubicBezTo>
                  <a:cubicBezTo>
                    <a:pt x="2353" y="447"/>
                    <a:pt x="2448" y="489"/>
                    <a:pt x="2506" y="527"/>
                  </a:cubicBezTo>
                  <a:cubicBezTo>
                    <a:pt x="2531" y="543"/>
                    <a:pt x="2547" y="566"/>
                    <a:pt x="2576" y="576"/>
                  </a:cubicBezTo>
                  <a:cubicBezTo>
                    <a:pt x="2595" y="606"/>
                    <a:pt x="2609" y="598"/>
                    <a:pt x="2638" y="618"/>
                  </a:cubicBezTo>
                  <a:cubicBezTo>
                    <a:pt x="2684" y="650"/>
                    <a:pt x="2721" y="701"/>
                    <a:pt x="2763" y="729"/>
                  </a:cubicBezTo>
                  <a:cubicBezTo>
                    <a:pt x="2773" y="760"/>
                    <a:pt x="2785" y="770"/>
                    <a:pt x="2811" y="791"/>
                  </a:cubicBezTo>
                  <a:cubicBezTo>
                    <a:pt x="2830" y="829"/>
                    <a:pt x="2851" y="866"/>
                    <a:pt x="2881" y="895"/>
                  </a:cubicBezTo>
                  <a:cubicBezTo>
                    <a:pt x="2883" y="902"/>
                    <a:pt x="2883" y="911"/>
                    <a:pt x="2888" y="916"/>
                  </a:cubicBezTo>
                  <a:cubicBezTo>
                    <a:pt x="2900" y="928"/>
                    <a:pt x="2929" y="944"/>
                    <a:pt x="2929" y="944"/>
                  </a:cubicBezTo>
                  <a:cubicBezTo>
                    <a:pt x="2962" y="992"/>
                    <a:pt x="2948" y="971"/>
                    <a:pt x="2971" y="1006"/>
                  </a:cubicBezTo>
                  <a:cubicBezTo>
                    <a:pt x="2976" y="1013"/>
                    <a:pt x="2985" y="1027"/>
                    <a:pt x="2985" y="1027"/>
                  </a:cubicBezTo>
                  <a:cubicBezTo>
                    <a:pt x="3003" y="1119"/>
                    <a:pt x="3000" y="1088"/>
                    <a:pt x="2985" y="1256"/>
                  </a:cubicBezTo>
                  <a:cubicBezTo>
                    <a:pt x="2983" y="1278"/>
                    <a:pt x="2971" y="1298"/>
                    <a:pt x="2964" y="1319"/>
                  </a:cubicBezTo>
                  <a:cubicBezTo>
                    <a:pt x="2962" y="1326"/>
                    <a:pt x="2957" y="1339"/>
                    <a:pt x="2957" y="1339"/>
                  </a:cubicBezTo>
                  <a:cubicBezTo>
                    <a:pt x="2955" y="1367"/>
                    <a:pt x="2958" y="1396"/>
                    <a:pt x="2950" y="1423"/>
                  </a:cubicBezTo>
                  <a:cubicBezTo>
                    <a:pt x="2948" y="1430"/>
                    <a:pt x="2936" y="1427"/>
                    <a:pt x="2929" y="1430"/>
                  </a:cubicBezTo>
                  <a:cubicBezTo>
                    <a:pt x="2922" y="1434"/>
                    <a:pt x="2917" y="1443"/>
                    <a:pt x="2909" y="1444"/>
                  </a:cubicBezTo>
                  <a:cubicBezTo>
                    <a:pt x="2821" y="1450"/>
                    <a:pt x="2733" y="1448"/>
                    <a:pt x="2645" y="1450"/>
                  </a:cubicBezTo>
                  <a:cubicBezTo>
                    <a:pt x="2495" y="1442"/>
                    <a:pt x="2353" y="1421"/>
                    <a:pt x="2201" y="1416"/>
                  </a:cubicBezTo>
                  <a:cubicBezTo>
                    <a:pt x="2156" y="1401"/>
                    <a:pt x="2108" y="1404"/>
                    <a:pt x="2062" y="1395"/>
                  </a:cubicBezTo>
                  <a:cubicBezTo>
                    <a:pt x="1886" y="1400"/>
                    <a:pt x="1765" y="1409"/>
                    <a:pt x="1597" y="1402"/>
                  </a:cubicBezTo>
                  <a:cubicBezTo>
                    <a:pt x="1527" y="1367"/>
                    <a:pt x="1449" y="1345"/>
                    <a:pt x="1375" y="1319"/>
                  </a:cubicBezTo>
                  <a:cubicBezTo>
                    <a:pt x="1335" y="1305"/>
                    <a:pt x="1288" y="1303"/>
                    <a:pt x="1250" y="1284"/>
                  </a:cubicBezTo>
                  <a:cubicBezTo>
                    <a:pt x="1227" y="1272"/>
                    <a:pt x="1205" y="1252"/>
                    <a:pt x="1181" y="1242"/>
                  </a:cubicBezTo>
                  <a:cubicBezTo>
                    <a:pt x="1165" y="1235"/>
                    <a:pt x="1148" y="1233"/>
                    <a:pt x="1132" y="1228"/>
                  </a:cubicBezTo>
                  <a:cubicBezTo>
                    <a:pt x="1094" y="1202"/>
                    <a:pt x="1051" y="1168"/>
                    <a:pt x="1007" y="1152"/>
                  </a:cubicBezTo>
                  <a:cubicBezTo>
                    <a:pt x="954" y="1132"/>
                    <a:pt x="1004" y="1161"/>
                    <a:pt x="945" y="1131"/>
                  </a:cubicBezTo>
                  <a:cubicBezTo>
                    <a:pt x="915" y="1115"/>
                    <a:pt x="888" y="1104"/>
                    <a:pt x="854" y="1097"/>
                  </a:cubicBezTo>
                  <a:cubicBezTo>
                    <a:pt x="792" y="1065"/>
                    <a:pt x="720" y="1042"/>
                    <a:pt x="653" y="1020"/>
                  </a:cubicBezTo>
                  <a:cubicBezTo>
                    <a:pt x="655" y="1034"/>
                    <a:pt x="667" y="1050"/>
                    <a:pt x="660" y="1062"/>
                  </a:cubicBezTo>
                  <a:cubicBezTo>
                    <a:pt x="655" y="1070"/>
                    <a:pt x="641" y="1058"/>
                    <a:pt x="632" y="1055"/>
                  </a:cubicBezTo>
                  <a:cubicBezTo>
                    <a:pt x="618" y="1051"/>
                    <a:pt x="605" y="1046"/>
                    <a:pt x="591" y="1041"/>
                  </a:cubicBezTo>
                  <a:cubicBezTo>
                    <a:pt x="573" y="1035"/>
                    <a:pt x="559" y="1020"/>
                    <a:pt x="542" y="1013"/>
                  </a:cubicBezTo>
                  <a:cubicBezTo>
                    <a:pt x="503" y="996"/>
                    <a:pt x="462" y="984"/>
                    <a:pt x="424" y="965"/>
                  </a:cubicBezTo>
                  <a:cubicBezTo>
                    <a:pt x="389" y="912"/>
                    <a:pt x="258" y="886"/>
                    <a:pt x="195" y="868"/>
                  </a:cubicBezTo>
                  <a:cubicBezTo>
                    <a:pt x="116" y="816"/>
                    <a:pt x="229" y="895"/>
                    <a:pt x="160" y="833"/>
                  </a:cubicBezTo>
                  <a:cubicBezTo>
                    <a:pt x="157" y="830"/>
                    <a:pt x="110" y="799"/>
                    <a:pt x="98" y="791"/>
                  </a:cubicBezTo>
                  <a:cubicBezTo>
                    <a:pt x="84" y="782"/>
                    <a:pt x="70" y="772"/>
                    <a:pt x="56" y="763"/>
                  </a:cubicBezTo>
                  <a:cubicBezTo>
                    <a:pt x="49" y="759"/>
                    <a:pt x="36" y="750"/>
                    <a:pt x="36" y="750"/>
                  </a:cubicBezTo>
                  <a:cubicBezTo>
                    <a:pt x="34" y="743"/>
                    <a:pt x="34" y="735"/>
                    <a:pt x="29" y="729"/>
                  </a:cubicBezTo>
                  <a:cubicBezTo>
                    <a:pt x="24" y="722"/>
                    <a:pt x="11" y="723"/>
                    <a:pt x="8" y="715"/>
                  </a:cubicBezTo>
                  <a:cubicBezTo>
                    <a:pt x="5" y="708"/>
                    <a:pt x="8" y="694"/>
                    <a:pt x="15" y="694"/>
                  </a:cubicBezTo>
                  <a:cubicBezTo>
                    <a:pt x="22" y="694"/>
                    <a:pt x="20" y="708"/>
                    <a:pt x="22" y="715"/>
                  </a:cubicBezTo>
                  <a:close/>
                </a:path>
              </a:pathLst>
            </a:custGeom>
            <a:solidFill>
              <a:srgbClr val="cc99ff">
                <a:alpha val="51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2962440" y="5235840"/>
            <a:ext cx="738720" cy="16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62440" y="5235840"/>
                      <a:ext cx="738720" cy="1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 flipH="1">
              <a:off x="382320" y="5468760"/>
              <a:ext cx="799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3400" y="3947040"/>
              <a:ext cx="0" cy="275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263240" y="4379760"/>
              <a:ext cx="2037240" cy="219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273400" y="4623120"/>
              <a:ext cx="582120" cy="84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5880" y="4623120"/>
              <a:ext cx="3344040" cy="845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800800" y="4528080"/>
              <a:ext cx="144720" cy="168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55200" y="5374800"/>
              <a:ext cx="144720" cy="1670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209320" y="5374800"/>
              <a:ext cx="146160" cy="1670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27160" y="544284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457000" y="416736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809320" y="544284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968120" y="385848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990240" y="3858120"/>
              <a:ext cx="290880" cy="1049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03000" y="3818880"/>
              <a:ext cx="144720" cy="168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922200" y="4817880"/>
              <a:ext cx="144720" cy="168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466440" y="492696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047840" y="373608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4560" y="5340600"/>
              <a:ext cx="0" cy="1110600"/>
            </a:xfrm>
            <a:prstGeom prst="line">
              <a:avLst/>
            </a:prstGeom>
            <a:ln w="28440">
              <a:solidFill>
                <a:srgbClr val="ff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07280" y="5362560"/>
              <a:ext cx="0" cy="1110240"/>
            </a:xfrm>
            <a:prstGeom prst="line">
              <a:avLst/>
            </a:prstGeom>
            <a:ln w="28440">
              <a:solidFill>
                <a:srgbClr val="ff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7771680" y="509436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978800" y="5155560"/>
              <a:ext cx="59040" cy="308880"/>
            </a:xfrm>
            <a:custGeom>
              <a:avLst/>
              <a:gdLst/>
              <a:ahLst/>
              <a:rect l="l" t="t" r="r" b="b"/>
              <a:pathLst>
                <a:path w="143" h="318">
                  <a:moveTo>
                    <a:pt x="136" y="318"/>
                  </a:moveTo>
                  <a:cubicBezTo>
                    <a:pt x="139" y="291"/>
                    <a:pt x="143" y="265"/>
                    <a:pt x="136" y="227"/>
                  </a:cubicBezTo>
                  <a:cubicBezTo>
                    <a:pt x="129" y="189"/>
                    <a:pt x="114" y="129"/>
                    <a:pt x="91" y="91"/>
                  </a:cubicBezTo>
                  <a:cubicBezTo>
                    <a:pt x="68" y="53"/>
                    <a:pt x="34" y="26"/>
                    <a:pt x="0" y="0"/>
                  </a:cubicBezTo>
                </a:path>
              </a:pathLst>
            </a:custGeom>
            <a:noFill/>
            <a:ln w="284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0040" y="5031720"/>
              <a:ext cx="183240" cy="432720"/>
            </a:xfrm>
            <a:custGeom>
              <a:avLst/>
              <a:gdLst/>
              <a:ahLst/>
              <a:rect l="l" t="t" r="r" b="b"/>
              <a:pathLst>
                <a:path w="143" h="318">
                  <a:moveTo>
                    <a:pt x="136" y="318"/>
                  </a:moveTo>
                  <a:cubicBezTo>
                    <a:pt x="139" y="291"/>
                    <a:pt x="143" y="265"/>
                    <a:pt x="136" y="227"/>
                  </a:cubicBezTo>
                  <a:cubicBezTo>
                    <a:pt x="129" y="189"/>
                    <a:pt x="114" y="129"/>
                    <a:pt x="91" y="91"/>
                  </a:cubicBezTo>
                  <a:cubicBezTo>
                    <a:pt x="68" y="53"/>
                    <a:pt x="34" y="26"/>
                    <a:pt x="0" y="0"/>
                  </a:cubicBezTo>
                </a:path>
              </a:pathLst>
            </a:custGeom>
            <a:noFill/>
            <a:ln w="284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439000" y="497052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448160" y="501804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164480" y="558684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073280" y="5402160"/>
              <a:ext cx="880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08080" y="157320"/>
            <a:ext cx="867096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700" spc="-1" strike="noStrike" u="sng">
                <a:solidFill>
                  <a:srgbClr val="ff0033"/>
                </a:solidFill>
                <a:uFillTx/>
                <a:latin typeface="Times New Roman"/>
              </a:rPr>
              <a:t>ESERCIZIO 2: EQUAZIONE NON LINEARE DERIVANTE DA UN PROBLEMA MECCAN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8080" y="3218040"/>
            <a:ext cx="314316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300" spc="-1" strike="noStrike" u="sng">
                <a:solidFill>
                  <a:srgbClr val="ff0033"/>
                </a:solidFill>
                <a:uFillTx/>
                <a:latin typeface="Times New Roman"/>
              </a:rPr>
              <a:t>Punto C: posizio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016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306440" y="4172040"/>
          <a:ext cx="65073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4172040"/>
                    <a:ext cx="6507360" cy="22096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-198360" y="5095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620640"/>
            <a:ext cx="8704080" cy="21776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Sviluppando i calcoli con il metodo delle equazioni indipendenti di posizione (v. “Meccanica Applicata”) si perviene alle seguenti relazioni mediante sviluppo di Taylor arrestato al primo ordine, accettabile essendo l’angolo             piccolo e tanto più piccolo quanto più grande è              (l’angolo           nelle semplificazioni si elimina )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164120" y="1762200"/>
          <a:ext cx="2952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4120" y="1762200"/>
                    <a:ext cx="2952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314880" y="2120760"/>
          <a:ext cx="32040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14880" y="2120760"/>
                    <a:ext cx="320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56080" y="2120760"/>
          <a:ext cx="295560" cy="3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56080" y="2120760"/>
                    <a:ext cx="2955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2680" y="343080"/>
            <a:ext cx="2733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700" spc="-1" strike="noStrike" u="sng">
                <a:solidFill>
                  <a:srgbClr val="ff0033"/>
                </a:solidFill>
                <a:uFillTx/>
                <a:latin typeface="Times New Roman"/>
              </a:rPr>
              <a:t>Punto C: velocit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16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16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195720" y="466560"/>
          <a:ext cx="572616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5720" y="466560"/>
                    <a:ext cx="5726160" cy="2297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452680" y="4168800"/>
          <a:ext cx="6568920" cy="23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2680" y="4168800"/>
                    <a:ext cx="6568920" cy="2303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50840" y="3429000"/>
            <a:ext cx="3665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700" spc="-1" strike="noStrike" u="sng">
                <a:solidFill>
                  <a:srgbClr val="ff0033"/>
                </a:solidFill>
                <a:uFillTx/>
                <a:latin typeface="Times New Roman"/>
              </a:rPr>
              <a:t>Punto C: accelerazi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219240"/>
            <a:ext cx="692460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Consideriamo la velocità del punto C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98240" y="941400"/>
            <a:ext cx="8269200" cy="4154040"/>
            <a:chOff x="498240" y="941400"/>
            <a:chExt cx="8269200" cy="4154040"/>
          </a:xfrm>
        </p:grpSpPr>
        <p:sp>
          <p:nvSpPr>
            <p:cNvPr id="168" name=""/>
            <p:cNvSpPr/>
            <p:nvPr/>
          </p:nvSpPr>
          <p:spPr>
            <a:xfrm>
              <a:off x="2678400" y="2106000"/>
              <a:ext cx="3852000" cy="1973160"/>
            </a:xfrm>
            <a:custGeom>
              <a:avLst/>
              <a:gdLst/>
              <a:ahLst/>
              <a:rect l="l" t="t" r="r" b="b"/>
              <a:pathLst>
                <a:path w="3003" h="1450">
                  <a:moveTo>
                    <a:pt x="22" y="715"/>
                  </a:moveTo>
                  <a:cubicBezTo>
                    <a:pt x="31" y="640"/>
                    <a:pt x="0" y="529"/>
                    <a:pt x="43" y="472"/>
                  </a:cubicBezTo>
                  <a:cubicBezTo>
                    <a:pt x="73" y="433"/>
                    <a:pt x="113" y="416"/>
                    <a:pt x="147" y="382"/>
                  </a:cubicBezTo>
                  <a:cubicBezTo>
                    <a:pt x="159" y="346"/>
                    <a:pt x="186" y="325"/>
                    <a:pt x="216" y="305"/>
                  </a:cubicBezTo>
                  <a:cubicBezTo>
                    <a:pt x="249" y="256"/>
                    <a:pt x="295" y="212"/>
                    <a:pt x="348" y="187"/>
                  </a:cubicBezTo>
                  <a:cubicBezTo>
                    <a:pt x="362" y="180"/>
                    <a:pt x="396" y="154"/>
                    <a:pt x="410" y="153"/>
                  </a:cubicBezTo>
                  <a:cubicBezTo>
                    <a:pt x="484" y="147"/>
                    <a:pt x="558" y="148"/>
                    <a:pt x="632" y="146"/>
                  </a:cubicBezTo>
                  <a:cubicBezTo>
                    <a:pt x="659" y="128"/>
                    <a:pt x="670" y="112"/>
                    <a:pt x="702" y="104"/>
                  </a:cubicBezTo>
                  <a:cubicBezTo>
                    <a:pt x="709" y="99"/>
                    <a:pt x="715" y="93"/>
                    <a:pt x="723" y="90"/>
                  </a:cubicBezTo>
                  <a:cubicBezTo>
                    <a:pt x="736" y="84"/>
                    <a:pt x="752" y="84"/>
                    <a:pt x="764" y="76"/>
                  </a:cubicBezTo>
                  <a:cubicBezTo>
                    <a:pt x="801" y="52"/>
                    <a:pt x="815" y="49"/>
                    <a:pt x="854" y="35"/>
                  </a:cubicBezTo>
                  <a:cubicBezTo>
                    <a:pt x="901" y="0"/>
                    <a:pt x="912" y="6"/>
                    <a:pt x="979" y="0"/>
                  </a:cubicBezTo>
                  <a:cubicBezTo>
                    <a:pt x="1123" y="11"/>
                    <a:pt x="1234" y="17"/>
                    <a:pt x="1389" y="21"/>
                  </a:cubicBezTo>
                  <a:cubicBezTo>
                    <a:pt x="1450" y="36"/>
                    <a:pt x="1513" y="37"/>
                    <a:pt x="1576" y="42"/>
                  </a:cubicBezTo>
                  <a:cubicBezTo>
                    <a:pt x="1662" y="56"/>
                    <a:pt x="1747" y="59"/>
                    <a:pt x="1833" y="76"/>
                  </a:cubicBezTo>
                  <a:cubicBezTo>
                    <a:pt x="1884" y="110"/>
                    <a:pt x="1927" y="155"/>
                    <a:pt x="1979" y="187"/>
                  </a:cubicBezTo>
                  <a:cubicBezTo>
                    <a:pt x="1998" y="216"/>
                    <a:pt x="2062" y="266"/>
                    <a:pt x="2097" y="278"/>
                  </a:cubicBezTo>
                  <a:cubicBezTo>
                    <a:pt x="2144" y="325"/>
                    <a:pt x="2186" y="338"/>
                    <a:pt x="2249" y="347"/>
                  </a:cubicBezTo>
                  <a:cubicBezTo>
                    <a:pt x="2272" y="362"/>
                    <a:pt x="2286" y="380"/>
                    <a:pt x="2312" y="389"/>
                  </a:cubicBezTo>
                  <a:cubicBezTo>
                    <a:pt x="2353" y="447"/>
                    <a:pt x="2448" y="489"/>
                    <a:pt x="2506" y="527"/>
                  </a:cubicBezTo>
                  <a:cubicBezTo>
                    <a:pt x="2531" y="543"/>
                    <a:pt x="2547" y="566"/>
                    <a:pt x="2576" y="576"/>
                  </a:cubicBezTo>
                  <a:cubicBezTo>
                    <a:pt x="2595" y="606"/>
                    <a:pt x="2609" y="598"/>
                    <a:pt x="2638" y="618"/>
                  </a:cubicBezTo>
                  <a:cubicBezTo>
                    <a:pt x="2684" y="650"/>
                    <a:pt x="2721" y="701"/>
                    <a:pt x="2763" y="729"/>
                  </a:cubicBezTo>
                  <a:cubicBezTo>
                    <a:pt x="2773" y="760"/>
                    <a:pt x="2785" y="770"/>
                    <a:pt x="2811" y="791"/>
                  </a:cubicBezTo>
                  <a:cubicBezTo>
                    <a:pt x="2830" y="829"/>
                    <a:pt x="2851" y="866"/>
                    <a:pt x="2881" y="895"/>
                  </a:cubicBezTo>
                  <a:cubicBezTo>
                    <a:pt x="2883" y="902"/>
                    <a:pt x="2883" y="911"/>
                    <a:pt x="2888" y="916"/>
                  </a:cubicBezTo>
                  <a:cubicBezTo>
                    <a:pt x="2900" y="928"/>
                    <a:pt x="2929" y="944"/>
                    <a:pt x="2929" y="944"/>
                  </a:cubicBezTo>
                  <a:cubicBezTo>
                    <a:pt x="2962" y="992"/>
                    <a:pt x="2948" y="971"/>
                    <a:pt x="2971" y="1006"/>
                  </a:cubicBezTo>
                  <a:cubicBezTo>
                    <a:pt x="2976" y="1013"/>
                    <a:pt x="2985" y="1027"/>
                    <a:pt x="2985" y="1027"/>
                  </a:cubicBezTo>
                  <a:cubicBezTo>
                    <a:pt x="3003" y="1119"/>
                    <a:pt x="3000" y="1088"/>
                    <a:pt x="2985" y="1256"/>
                  </a:cubicBezTo>
                  <a:cubicBezTo>
                    <a:pt x="2983" y="1278"/>
                    <a:pt x="2971" y="1298"/>
                    <a:pt x="2964" y="1319"/>
                  </a:cubicBezTo>
                  <a:cubicBezTo>
                    <a:pt x="2962" y="1326"/>
                    <a:pt x="2957" y="1339"/>
                    <a:pt x="2957" y="1339"/>
                  </a:cubicBezTo>
                  <a:cubicBezTo>
                    <a:pt x="2955" y="1367"/>
                    <a:pt x="2958" y="1396"/>
                    <a:pt x="2950" y="1423"/>
                  </a:cubicBezTo>
                  <a:cubicBezTo>
                    <a:pt x="2948" y="1430"/>
                    <a:pt x="2936" y="1427"/>
                    <a:pt x="2929" y="1430"/>
                  </a:cubicBezTo>
                  <a:cubicBezTo>
                    <a:pt x="2922" y="1434"/>
                    <a:pt x="2917" y="1443"/>
                    <a:pt x="2909" y="1444"/>
                  </a:cubicBezTo>
                  <a:cubicBezTo>
                    <a:pt x="2821" y="1450"/>
                    <a:pt x="2733" y="1448"/>
                    <a:pt x="2645" y="1450"/>
                  </a:cubicBezTo>
                  <a:cubicBezTo>
                    <a:pt x="2495" y="1442"/>
                    <a:pt x="2353" y="1421"/>
                    <a:pt x="2201" y="1416"/>
                  </a:cubicBezTo>
                  <a:cubicBezTo>
                    <a:pt x="2156" y="1401"/>
                    <a:pt x="2108" y="1404"/>
                    <a:pt x="2062" y="1395"/>
                  </a:cubicBezTo>
                  <a:cubicBezTo>
                    <a:pt x="1886" y="1400"/>
                    <a:pt x="1765" y="1409"/>
                    <a:pt x="1597" y="1402"/>
                  </a:cubicBezTo>
                  <a:cubicBezTo>
                    <a:pt x="1527" y="1367"/>
                    <a:pt x="1449" y="1345"/>
                    <a:pt x="1375" y="1319"/>
                  </a:cubicBezTo>
                  <a:cubicBezTo>
                    <a:pt x="1335" y="1305"/>
                    <a:pt x="1288" y="1303"/>
                    <a:pt x="1250" y="1284"/>
                  </a:cubicBezTo>
                  <a:cubicBezTo>
                    <a:pt x="1227" y="1272"/>
                    <a:pt x="1205" y="1252"/>
                    <a:pt x="1181" y="1242"/>
                  </a:cubicBezTo>
                  <a:cubicBezTo>
                    <a:pt x="1165" y="1235"/>
                    <a:pt x="1148" y="1233"/>
                    <a:pt x="1132" y="1228"/>
                  </a:cubicBezTo>
                  <a:cubicBezTo>
                    <a:pt x="1094" y="1202"/>
                    <a:pt x="1051" y="1168"/>
                    <a:pt x="1007" y="1152"/>
                  </a:cubicBezTo>
                  <a:cubicBezTo>
                    <a:pt x="954" y="1132"/>
                    <a:pt x="1004" y="1161"/>
                    <a:pt x="945" y="1131"/>
                  </a:cubicBezTo>
                  <a:cubicBezTo>
                    <a:pt x="915" y="1115"/>
                    <a:pt x="888" y="1104"/>
                    <a:pt x="854" y="1097"/>
                  </a:cubicBezTo>
                  <a:cubicBezTo>
                    <a:pt x="792" y="1065"/>
                    <a:pt x="720" y="1042"/>
                    <a:pt x="653" y="1020"/>
                  </a:cubicBezTo>
                  <a:cubicBezTo>
                    <a:pt x="655" y="1034"/>
                    <a:pt x="667" y="1050"/>
                    <a:pt x="660" y="1062"/>
                  </a:cubicBezTo>
                  <a:cubicBezTo>
                    <a:pt x="655" y="1070"/>
                    <a:pt x="641" y="1058"/>
                    <a:pt x="632" y="1055"/>
                  </a:cubicBezTo>
                  <a:cubicBezTo>
                    <a:pt x="618" y="1051"/>
                    <a:pt x="605" y="1046"/>
                    <a:pt x="591" y="1041"/>
                  </a:cubicBezTo>
                  <a:cubicBezTo>
                    <a:pt x="573" y="1035"/>
                    <a:pt x="559" y="1020"/>
                    <a:pt x="542" y="1013"/>
                  </a:cubicBezTo>
                  <a:cubicBezTo>
                    <a:pt x="503" y="996"/>
                    <a:pt x="462" y="984"/>
                    <a:pt x="424" y="965"/>
                  </a:cubicBezTo>
                  <a:cubicBezTo>
                    <a:pt x="389" y="912"/>
                    <a:pt x="258" y="886"/>
                    <a:pt x="195" y="868"/>
                  </a:cubicBezTo>
                  <a:cubicBezTo>
                    <a:pt x="116" y="816"/>
                    <a:pt x="229" y="895"/>
                    <a:pt x="160" y="833"/>
                  </a:cubicBezTo>
                  <a:cubicBezTo>
                    <a:pt x="157" y="830"/>
                    <a:pt x="110" y="799"/>
                    <a:pt x="98" y="791"/>
                  </a:cubicBezTo>
                  <a:cubicBezTo>
                    <a:pt x="84" y="782"/>
                    <a:pt x="70" y="772"/>
                    <a:pt x="56" y="763"/>
                  </a:cubicBezTo>
                  <a:cubicBezTo>
                    <a:pt x="49" y="759"/>
                    <a:pt x="36" y="750"/>
                    <a:pt x="36" y="750"/>
                  </a:cubicBezTo>
                  <a:cubicBezTo>
                    <a:pt x="34" y="743"/>
                    <a:pt x="34" y="735"/>
                    <a:pt x="29" y="729"/>
                  </a:cubicBezTo>
                  <a:cubicBezTo>
                    <a:pt x="24" y="722"/>
                    <a:pt x="11" y="723"/>
                    <a:pt x="8" y="715"/>
                  </a:cubicBezTo>
                  <a:cubicBezTo>
                    <a:pt x="5" y="708"/>
                    <a:pt x="8" y="694"/>
                    <a:pt x="15" y="694"/>
                  </a:cubicBezTo>
                  <a:cubicBezTo>
                    <a:pt x="22" y="694"/>
                    <a:pt x="20" y="708"/>
                    <a:pt x="22" y="715"/>
                  </a:cubicBezTo>
                  <a:close/>
                </a:path>
              </a:pathLst>
            </a:custGeom>
            <a:solidFill>
              <a:srgbClr val="cc99ff">
                <a:alpha val="51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3078360" y="3631680"/>
            <a:ext cx="738720" cy="16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8360" y="3631680"/>
                      <a:ext cx="738720" cy="1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 flipH="1">
              <a:off x="498240" y="3864240"/>
              <a:ext cx="799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9320" y="2342880"/>
              <a:ext cx="0" cy="275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79160" y="2775600"/>
              <a:ext cx="2037240" cy="219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389320" y="3018600"/>
              <a:ext cx="582120" cy="84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71800" y="3018960"/>
              <a:ext cx="3344040" cy="8449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916720" y="2923560"/>
              <a:ext cx="144720" cy="168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171120" y="3770280"/>
              <a:ext cx="144720" cy="167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325240" y="3770280"/>
              <a:ext cx="146160" cy="167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143080" y="383832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572920" y="256320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925240" y="383832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084040" y="225432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106160" y="2254320"/>
              <a:ext cx="290880" cy="10490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318920" y="2214720"/>
              <a:ext cx="144720" cy="168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38120" y="3213720"/>
              <a:ext cx="144720" cy="168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582360" y="332280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163760" y="223380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0480" y="3736440"/>
              <a:ext cx="0" cy="1110240"/>
            </a:xfrm>
            <a:prstGeom prst="line">
              <a:avLst/>
            </a:prstGeom>
            <a:ln w="28440">
              <a:solidFill>
                <a:srgbClr val="ff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23200" y="3758040"/>
              <a:ext cx="0" cy="1110240"/>
            </a:xfrm>
            <a:prstGeom prst="line">
              <a:avLst/>
            </a:prstGeom>
            <a:ln w="28440">
              <a:solidFill>
                <a:srgbClr val="ff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887600" y="348984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94720" y="3551040"/>
              <a:ext cx="59040" cy="308880"/>
            </a:xfrm>
            <a:custGeom>
              <a:avLst/>
              <a:gdLst/>
              <a:ahLst/>
              <a:rect l="l" t="t" r="r" b="b"/>
              <a:pathLst>
                <a:path w="143" h="318">
                  <a:moveTo>
                    <a:pt x="136" y="318"/>
                  </a:moveTo>
                  <a:cubicBezTo>
                    <a:pt x="139" y="291"/>
                    <a:pt x="143" y="265"/>
                    <a:pt x="136" y="227"/>
                  </a:cubicBezTo>
                  <a:cubicBezTo>
                    <a:pt x="129" y="189"/>
                    <a:pt x="114" y="129"/>
                    <a:pt x="91" y="91"/>
                  </a:cubicBezTo>
                  <a:cubicBezTo>
                    <a:pt x="68" y="53"/>
                    <a:pt x="34" y="26"/>
                    <a:pt x="0" y="0"/>
                  </a:cubicBezTo>
                </a:path>
              </a:pathLst>
            </a:custGeom>
            <a:noFill/>
            <a:ln w="284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85960" y="3427200"/>
              <a:ext cx="183240" cy="432360"/>
            </a:xfrm>
            <a:custGeom>
              <a:avLst/>
              <a:gdLst/>
              <a:ahLst/>
              <a:rect l="l" t="t" r="r" b="b"/>
              <a:pathLst>
                <a:path w="143" h="318">
                  <a:moveTo>
                    <a:pt x="136" y="318"/>
                  </a:moveTo>
                  <a:cubicBezTo>
                    <a:pt x="139" y="291"/>
                    <a:pt x="143" y="265"/>
                    <a:pt x="136" y="227"/>
                  </a:cubicBezTo>
                  <a:cubicBezTo>
                    <a:pt x="129" y="189"/>
                    <a:pt x="114" y="129"/>
                    <a:pt x="91" y="91"/>
                  </a:cubicBezTo>
                  <a:cubicBezTo>
                    <a:pt x="68" y="53"/>
                    <a:pt x="34" y="26"/>
                    <a:pt x="0" y="0"/>
                  </a:cubicBezTo>
                </a:path>
              </a:pathLst>
            </a:custGeom>
            <a:noFill/>
            <a:ln w="284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554920" y="336636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564080" y="341388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280400" y="3982680"/>
              <a:ext cx="87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189200" y="3797640"/>
              <a:ext cx="880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3412080" y="941400"/>
              <a:ext cx="930960" cy="129528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97400" y="2289960"/>
              <a:ext cx="250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4520" y="1391400"/>
              <a:ext cx="1357200" cy="864000"/>
            </a:xfrm>
            <a:custGeom>
              <a:avLst/>
              <a:gdLst/>
              <a:ahLst/>
              <a:rect l="l" t="t" r="r" b="b"/>
              <a:pathLst>
                <a:path w="998" h="559">
                  <a:moveTo>
                    <a:pt x="998" y="559"/>
                  </a:moveTo>
                  <a:cubicBezTo>
                    <a:pt x="998" y="483"/>
                    <a:pt x="998" y="407"/>
                    <a:pt x="953" y="332"/>
                  </a:cubicBezTo>
                  <a:cubicBezTo>
                    <a:pt x="908" y="257"/>
                    <a:pt x="809" y="159"/>
                    <a:pt x="726" y="106"/>
                  </a:cubicBezTo>
                  <a:cubicBezTo>
                    <a:pt x="643" y="53"/>
                    <a:pt x="552" y="30"/>
                    <a:pt x="454" y="15"/>
                  </a:cubicBezTo>
                  <a:cubicBezTo>
                    <a:pt x="356" y="0"/>
                    <a:pt x="212" y="7"/>
                    <a:pt x="136" y="15"/>
                  </a:cubicBezTo>
                  <a:cubicBezTo>
                    <a:pt x="60" y="23"/>
                    <a:pt x="23" y="53"/>
                    <a:pt x="0" y="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3840" y="1145160"/>
              <a:ext cx="4654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el-GR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it-IT" sz="27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99880" y="960120"/>
              <a:ext cx="4654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2" name=""/>
          <p:cNvGraphicFramePr/>
          <p:nvPr/>
        </p:nvGraphicFramePr>
        <p:xfrm>
          <a:off x="2827440" y="712800"/>
          <a:ext cx="40644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7440" y="712800"/>
                    <a:ext cx="4064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sercizio 1: prima prova parziale di Analisi Numerica del 19-05-0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65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a data l’equ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565440" y="1643040"/>
                <a:ext cx="33717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6320" y="1981080"/>
            <a:ext cx="8915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) Con considerazioni teoriche e grafiche si separino le soluzio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) Si considerino le due radici       e       e, dopo avere enunciato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eorema di convergenza (anche solo  locale) del metodo d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Newto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si verifichi se, nei due casi, le  ipotesi sono soddisfat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) si inneschi il metodo suddetto con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0 = -0.55 per la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adice e con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0 = 0.2 per la seconda; si eseguano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6 iterazion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, specificando se l’andamento delle approssimazioni 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llo previsto dal metodo di Newton. Si motivi la risposta e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ca quante cifre si possono considerare corrette nell’ul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pprossimazione nei due c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)  Dire se il metodo di punto fis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è convergente alla radice maggiore nell’intervallo [0, 1.5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876920" y="5627520"/>
                <a:ext cx="3889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191120" y="2362320"/>
                <a:ext cx="465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861080" y="2362320"/>
                <a:ext cx="498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1638360"/>
          <a:ext cx="868824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38360"/>
                    <a:ext cx="8688240" cy="39020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50840" y="219240"/>
            <a:ext cx="692460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Dalle formule precedenti si ricava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22400" y="5769000"/>
            <a:ext cx="599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è l’angolo che il vettore velocità forma con l’asse x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77800" y="5711760"/>
          <a:ext cx="387360" cy="49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800" y="5711760"/>
                    <a:ext cx="3873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691080" y="2133720"/>
          <a:ext cx="5344920" cy="15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1080" y="2133720"/>
                    <a:ext cx="5344920" cy="15523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4920" y="1557360"/>
            <a:ext cx="887904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Si tratta dunque di risolvere l’equazione non lineare nell’incognita </a:t>
            </a:r>
            <a:r>
              <a:rPr b="1" i="1" lang="it-IT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684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ff0033"/>
                </a:solidFill>
                <a:latin typeface="Times New Roman"/>
              </a:rPr>
              <a:t>PROBLEMA: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Fissati i valori dei parametri R, </a:t>
            </a:r>
            <a:r>
              <a:rPr b="1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 h, k 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 determinare il tempo t* in cui il vettore velocità forma con l’asse delle </a:t>
            </a:r>
            <a:r>
              <a:rPr b="1" i="1" lang="it-IT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 un angolo di </a:t>
            </a:r>
            <a:r>
              <a:rPr b="1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/4. Essendo il moto periodico, il corpo assumerà la stessa velocità in direzione e modulo dopo intervalli di ampiezza 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614760"/>
            <a:ext cx="870444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 assume per risolvere l’equ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ω = cost.=300rad/sec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|OA| = R = cost.=0.0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|AB| = μ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 μ=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|AD| =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= hμ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 h=0.5 ( in questo caso D è a metà tra A e B, potrebbe anche essere h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|DC| =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=cost. = kμR, con k=         =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327480" y="6145200"/>
          <a:ext cx="3808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27480" y="6145200"/>
                    <a:ext cx="380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8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</a:rPr>
              <a:t>Andamento dell’angolo</a:t>
            </a:r>
            <a:r>
              <a:rPr b="0" lang="it-IT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92560" y="3267000"/>
            <a:ext cx="5851440" cy="3494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836640"/>
            <a:ext cx="91440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un ='atan((1/2*cos(x)-3/80*sin(2*x))/(-sin(x)+3/10*cos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-1/16*sin(2*x)))'; 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% x=300*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lot(fun,[3/2 2]*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hold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lot('pi/4',[3/2 2]*pi,'r'),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itle('Andamento angolo velocità-asse x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label('\omega*t'), ylabel('angolo \alpha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09000" y="-27000"/>
          <a:ext cx="62208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09000" y="-27000"/>
                    <a:ext cx="622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struzioni Matla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576080"/>
            <a:ext cx="9144000" cy="469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lea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nmax=1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oll=1e-1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% Attenzione!!!! Nelle formule seguenti c’è x al posto di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% perché la function lavora con la variabil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un ='atan((1/2*cos(300*x)-3/80*sin(600*x))/(-sin(300*x)+3/10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*cos(300*x)-1/16*sin(600*x)))-1/4*pi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x0=input('x0= ')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% si assuma x0= 3/2*pi/300;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dfun ='-1200*(15*sin(300*x)*cos(300*x)^2- 15*sin(300*x)+8*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os(300*x)^3+100)/(480*sin(300*x)*cos(300*x)+511*cos(300*x)^2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+120*sin(300*x)*cos(300*x)^2-800-200*cos(300*x)+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200*cos(300*x)^3+17*cos(300*x)^4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[xvect,xdiff,fx,it,p,c]=Newton(x0,nmax,toll,fun,dfu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iter=0: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 iter \t\t\t  x_app \t\t x_diff  fx\n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b=[iter' xvect xdiff fx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printf('%1d  %15.12f %18.8e %18.8e \n',tab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" y="857160"/>
            <a:ext cx="8343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Times New Roman"/>
              </a:rPr>
              <a:t>Si applica il metodo di Newton per risolvere il proble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738360" cy="1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383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e Commen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955800"/>
            <a:ext cx="8993160" cy="57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&gt;&gt; pr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x0= 3/2*pi/300;    % valore iniziale di x0 circa 0.0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Numero di Iterazioni :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Radice calcolata     : 2.0316029453846571e-0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Ordine stimato       : 1.991692849480339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Fattore di riduzione : 273.1853628037712800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iter    xapp              xdiff                 f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0   0.015707963268    0.00000000e+000    7.85398163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1   0.020260996099    4.55303283e-003    1.71421453e-0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2   0.020316957746    5.59616472e-005    2.94111266e-00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3   0.020316029718    9.28028509e-007    8.36364794e-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4   0.020316029454    2.64053810e-010    6.55031585e-0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5   0.020316029454    2.08166817e-017    0.00000000e+000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Courier New"/>
              </a:rPr>
              <a:t>% il valore approssimato trovato permette di determin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Courier New"/>
              </a:rPr>
              <a:t>% il valore approssimato dell’angolo       pari a cir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Courier New"/>
              </a:rPr>
              <a:t>% 6.0948 radianti, cioè circa 349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724360" y="5807160"/>
          <a:ext cx="79236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5807160"/>
                    <a:ext cx="792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8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osizione del corpo in corrispondenza della soluzio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079640" y="1419120"/>
          <a:ext cx="7273800" cy="523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419120"/>
                    <a:ext cx="727380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68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sercizio 3 (Esame 21/02/2005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90920" y="1676520"/>
          <a:ext cx="398592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76520"/>
                    <a:ext cx="39859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8160" y="3048120"/>
            <a:ext cx="90295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1)  si provi, con le dovute motivazioni, che essa ammette un solo zero e si stabilisca l’intervallo che lo contien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2) si verifichi, dopo aver dato l’enunciato del teorema, che il metodo di Newton  per la ricerca di tale zero è conver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914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ata la fun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3) Si costruisca un file MATLAB: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ognome_Nome.m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che una volta avvia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accia visualizzare una schermata con i dati personali (cognome, nome, matricola, corso di Laurea) ed una breve presentazione del problem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tenga le istruzioni MATLAB relative ai punti 1 e 2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metta di introdurre da input i valori: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=0.5 del punto di innesco,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nmax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del numero massimo di iterazion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9280" y="8730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0080" indent="-280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) risolva il problema con il metodo di Newton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) faccia visualizzare una tabella riassuntiva che riporti:  il vettore i delle iterate, il vettore delle approssimazioni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i valori del residuo calcolato in tali approssimazioni, il vettore dei rapporti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alcolati nei nodi con i seguenti formati di stamp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780000" y="3500280"/>
          <a:ext cx="8776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500280"/>
                    <a:ext cx="8776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2133720"/>
            <a:ext cx="7010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76320"/>
            <a:ext cx="9144000" cy="6476760"/>
            <a:chOff x="0" y="76320"/>
            <a:chExt cx="9144000" cy="6476760"/>
          </a:xfrm>
        </p:grpSpPr>
        <p:sp>
          <p:nvSpPr>
            <p:cNvPr id="247" name=""/>
            <p:cNvSpPr/>
            <p:nvPr/>
          </p:nvSpPr>
          <p:spPr>
            <a:xfrm>
              <a:off x="0" y="76320"/>
              <a:ext cx="9144000" cy="64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277200" indent="-277200">
                <a:spcBef>
                  <a:spcPts val="850"/>
                </a:spcBef>
                <a:tabLst>
                  <a:tab algn="l" pos="0"/>
                  <a:tab algn="l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it-IT" sz="3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    cifra intera per i valori delle iterate;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200" indent="-277200">
                <a:spcBef>
                  <a:spcPts val="850"/>
                </a:spcBef>
                <a:tabLst>
                  <a:tab algn="l" pos="0"/>
                  <a:tab algn="l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it-IT" sz="3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  cifre decimali e formato virgola fissa per   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200" indent="-277200">
                <a:spcBef>
                  <a:spcPts val="850"/>
                </a:spcBef>
                <a:tabLst>
                  <a:tab algn="l" pos="0"/>
                  <a:tab algn="l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il valore di </a:t>
              </a:r>
              <a:r>
                <a:rPr b="1" i="1" lang="it-IT" sz="3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it-IT" sz="3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200" indent="-277200">
                <a:spcBef>
                  <a:spcPts val="850"/>
                </a:spcBef>
                <a:tabLst>
                  <a:tab algn="l" pos="0"/>
                  <a:tab algn="l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it-IT" sz="3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  cifre decimali e formato esponenziale per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200" indent="-277200">
                <a:spcBef>
                  <a:spcPts val="850"/>
                </a:spcBef>
                <a:tabLst>
                  <a:tab algn="l" pos="0"/>
                  <a:tab algn="l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i valori del residuo calcolato in </a:t>
              </a:r>
              <a:r>
                <a:rPr b="1" i="1" lang="it-IT" sz="3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it-IT" sz="3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200" indent="-277200">
                <a:spcBef>
                  <a:spcPts val="850"/>
                </a:spcBef>
                <a:tabLst>
                  <a:tab algn="l" pos="0"/>
                  <a:tab algn="l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it-IT" sz="3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  cifre decimali e formato esponenziale per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200" indent="-277200">
                <a:spcBef>
                  <a:spcPts val="850"/>
                </a:spcBef>
                <a:tabLst>
                  <a:tab algn="l" pos="0"/>
                  <a:tab algn="l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i valori del rapporto          in tali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200" indent="-277200">
                <a:spcBef>
                  <a:spcPts val="850"/>
                </a:spcBef>
                <a:tabLst>
                  <a:tab algn="l" pos="0"/>
                  <a:tab algn="l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approssimazioni </a:t>
              </a:r>
              <a:r>
                <a:rPr b="1" i="1" lang="it-IT" sz="3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it-IT" sz="3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200" indent="-277200">
                <a:spcBef>
                  <a:spcPts val="850"/>
                </a:spcBef>
                <a:tabLst>
                  <a:tab algn="l" pos="0"/>
                  <a:tab algn="l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400" spc="-1" strike="noStrike">
                  <a:solidFill>
                    <a:srgbClr val="000000"/>
                  </a:solidFill>
                  <a:latin typeface="Times New Roman"/>
                </a:rPr>
                <a:t>4) Si commentino i risultati indicando cosa rappresenta il limite dell’ultimo vettore richiesto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8" name=""/>
            <p:cNvGraphicFramePr/>
            <p:nvPr/>
          </p:nvGraphicFramePr>
          <p:xfrm>
            <a:off x="5105520" y="3657600"/>
            <a:ext cx="75384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657600"/>
                      <a:ext cx="753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Considerazioni teorich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funzione esis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u tutto l’asse reale, e ri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411280" y="1762200"/>
          <a:ext cx="27352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62200"/>
                    <a:ext cx="2735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28360" y="314964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ol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38560" y="3075120"/>
          <a:ext cx="612108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3075120"/>
                    <a:ext cx="612108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34800" y="3929040"/>
            <a:ext cx="819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punto trovato è di massimo ed in esso  la funzione v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63640" y="4307040"/>
          <a:ext cx="2664000" cy="85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4307040"/>
                    <a:ext cx="26640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7800" y="5373720"/>
            <a:ext cx="90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Sulla base del limite e del valore di </a:t>
            </a:r>
            <a:r>
              <a:rPr b="1" i="1" lang="it-IT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nel suo massim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si deduce che la funzione ha 2 zeri disposti rispettiv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a sinistra ed a destra del mass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Punto 1: proprietà di </a:t>
            </a:r>
            <a:r>
              <a:rPr b="1" i="1" lang="it-IT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378320" y="1916280"/>
                <a:ext cx="9144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80880" y="3284640"/>
            <a:ext cx="8534520" cy="1276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zeri si possono ricercare nei punti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che verificano l’uguaglian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87280" y="692280"/>
          <a:ext cx="624060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692280"/>
                    <a:ext cx="6240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50920" y="1700280"/>
          <a:ext cx="39164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00280"/>
                    <a:ext cx="39164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418000" y="1773360"/>
          <a:ext cx="347508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8000" y="1773360"/>
                    <a:ext cx="3475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002040" y="3789360"/>
          <a:ext cx="2938320" cy="6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02040" y="3789360"/>
                    <a:ext cx="29383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58680" y="465300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enendo conto 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4360" y="5127480"/>
          <a:ext cx="7488000" cy="96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5127480"/>
                    <a:ext cx="7488000" cy="9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25280" y="608976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duciamo 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068560" y="6021360"/>
          <a:ext cx="4160880" cy="66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68560" y="6021360"/>
                    <a:ext cx="41608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eparazione grafica</a:t>
            </a:r>
            <a:r>
              <a:rPr b="1" i="1" lang="it-IT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n [-0.5,3]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762120"/>
            <a:ext cx="4952880" cy="426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x=linspace(-0.5,3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228b22"/>
                </a:solidFill>
                <a:latin typeface="Courier New"/>
              </a:rPr>
              <a:t>%100 pu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1=log(x+2/3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2=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plot(x,f1,x,-f2,[-0.5 3],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3399"/>
                </a:solidFill>
                <a:latin typeface="Courier New"/>
              </a:rPr>
              <a:t>separazione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3399"/>
                </a:solidFill>
                <a:latin typeface="Courier New"/>
              </a:rPr>
              <a:t>grafica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'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99"/>
                </a:solidFill>
                <a:latin typeface="Courier New"/>
              </a:rPr>
              <a:t>% fplot(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'</a:t>
            </a:r>
            <a:r>
              <a:rPr b="1" lang="it-IT" sz="2200" spc="-1" strike="noStrike">
                <a:solidFill>
                  <a:srgbClr val="003399"/>
                </a:solidFill>
                <a:latin typeface="Courier New"/>
              </a:rPr>
              <a:t>log(x+2/3) 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'</a:t>
            </a:r>
            <a:r>
              <a:rPr b="1" lang="it-IT" sz="2200" spc="-1" strike="noStrike">
                <a:solidFill>
                  <a:srgbClr val="003399"/>
                </a:solidFill>
                <a:latin typeface="Courier New"/>
              </a:rPr>
              <a:t>,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99"/>
                </a:solidFill>
                <a:latin typeface="Courier New"/>
              </a:rPr>
              <a:t>[-0.5 3]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99"/>
                </a:solidFill>
                <a:latin typeface="Courier New"/>
              </a:rPr>
              <a:t>% grid, hold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99"/>
                </a:solidFill>
                <a:latin typeface="Courier New"/>
              </a:rPr>
              <a:t>% fplot(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'</a:t>
            </a:r>
            <a:r>
              <a:rPr b="1" lang="it-IT" sz="2200" spc="-1" strike="noStrike">
                <a:solidFill>
                  <a:srgbClr val="003399"/>
                </a:solidFill>
                <a:latin typeface="Courier New"/>
              </a:rPr>
              <a:t>-x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'</a:t>
            </a:r>
            <a:r>
              <a:rPr b="1" lang="it-IT" sz="2200" spc="-1" strike="noStrike">
                <a:solidFill>
                  <a:srgbClr val="003399"/>
                </a:solidFill>
                <a:latin typeface="Courier New"/>
              </a:rPr>
              <a:t>,[-0.5 3],'g'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5791320"/>
          <a:ext cx="831996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791320"/>
                    <a:ext cx="83199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788000" y="14130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rafico di 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) in [0, 0.5]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32040"/>
            <a:ext cx="7920000" cy="1923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lot('log(x+2/3)+x',[0,0.5]),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hold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lot('0*x',[0,0.5], 'r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itle('grafico della funzione in [0,0.5]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hold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5292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0676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Teorema di </a:t>
            </a:r>
            <a:r>
              <a:rPr b="1" lang="it-IT" sz="4400" spc="-1" strike="noStrike" u="sng">
                <a:solidFill>
                  <a:srgbClr val="ff0000"/>
                </a:solidFill>
                <a:uFillTx/>
                <a:latin typeface="Times New Roman"/>
              </a:rPr>
              <a:t>convergenza globale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           del metodo di Newton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12640" y="1484280"/>
          <a:ext cx="787104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1484280"/>
                    <a:ext cx="787104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0" y="5446800"/>
          <a:ext cx="914400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46800"/>
                    <a:ext cx="914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1042920" y="5467320"/>
            <a:ext cx="2749680" cy="9860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3645000"/>
            <a:ext cx="6480360" cy="1512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657600" y="201924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Verifica delle ipotesi di convergen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33344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(0)= -0.4055 &lt; 0  f(0.5)= 0.6542 &gt;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334120" y="990720"/>
          <a:ext cx="300816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990720"/>
                    <a:ext cx="30081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52280" y="3048120"/>
            <a:ext cx="3657600" cy="520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df=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1./(x+2/3)+1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6021360"/>
          <a:ext cx="4859280" cy="69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021360"/>
                    <a:ext cx="48592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733920" y="9907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roprietà di 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” in [0, 0.5]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3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ddf=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-1./(x+2/3).^2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0" y="5257800"/>
          <a:ext cx="9072720" cy="12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072720" cy="1271520"/>
                  </a:xfrm>
                  <a:prstGeom prst="rect">
                    <a:avLst/>
                  </a:prstGeom>
                  <a:ln w="9360">
                    <a:solidFill>
                      <a:srgbClr val="00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59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Verifica ultime ipotesi per la </a:t>
            </a: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convergenza global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484280"/>
          <a:ext cx="903600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484280"/>
                    <a:ext cx="9036000" cy="2274840"/>
                  </a:xfrm>
                  <a:prstGeom prst="rect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0" y="407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Times New Roman"/>
              </a:rPr>
              <a:t>Sono verificate tutte le ipotesi 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Teorema di convergenza global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20600" y="5445000"/>
          <a:ext cx="841212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00" y="5445000"/>
                    <a:ext cx="841212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Punti c e d: istruzioni metodo di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Newt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8280" y="1311120"/>
            <a:ext cx="8280360" cy="3020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0=input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x0= 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;    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x0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max=input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nmax= 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;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nmax=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oll=1e-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log(x+2/3)+x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fun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1./(x+2/3)+1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vect,xdiff,fx,it,p,c]=Newton(x0,nmax,toll,fun,df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4991040"/>
            <a:ext cx="8839440" cy="1557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umero di Iterazioni :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adice calcolata     : 1.7379908022086071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Ordine stimato       : 2.0087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attore di riduzione : 0.34805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5715000"/>
            <a:ext cx="198144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5029200"/>
            <a:ext cx="1440000" cy="314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5943600"/>
            <a:ext cx="1152360" cy="71280"/>
          </a:xfrm>
          <a:prstGeom prst="leftArrow">
            <a:avLst>
              <a:gd name="adj1" fmla="val 50000"/>
              <a:gd name="adj2" fmla="val 404167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Punto e: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tabella riassuntiva</a:t>
            </a: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metodo di Newt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20" y="1066680"/>
            <a:ext cx="9067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iter=0:i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ddfun=</a:t>
            </a:r>
            <a:r>
              <a:rPr b="1" lang="it-IT" sz="2600" spc="-1" strike="noStrike">
                <a:solidFill>
                  <a:srgbClr val="a020f0"/>
                </a:solidFill>
                <a:latin typeface="Courier New"/>
              </a:rPr>
              <a:t>'-1./(x+2/3).^2'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x=xvect;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rapp=abs(eval(ddfun)./(2*eval(dfun)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tab=[iter' xvect fx rapp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it \t\t\t soluzione \t\t fx\t\t rapp\n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600" spc="-1" strike="noStrike">
                <a:solidFill>
                  <a:srgbClr val="a020f0"/>
                </a:solidFill>
                <a:latin typeface="Courier New"/>
              </a:rPr>
              <a:t>'%1d  %15.12f  %18.8e %18.8e\n'</a:t>
            </a:r>
            <a:r>
              <a:rPr b="1" lang="it-IT" sz="2600" spc="-1" strike="noStrike">
                <a:solidFill>
                  <a:srgbClr val="000000"/>
                </a:solidFill>
                <a:latin typeface="Courier New"/>
              </a:rPr>
              <a:t>,tab'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t    soluzione              fx                r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   0.500000000000     6.54150680e-001   1.97802198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 0.147765018555     5.74997092e-002   3.38356654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   0.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3574524321     4.91771911e-004   3.23363717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   0.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173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99063918     3.57001946e-008   3.23237887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   0.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1737990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80221     2.49800181e-016   3.23237878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  0.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173799080221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1.38777878e-016   3.23237878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600" y="6185880"/>
            <a:ext cx="84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Courier New"/>
              </a:rPr>
              <a:t>xvect</a:t>
            </a: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 ci mostra la convergenza monotona del me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276720" y="5334120"/>
                <a:ext cx="27432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≃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Cosa rappresenta </a:t>
            </a: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rap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2362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-esima componente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rapp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cont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578560" y="990720"/>
          <a:ext cx="230652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8560" y="990720"/>
                    <a:ext cx="230652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733920" y="3048120"/>
          <a:ext cx="174456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8120"/>
                    <a:ext cx="17445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90600" y="4876920"/>
          <a:ext cx="7637400" cy="13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0600" y="4876920"/>
                    <a:ext cx="76374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131400" y="1217520"/>
            <a:ext cx="39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costante asintotica è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52280" y="76320"/>
            <a:ext cx="9448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eparazione grafica e grafici di f’ e f’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560" y="1066680"/>
            <a:ext cx="8227440" cy="5214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1-x-exp(-2*x-1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1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1-x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f2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exp(-2*x-1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f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-1+2*exp(-2*x-1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)';% derivata prima di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df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-4*exp(-2*x-1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</a:t>
            </a:r>
            <a:r>
              <a:rPr b="1" lang="it-IT" sz="2400" spc="-1" strike="noStrike">
                <a:solidFill>
                  <a:srgbClr val="00cc99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erivata seconda di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21), fplot(f,[-1 1.5]);grid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on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funzione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22), fplot(f1,[-1 1.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old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on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 fplot(f2,[-1 1.5]);grid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on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a020f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intersezioni tra f1 e f2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23), fplot(df,[-1 1.5]);grid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on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derivata prima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24), fplot(ddf,[-1 1.5]); grid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on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derivata seconda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cc"/>
                </a:solidFill>
                <a:latin typeface="Times New Roman"/>
              </a:rPr>
              <a:t>La </a:t>
            </a:r>
            <a:r>
              <a:rPr b="1" lang="it-IT" sz="4400" spc="-1" strike="noStrike">
                <a:solidFill>
                  <a:srgbClr val="ff9900"/>
                </a:solidFill>
                <a:latin typeface="Times New Roman"/>
              </a:rPr>
              <a:t>scatola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cc99"/>
                </a:solidFill>
                <a:latin typeface="Times New Roman"/>
              </a:rPr>
              <a:t>dei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ff00"/>
                </a:solidFill>
                <a:latin typeface="Times New Roman"/>
              </a:rPr>
              <a:t>co</a:t>
            </a:r>
            <a:r>
              <a:rPr b="1" lang="it-IT" sz="4400" spc="-1" strike="noStrike">
                <a:solidFill>
                  <a:srgbClr val="ff0066"/>
                </a:solidFill>
                <a:latin typeface="Times New Roman"/>
              </a:rPr>
              <a:t>lo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cc"/>
                </a:solidFill>
                <a:latin typeface="Times New Roman"/>
              </a:rPr>
              <a:t>Avevo una scatola di co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Ogni colore splendeva di gi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Times New Roman"/>
              </a:rPr>
              <a:t>Avevo una scatola di co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Caldi e delicati e viv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Non avevo il rosso per le ferite e per il sang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avevo il nero per l’orfan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Times New Roman"/>
              </a:rPr>
              <a:t>Non avevo il bianco per il viso dei mor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Non avevo il giallo per le sabbie infuoc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Avevo l’arancione per la gioia e per la vi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imes New Roman"/>
              </a:rPr>
              <a:t>Avevo il verde per germogli e fiorit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Avevo il blu per limpidi cieli azzurr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ff"/>
                </a:solidFill>
                <a:latin typeface="Times New Roman"/>
              </a:rPr>
              <a:t>Avevo il rosa per i sogni e per il rip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imes New Roman"/>
              </a:rPr>
              <a:t>Mi sedetti  </a:t>
            </a:r>
            <a:r>
              <a:rPr b="1" lang="it-IT" sz="2400" spc="-1" strike="noStrike">
                <a:solidFill>
                  <a:srgbClr val="ff66ff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ff"/>
                </a:solidFill>
                <a:latin typeface="Times New Roman"/>
              </a:rPr>
              <a:t> dipi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La PACE               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ali Shu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8954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i verifica facilmente che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= 0 è soluzi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b) Senza preoccuparsi delle ipotesi di convergenza, si approssimi tale soluzione, applicando il metodo di </a:t>
            </a:r>
            <a:r>
              <a:rPr b="1" lang="it-IT" sz="3600" spc="-1" strike="noStrike">
                <a:solidFill>
                  <a:srgbClr val="ff0066"/>
                </a:solidFill>
                <a:latin typeface="Times New Roman"/>
              </a:rPr>
              <a:t>Newton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 quello di </a:t>
            </a: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bisezione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per 15 iterazio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) Fare le dovute considerazio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3840" y="9907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Data l’equazion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87480" y="1846440"/>
          <a:ext cx="873756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1846440"/>
                    <a:ext cx="87375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unto b: metodo di </a:t>
            </a:r>
            <a:r>
              <a:rPr b="1" lang="it-IT" sz="4400" spc="-1" strike="noStrike">
                <a:solidFill>
                  <a:srgbClr val="ff0066"/>
                </a:solidFill>
                <a:latin typeface="Times New Roman"/>
              </a:rPr>
              <a:t>Newton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480" y="914400"/>
            <a:ext cx="8839080" cy="52578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0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max=15;  toll=1e-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'sin(x)-0.5*sin(2*x)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fun='cos(x)-cos(2*x)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vect,xdiff,fx,it,p,c]=newton(x0,nmax,toll,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dfu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0066"/>
                </a:solidFill>
                <a:latin typeface="Courier New"/>
              </a:rPr>
              <a:t>Superato il numero massimo di iter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umero di Iterazioni :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adice calcolata     : -1.9309205276636407e-0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Ordine stimato       : 0.999989762682543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attore di riduzione : 0.666619837321145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abella riassuntiva - </a:t>
            </a:r>
            <a:r>
              <a:rPr b="1" lang="it-IT" sz="3200" spc="-1" strike="noStrike">
                <a:solidFill>
                  <a:srgbClr val="ff0066"/>
                </a:solidFill>
                <a:latin typeface="Times New Roman"/>
              </a:rPr>
              <a:t>Newton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765000"/>
            <a:ext cx="906768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ter=0: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 it \t\t\t  x_app \t\t x_diff  fx\n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'%2d %23.15e %15.3e %15.3e\n',[iter' xvect xdiff fx]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t        xapp                       xdiff              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  -1.000000000000000e+000     0.000e+000      3.868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-5.955642027988763e-001     4.044e-001      9.658e-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  -3.843266909954277e-001     2.112e-001      2.735e-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  -2.529596248184762e-001     1.314e-001      7.965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  -1.677278487209687e-001     8.523e-002      2.343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 -1.115548118641202e-001     5.617e-002      6.920e-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  -7.429254153014103e-002     3.726e-002      2.047e-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  -4.950555324952729e-002     2.479e-002      6.063e-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8  -3.299695812958521e-002     1.651e-002      1.796e-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9  -2.199597566746803e-002     1.100e-002      5.320e-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0  -1.466339248533952e-002     7.333e-003      1.576e-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1  -9.775419823703882e-003     4.888e-003      4.671e-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2  -6.516894652077655e-003     3.259e-003      1.384e-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3  -4.344581058363196e-003     2.172e-003      4.100e-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4  -2.896382816341328e-003     1.448e-003      1.215e-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5  -1.930920527663641e-003     9.655e-004      3.600e-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76360" y="63554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xvect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 ci mostra la lenta converg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6920" y="6140520"/>
            <a:ext cx="352908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28000" y="6211800"/>
            <a:ext cx="1981080" cy="457200"/>
          </a:xfrm>
          <a:prstGeom prst="ellipse">
            <a:avLst/>
          </a:prstGeom>
          <a:noFill/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unto b: metodo di </a:t>
            </a:r>
            <a:r>
              <a:rPr b="1" lang="it-IT" sz="4400" spc="-1" strike="noStrike">
                <a:solidFill>
                  <a:srgbClr val="008000"/>
                </a:solidFill>
                <a:latin typeface="Times New Roman"/>
              </a:rPr>
              <a:t>bisezio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1066680"/>
            <a:ext cx="8839440" cy="5029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=-1;b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max=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oll=1e-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'sin(x)-0.5*sin(2*x)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vect,xdiff,fx,it,p,c]=bisezione(a,b,nmax,t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fu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Superato il numero massimo di iter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umero di Iterazioni :   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adice calcolata     : -6.1035156250000000e-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Ordine stimato       : 1.000000000000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attore di riduzione : 0.5000000000000000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Tabella riassuntiva - </a:t>
            </a: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bisezio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1044720"/>
            <a:ext cx="906768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ter=1: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 it \t\t\t  x_app \t\t x_diff  fx\n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'%2d  %23.15e  %15.3e %15.3e\n',[iter' xvect xdiff fx]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t         xapp                      xdiff             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 0.000000000000000e+000     5.000e-001      0.000e+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  -5.000000000000000e-001     2.500e-001      5.869e-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  -2.500000000000000e-001     1.250e-001      7.691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  -1.250000000000000e-001     6.250e-002      9.728e-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 -6.250000000000000e-002     3.125e-002      1.220e-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  -3.125000000000000e-002     1.563e-002      1.526e-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  -1.562500000000000e-002     7.813e-003      1.907e-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8  -7.812500000000000e-003     3.906e-003      2.384e-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9  -3.906250000000000e-003     1.953e-003      2.980e-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0  -1.953125000000000e-003     9.766e-004      3.725e-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1  -9.765625000000000e-004     4.883e-004      4.657e-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2  -4.882812500000000e-004     2.441e-004      5.821e-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3  -2.441406250000000e-004     1.221e-004      7.276e-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4  -1.220703125000000e-004     6.104e-005      9.095e-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5  -6.103515625000000e-005     3.052e-005      1.137e-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62920" y="5924520"/>
            <a:ext cx="1981080" cy="457200"/>
          </a:xfrm>
          <a:prstGeom prst="ellipse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5851440"/>
            <a:ext cx="3887640" cy="601920"/>
          </a:xfrm>
          <a:prstGeom prst="ellipse">
            <a:avLst/>
          </a:prstGeom>
          <a:noFill/>
          <a:ln w="316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nfronto tra i due metod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5385600"/>
            <a:ext cx="741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Il valore ottenuto con la bisezione è più vicino alla soluzione vera </a:t>
            </a:r>
            <a:r>
              <a:rPr b="1" i="1" lang="it-IT" sz="32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= 0!!!</a:t>
            </a:r>
            <a:r>
              <a:rPr b="1" i="1" lang="it-I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200" y="1142640"/>
            <a:ext cx="168048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6160" y="3412440"/>
            <a:ext cx="2008080" cy="642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Bise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5080" y="1922760"/>
            <a:ext cx="856260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te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xvec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xdiff             f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5  -1.930920527663641e-003  9.655e-004      3.600e-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5080" y="4154760"/>
            <a:ext cx="856260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te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xvec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xdiff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f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5  -6.103515625000000e-005  3.052e-005      1.137e-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4320" y="2476440"/>
            <a:ext cx="198108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10280" y="4724280"/>
            <a:ext cx="1981440" cy="457200"/>
          </a:xfrm>
          <a:prstGeom prst="ellipse">
            <a:avLst/>
          </a:prstGeom>
          <a:noFill/>
          <a:ln w="316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124000" y="5013360"/>
            <a:ext cx="457200" cy="457200"/>
          </a:xfrm>
          <a:prstGeom prst="line">
            <a:avLst/>
          </a:prstGeom>
          <a:ln w="4140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otivo di tale comportamen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3880" y="3733200"/>
            <a:ext cx="200808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Bise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240" y="4338000"/>
            <a:ext cx="8958960" cy="1557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umero di Iterazioni :   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adice calcolata     : -6.1035156250000000e-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Ordine stimato       : 1.000000000000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attore di riduzione : 0.5000000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81600" y="5410080"/>
            <a:ext cx="4171680" cy="533520"/>
          </a:xfrm>
          <a:prstGeom prst="ellipse">
            <a:avLst/>
          </a:prstGeom>
          <a:noFill/>
          <a:ln w="316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8920" y="1066320"/>
            <a:ext cx="1682640" cy="642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1080" y="1702800"/>
            <a:ext cx="8958960" cy="1557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umero di Iterazioni :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adice calcolata     : -1.9309205276636407e-0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Ordine stimato       : 0.999989762682543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attore di riduzione : 0.6666198373211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2819520"/>
            <a:ext cx="403848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331080" y="2657520"/>
            <a:ext cx="634320" cy="126720"/>
          </a:xfrm>
          <a:prstGeom prst="line">
            <a:avLst/>
          </a:prstGeom>
          <a:ln w="4140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259440" y="5297760"/>
            <a:ext cx="634320" cy="126720"/>
          </a:xfrm>
          <a:prstGeom prst="line">
            <a:avLst/>
          </a:prstGeom>
          <a:ln w="41400">
            <a:solidFill>
              <a:srgbClr val="66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a radice è multipl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1228680"/>
          <a:ext cx="8850240" cy="29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8680"/>
                    <a:ext cx="885024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363600" y="4486320"/>
            <a:ext cx="84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= 0 è radice multipla con molteplicit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3600" spc="-1" strike="noStrike">
                <a:solidFill>
                  <a:srgbClr val="3333cc"/>
                </a:solidFill>
                <a:latin typeface="Times New Roman"/>
              </a:rPr>
              <a:t>m =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i="1" lang="it-IT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Grafico di 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11280" y="85716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52280" y="5081760"/>
            <a:ext cx="8839440" cy="1395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lot('sin(x)-0.5*sin(2*x)’,[-1,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'Andamento di f(x)= sin(x)- 0.5*sin(2*x)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6200" y="2276640"/>
            <a:ext cx="28933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che il gra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stra che la ra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=0 è multip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Graf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925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odifica metodo di </a:t>
            </a:r>
            <a:r>
              <a:rPr b="1" lang="it-IT" sz="4400" spc="-1" strike="noStrike">
                <a:solidFill>
                  <a:srgbClr val="ff0066"/>
                </a:solidFill>
                <a:latin typeface="Times New Roman"/>
              </a:rPr>
              <a:t>Newton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no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2133720"/>
            <a:ext cx="8686800" cy="289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0=-1;     nmax=15;    toll=1e-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'sin(x)-0.5*sin(2*x)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fun='cos(x)-cos(2*x)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mol=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vect,xdiff,fx,it,p,c]=newton_m(x0,nmax,to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,dfun,mo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rresto per azzeramento di d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576520" y="844560"/>
                <a:ext cx="41148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4419720"/>
            <a:ext cx="6172200" cy="533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3680" y="5413680"/>
            <a:ext cx="871524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te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xvec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xdiff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f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    7.266362938868759e-010   1.634e-003      0.000e+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odifica del problema: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657840" y="1600200"/>
          <a:ext cx="248616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7840" y="1600200"/>
                    <a:ext cx="24861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6320" y="4155480"/>
            <a:ext cx="8915400" cy="2166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'(sin(x)-0.5*sin(2*x))./(cos(x)-cos(2*x))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fun='1-((sin(x)-0.5*sin(2*x)).*(-sin(x)+2*</a:t>
            </a: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sin(2*x)))./(cos(x)-cos(2*x)).^2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965920" y="1440"/>
          <a:ext cx="2998800" cy="11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5920" y="1440"/>
                    <a:ext cx="299880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79280" y="1096920"/>
          <a:ext cx="3857760" cy="67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096920"/>
                    <a:ext cx="38577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228600" y="2666880"/>
          <a:ext cx="8915400" cy="11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666880"/>
                    <a:ext cx="89154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76320" y="1770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pplicazione del metodo di Newton al problema                       implic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etodo di </a:t>
            </a:r>
            <a:r>
              <a:rPr b="1" lang="it-IT" sz="4400" spc="-1" strike="noStrike">
                <a:solidFill>
                  <a:srgbClr val="ff0066"/>
                </a:solidFill>
                <a:latin typeface="Times New Roman"/>
              </a:rPr>
              <a:t>Newton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(*): risulta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07920"/>
            <a:ext cx="8991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[xvect,xdiff,fx,it,p,c]=Newton(x0,nmax,toll,fun,dfu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Warning: Divide by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In ……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Warning: Divide by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In 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Numero di Iterazioni :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Radice calcolata     : N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Ordine stimato       : N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Fattore di riduzione : 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te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xvec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xdiff             f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  -1.000000000000000e+000      0.000e+000   4.044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-3.108031246559614e-001      6.892e-001   1.053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  -9.943189700371891e-003      3.009e-001   3.314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  -3.276824228314046e-007      9.943e-003   1.092e-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  -1.029850733179902e-010      3.276e-007         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                    NaN             NaN          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71800" y="5516640"/>
            <a:ext cx="617220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emplificazione della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0480" y="1844640"/>
          <a:ext cx="889632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844640"/>
                    <a:ext cx="889632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374040" y="71604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oiché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441520" y="806400"/>
          <a:ext cx="390996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1520" y="806400"/>
                    <a:ext cx="39099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 flipV="1">
            <a:off x="5240160" y="2670120"/>
            <a:ext cx="1000440" cy="37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683160" y="3294000"/>
            <a:ext cx="1274760" cy="566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076720" y="2491920"/>
            <a:ext cx="1274760" cy="567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09480" y="5410080"/>
            <a:ext cx="787896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plot('sin(x)/(1+2*cos(x))’,[-1,1]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title(‘F(x)=sin(x)/(1+2*cos(x))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Grafico di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523880" y="6714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57120" y="5086440"/>
            <a:ext cx="8418600" cy="152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lot('(cos(x)+2)/(1+2*cos(x))^2’,[-1,1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itle(‘DF(x)=(cos(x)+2)/(1+2*cos(x))^2’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867280" cy="42289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Grafico di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F’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28520" y="5207040"/>
            <a:ext cx="8782200" cy="1352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lot('(7+2*cos(x)) *sin(x)/(1+2*cos(x))^3',[-1,1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itle('F''''(x)= (7+2*cos(x)) *sin(x)/(1+2*cos(x))^3)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6320" y="70488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580000" y="2701800"/>
            <a:ext cx="3492720" cy="1618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derivata seconda non ha segno costante per  la convergenza del metodo di Newton occorre prendere      vicino alla soluzion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Grafico di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F’’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8562960" y="3573360"/>
          <a:ext cx="40176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2960" y="3573360"/>
                    <a:ext cx="401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isultati del problema modificato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metodo Newton (*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3080" y="1487520"/>
            <a:ext cx="845820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x0=0.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fun='sin(x)./(1+2*cos(x))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dfun='(cos(x)+2)./(1+2*cos(x)).^2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[xvect,xdiff,fx,it,p,c]=newton(x0,nmax,toll,fun,dfu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Numero di Iterazioni :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Radice calcolata     : 0.0000000000000000e+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Ordine stimato       : 3.002077645323383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Fattore di riduzione : 0.33871285541855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x0=-0.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[xvect,xdiff,fx,it,p,c]=newton(x0,nmax,toll,fun,dfu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Numero di Iterazioni :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Radice calcolata     : 0.0000000000000000e+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Ordine stimato       : 3.005293767522414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Fattore di riduzione : 0.3450700538122051</a:t>
            </a:r>
            <a:r>
              <a:rPr b="0" lang="it-IT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43360" y="3151080"/>
            <a:ext cx="3897360" cy="493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57760" y="5589720"/>
            <a:ext cx="4054320" cy="492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115080" y="3449880"/>
            <a:ext cx="634320" cy="126720"/>
          </a:xfrm>
          <a:prstGeom prst="line">
            <a:avLst/>
          </a:prstGeom>
          <a:ln w="4140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115080" y="5899320"/>
            <a:ext cx="634320" cy="126720"/>
          </a:xfrm>
          <a:prstGeom prst="line">
            <a:avLst/>
          </a:prstGeom>
          <a:ln w="4140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1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0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6" dur="5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4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4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4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4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Utilizzo della function ‘fzero’ di Matla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8000" y="1628640"/>
            <a:ext cx="9036000" cy="1882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gt;&gt; alfa=fzero('(x^2-4)*cos(x)+4*x*sin(x)',0.8)%MATLAB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Courier New"/>
              </a:rPr>
              <a:t>%MATLAB7: alfa=fzero(@(x)(x^2-4)*cos(x)+4*x*sin(x),0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alfa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8.052563483762232e-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4181400"/>
            <a:ext cx="8893080" cy="17899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gt;&gt; options=optimset('TolX',1e-1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gt;&gt; x=fzero('sin(x)-0.5*sin(2*x)',-0.1,op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.050493220693351e-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5280" y="836640"/>
          <a:ext cx="69962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69962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68360" y="3429000"/>
          <a:ext cx="483552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429000"/>
                    <a:ext cx="48355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2076480" y="6094440"/>
            <a:ext cx="508788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risultato è meno preciso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150920" y="6039720"/>
            <a:ext cx="529920" cy="370080"/>
          </a:xfrm>
          <a:prstGeom prst="line">
            <a:avLst/>
          </a:prstGeom>
          <a:ln w="4140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sercizio 5: Sistema non linea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2280" y="84852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ato il sistema non linear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365120" y="1468440"/>
          <a:ext cx="64864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468440"/>
                    <a:ext cx="6486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44280" y="3562560"/>
            <a:ext cx="9099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) separare graficamente le soluzion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b) utilizzare il metodo di punto fisso per approssimare le soluzion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) applicare quindi il metodo di Newton per risolvere lo stess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) Confrontare i risultati ottenuti nei due ca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6" dur="2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09520"/>
            <a:ext cx="86677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Teorema di </a:t>
            </a:r>
            <a:r>
              <a:rPr b="1" lang="it-IT" sz="4000" spc="-1" strike="noStrike" u="sng">
                <a:solidFill>
                  <a:srgbClr val="000099"/>
                </a:solidFill>
                <a:uFillTx/>
                <a:latin typeface="Times New Roman"/>
              </a:rPr>
              <a:t>convergenza locale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del metodo di Newton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7480" y="1484280"/>
          <a:ext cx="8969040" cy="24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1484280"/>
                    <a:ext cx="89690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38240" y="4398840"/>
          <a:ext cx="8656560" cy="21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240" y="4398840"/>
                    <a:ext cx="865656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651640" y="4533840"/>
            <a:ext cx="2952720" cy="91116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unto a: separazione grafic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50920" y="5885640"/>
            <a:ext cx="8664480" cy="972000"/>
            <a:chOff x="250920" y="5885640"/>
            <a:chExt cx="8664480" cy="972000"/>
          </a:xfrm>
        </p:grpSpPr>
        <p:sp>
          <p:nvSpPr>
            <p:cNvPr id="428" name=""/>
            <p:cNvSpPr/>
            <p:nvPr/>
          </p:nvSpPr>
          <p:spPr>
            <a:xfrm>
              <a:off x="328680" y="5885640"/>
              <a:ext cx="202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Soluzioni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9" name=""/>
            <p:cNvGraphicFramePr/>
            <p:nvPr/>
          </p:nvGraphicFramePr>
          <p:xfrm>
            <a:off x="250920" y="6416640"/>
            <a:ext cx="8664480" cy="441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6416640"/>
                      <a:ext cx="866448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1" name=""/>
          <p:cNvSpPr/>
          <p:nvPr/>
        </p:nvSpPr>
        <p:spPr>
          <a:xfrm>
            <a:off x="34920" y="3860640"/>
            <a:ext cx="835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ternativamente, si può graficare la forma esplicita  di 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ricordando 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440480" y="4221000"/>
          <a:ext cx="152424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40480" y="4221000"/>
                    <a:ext cx="152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152280" y="4686480"/>
            <a:ext cx="8991720" cy="16185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ATLAB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lot(@(x)[2*sqrt(1.25-x) -2*sqrt(1.25-x)],[-6,1.25]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b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hold 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lot(@(x)1.25-0.25*x.^2, [-6,2]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r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rid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hold 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4643280" y="62064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8440" y="907920"/>
            <a:ext cx="4614840" cy="2715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zplot('x+0.25*y.^2-1.25',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[-6 2 -6 2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hold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zplot('0.25*x.^2+y-1.25'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[-6 2 -6 2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rid,hold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unto b: metodo di punto fiss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82600" y="765000"/>
          <a:ext cx="8556480" cy="13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765000"/>
                    <a:ext cx="855648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1440" y="3219480"/>
          <a:ext cx="4699080" cy="11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3219480"/>
                    <a:ext cx="46990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485280" y="2204640"/>
            <a:ext cx="807516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potesi per la convergenza del me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i punto fi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0" y="3797280"/>
          <a:ext cx="8820000" cy="201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797280"/>
                    <a:ext cx="882000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1776240" y="5830920"/>
          <a:ext cx="531036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6240" y="5830920"/>
                    <a:ext cx="53103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Verifica delle ipotesi: Hp.1, Hp.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907560"/>
            <a:ext cx="37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Hp.1 Le fun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46040" y="2452680"/>
          <a:ext cx="604044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2452680"/>
                    <a:ext cx="604044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685800" y="3657600"/>
          <a:ext cx="54658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657600"/>
                    <a:ext cx="5465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6746040" y="2602440"/>
            <a:ext cx="243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decresc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755640" y="1484280"/>
          <a:ext cx="748044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484280"/>
                    <a:ext cx="74804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938160" y="4419720"/>
          <a:ext cx="4969080" cy="12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8160" y="4419720"/>
                    <a:ext cx="4969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6639840" y="4613760"/>
            <a:ext cx="243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decresc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600200" y="5715000"/>
          <a:ext cx="550224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5715000"/>
                    <a:ext cx="55022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Verifica delle ipotesi: Hp.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979640" y="907920"/>
          <a:ext cx="496872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907920"/>
                    <a:ext cx="4968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900000" y="2205000"/>
          <a:ext cx="705672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205000"/>
                    <a:ext cx="7056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457200" y="4451400"/>
          <a:ext cx="5513400" cy="63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51400"/>
                    <a:ext cx="55134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3809880" y="5276880"/>
            <a:ext cx="493236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metodo di punto fisso converg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900000" y="2852640"/>
          <a:ext cx="712800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2852640"/>
                    <a:ext cx="7128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52280" y="57592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ipotesi 3 per la seconda radice non è  soddisfatta, quindi bisogna cambiare funzione di iter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73360"/>
            <a:ext cx="8893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.B. la valutazione di                      è stata fatta solo nel punto 1.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ché entrambe le funzioni sono crescenti!!!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276720" y="3573360"/>
          <a:ext cx="1261800" cy="46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573360"/>
                    <a:ext cx="12618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unto b: seconda radi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304920" y="3578400"/>
          <a:ext cx="851688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78400"/>
                    <a:ext cx="85168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65240" y="5178600"/>
          <a:ext cx="3473640" cy="9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5240" y="5178600"/>
                    <a:ext cx="347364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459000" y="5025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7440" y="6172200"/>
            <a:ext cx="42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dizioni verificate in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295280" y="838080"/>
          <a:ext cx="5373720" cy="77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838080"/>
                    <a:ext cx="53737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2743200" y="1600200"/>
          <a:ext cx="3352680" cy="182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1600200"/>
                    <a:ext cx="335268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Verifica delle ipotesi: Hp.1, Hp.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835920"/>
            <a:ext cx="38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Hp.1 Le fun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25280" y="2209680"/>
          <a:ext cx="668340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2209680"/>
                    <a:ext cx="668340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85800" y="3581280"/>
          <a:ext cx="62992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81280"/>
                    <a:ext cx="6299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6922080" y="2403720"/>
            <a:ext cx="20764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cresc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58920" y="4766040"/>
            <a:ext cx="2322000" cy="648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è cresc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24000" y="1305000"/>
          <a:ext cx="868500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305000"/>
                    <a:ext cx="86850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084320" y="4605480"/>
          <a:ext cx="5397480" cy="120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4320" y="4605480"/>
                    <a:ext cx="539748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963800" y="5867280"/>
          <a:ext cx="633564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63800" y="5867280"/>
                    <a:ext cx="63356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Verifica delle ipotesi: Hp.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835280" y="693720"/>
          <a:ext cx="540072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693720"/>
                    <a:ext cx="540072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468360" y="2766960"/>
          <a:ext cx="763272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766960"/>
                    <a:ext cx="76327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88920" y="5791320"/>
          <a:ext cx="5362560" cy="63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920" y="5791320"/>
                    <a:ext cx="5362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5796360" y="5851440"/>
            <a:ext cx="325008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metodo di punto fi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verg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68360" y="3716280"/>
          <a:ext cx="7848720" cy="101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3716280"/>
                    <a:ext cx="784872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0" y="4767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.B. la valutazione di                      è stata fatta solo nel punto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ché entrambe le funzioni sono crescenti!!!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348000" y="4722840"/>
          <a:ext cx="1368360" cy="506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4722840"/>
                    <a:ext cx="1368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Istruzioni per il metodo di punto fiss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386160"/>
            <a:ext cx="9144000" cy="3385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ATTENZION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Le istruzioni che seguono sono nella function Punto_fissoxs e permettono di farlo funzionare in parallelo od in serie quando si elimina il commento alla riga scritta in ro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while (it&lt;nmax) &amp; (norm(res_x,inf)&gt;=to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ap=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or k=1: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_new(k)=eval(g(k,: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%    x(k)=x_new(k);% da aggiungere se si vuole il metodo in serie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=xa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6922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0=[0 0.5];nmax=30;   toll=1.e-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strvcat('x(1)+0.25*x(2)^2-1.25','0.25*x(1)^2+x(2)-1.25'); % x,y sono in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(1),x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=strvcat('1.25-0.25*x(2)^2','1.25-0.25*x(1)^2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vect,xdiff,fx,it]=Punto_fissoxs(x0,nmax,toll,fun,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isultati e tabella: </a:t>
            </a:r>
            <a:r>
              <a:rPr b="1" lang="it-IT" sz="4000" spc="-1" strike="noStrike">
                <a:solidFill>
                  <a:srgbClr val="ff0066"/>
                </a:solidFill>
                <a:latin typeface="Times New Roman"/>
              </a:rPr>
              <a:t>metodo in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ff0066"/>
                </a:solidFill>
                <a:latin typeface="Times New Roman"/>
              </a:rPr>
              <a:t>parallel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137160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Numero di iterazioni :    2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Radice calcol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1.0000001884590590e+0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1.0000002545504860e+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ter=0: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=[iter' xvect xdiff f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 it \t\t\t  soluzione \t\t x_diff  fx\n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('%2d  %19.15f  %19.15f %13.3e %13.3e\n',tab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it                  soluzione                     xdiff           f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0    0.000000000000000    0.500000000000000    0.000e+000    1.188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1    1.187500000000000    1.250000000000000    1.188e+000    3.525e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2    0.859375000000000    0.897460937500000    3.525e-001    1.893e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3    1.048640966415405    1.065368652343750    1.893e-001    9.028e-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4    0.966247408650815    0.975088030888841    9.028e-002    4.605e-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....        ....               ....                ....         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19    1.000000753836095    1.000001018201685    2.790e-006    1.395e-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20    0.999999490898898    0.999999623081811    1.395e-006    6.976e-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21    1.000000188459059    1.000000254550486    6.976e-007    3.488e-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179040" y="1474920"/>
            <a:ext cx="596160" cy="250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24280" y="1143000"/>
            <a:ext cx="1295640" cy="5983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e tabella: </a:t>
            </a:r>
            <a:r>
              <a:rPr b="1" lang="it-IT" sz="4400" spc="-1" strike="noStrike">
                <a:solidFill>
                  <a:srgbClr val="3333cc"/>
                </a:solidFill>
                <a:latin typeface="Times New Roman"/>
              </a:rPr>
              <a:t>metodo in seri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048120"/>
            <a:ext cx="9144000" cy="3657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it                  soluzione                     xdiff           f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    0.000000000000000    0.500000000000000    0.000e+000    1.188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1    1.187500000000000    0.897460937500000    1.188e+000    1.389e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2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048640966415405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975088030888841    1.389e-001    3.634e-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3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12300833004331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0.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93811755874685    3.634e-002    9.216e-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4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3084548471319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 0.9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8455347154522    9.216e-003    2.313e-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5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771729934636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0.9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9613986140909    2.313e-003    5.788e-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6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0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192969677871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0.99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903505851740    5.788e-004    1.447e-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7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0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48244746350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0.999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75877044936    1.447e-004    3.618e-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8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00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12061332053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0.999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93969297605    3.618e-005    9.046e-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9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00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3015342105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0.9999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8492326674    9.046e-006    2.262e-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10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000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753836095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0.9999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9623081811    2.262e-006    5.654e-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11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 1.0000001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88459059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0.99999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905770462    5.654e-007    1.413e-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692280"/>
            <a:ext cx="9144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Numero di iterazioni :    11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% sono di m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                     </a:t>
            </a:r>
            <a:r>
              <a:rPr b="1" lang="it-IT" sz="2000" spc="-1" strike="noStrike">
                <a:solidFill>
                  <a:srgbClr val="ff0066"/>
                </a:solidFill>
                <a:latin typeface="Courier New"/>
              </a:rPr>
              <a:t>%  rispetto al metodo in parallelo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Radice calcol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1.0000001884590590e+0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9.9999990577046161e-00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15200" y="6400800"/>
            <a:ext cx="1828800" cy="30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15000" y="6400800"/>
            <a:ext cx="1676520" cy="30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Verifica delle ipotesi di convergen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333440"/>
            <a:ext cx="358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(-1)= -0.7182818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(-0.7)= 0.2081753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(0.5)=0.3646647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(1.5)= -0.5183156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52280" y="3384720"/>
                <a:ext cx="436716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3962520" y="1295280"/>
            <a:ext cx="4362480" cy="1600200"/>
            <a:chOff x="3962520" y="1295280"/>
            <a:chExt cx="4362480" cy="160020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4613400" y="1295280"/>
                  <a:ext cx="3711600" cy="64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4616280" y="2212920"/>
                  <a:ext cx="368964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62520" y="1447920"/>
                  <a:ext cx="7873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3962520" y="2354400"/>
                  <a:ext cx="7873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1698480" y="507060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i grafici si vede ch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00600" y="4716360"/>
                <a:ext cx="4191120" cy="19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25360" y="5638680"/>
            <a:ext cx="37515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no verificate le ipotes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vergenza locale nei d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tervall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unto c: metodo di </a:t>
            </a:r>
            <a:r>
              <a:rPr b="1" lang="it-IT" sz="4400" spc="-1" strike="noStrike">
                <a:solidFill>
                  <a:srgbClr val="6600cc"/>
                </a:solidFill>
                <a:latin typeface="Times New Roman"/>
              </a:rPr>
              <a:t>Newt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320" y="882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Indichiam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-74520" y="2303640"/>
          <a:ext cx="92757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4520" y="2303640"/>
                    <a:ext cx="92757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3979800" y="4734000"/>
          <a:ext cx="50706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9800" y="4734000"/>
                    <a:ext cx="50706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124080" y="812880"/>
                <a:ext cx="312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32" name=""/>
          <p:cNvGraphicFramePr/>
          <p:nvPr/>
        </p:nvGraphicFramePr>
        <p:xfrm>
          <a:off x="1474920" y="1676520"/>
          <a:ext cx="480996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4920" y="1676520"/>
                    <a:ext cx="48099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22280" y="5756400"/>
          <a:ext cx="7686720" cy="102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2280" y="5756400"/>
                    <a:ext cx="768672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117000" y="1752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57600" y="485460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soluzione  del sist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64000" y="4846680"/>
            <a:ext cx="1295640" cy="5983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227280" y="4363560"/>
            <a:ext cx="499680" cy="410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42400" y="398952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Vettore incogni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unto c: verifica ipot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60200" y="1828800"/>
          <a:ext cx="890748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1828800"/>
                    <a:ext cx="89074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228600" y="1036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e fun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617920" y="914400"/>
          <a:ext cx="332568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7920" y="914400"/>
                    <a:ext cx="33256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52280" y="4788000"/>
            <a:ext cx="3962520" cy="1922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=0:0.1:1.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=0:0.1:1.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,Y]=meshgrid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Z=1-0.25*X.*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rf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9320" y="31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306440" y="3006720"/>
          <a:ext cx="383868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06440" y="3006720"/>
                    <a:ext cx="38386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908520" y="28432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886200" y="163836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Verifica ipot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4114800"/>
            <a:ext cx="4038840" cy="2684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=-5.5:0.1:-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=-5.5:0.1:-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,Y]=meshgrid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Z=1-0.25*X.*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rf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914400" y="1125360"/>
          <a:ext cx="5373720" cy="7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25360"/>
                    <a:ext cx="53737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per il metodo di </a:t>
            </a:r>
            <a:r>
              <a:rPr b="1" lang="it-IT" sz="4400" spc="-1" strike="noStrike">
                <a:solidFill>
                  <a:srgbClr val="6600cc"/>
                </a:solidFill>
                <a:latin typeface="Times New Roman"/>
              </a:rPr>
              <a:t>Newt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76212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0=[0 0.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max=30;   toll=1.e-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strvcat('x(1)+0.25*x(2)^2-1.25','0.25*x(1)^2 +x(2)-1.25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Jac=strvcat('1','0.5*x(2)','0.5*x(1)','1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Courier New"/>
              </a:rPr>
              <a:t>% Jacobiana in forma di vettore di string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vect,xdiff,fx,it]=Newtonxs(x0,nmax,toll,fun,Ja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Numero di iterazioni :   5 sono in numero &lt;11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Radice calcol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9.9999999999999978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1.0000000000000002e+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8006760" y="1939680"/>
            <a:ext cx="499680" cy="410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8" dur="5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Tabella relativa al metodo di </a:t>
            </a:r>
            <a:r>
              <a:rPr b="1" lang="it-IT" sz="4000" spc="-1" strike="noStrike">
                <a:solidFill>
                  <a:srgbClr val="6600cc"/>
                </a:solidFill>
                <a:latin typeface="Times New Roman"/>
              </a:rPr>
              <a:t>Newt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200400"/>
            <a:ext cx="9067680" cy="358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it                  soluzione                     xdiff           f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    0.000000000000000    0.500000000000000    0.000e+000    1.188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1    1.000000000000000    1.250000000000000    1.000e+000    2.500e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2    1.022727272727273    0.988636363636364    2.614e-001    1.708e-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3    0.999957777899971    1.000150723078011    2.277e-002    1.296e-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4    1.000000007275583    0.999999996808039    1.507e-004    5.680e-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5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00000000000000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00000000000000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7.276e-009    0.000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1052640"/>
            <a:ext cx="9144000" cy="23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ter=0: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ab=[iter' xvect xdiff f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 it \t\t\t  soluzione \t\t\t\t x_diff  \t\t\t fx\n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'%2d  %19.15f  %19.15f %13.3e %13.3e\n’, ta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7315200" y="5867280"/>
            <a:ext cx="45720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5562720"/>
            <a:ext cx="1752480" cy="304560"/>
          </a:xfrm>
          <a:prstGeom prst="ellipse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38680" y="5562720"/>
            <a:ext cx="1752840" cy="304560"/>
          </a:xfrm>
          <a:prstGeom prst="ellipse">
            <a:avLst/>
          </a:prstGeom>
          <a:noFill/>
          <a:ln w="316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nfronto tra i metod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617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99"/>
                </a:solidFill>
                <a:latin typeface="Times New Roman"/>
              </a:rPr>
              <a:t>Con il metodo di Newton si ottiene una soluzione con precisione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36800" y="4342680"/>
            <a:ext cx="8836920" cy="1596600"/>
            <a:chOff x="136800" y="4342680"/>
            <a:chExt cx="8836920" cy="1596600"/>
          </a:xfrm>
        </p:grpSpPr>
        <p:sp>
          <p:nvSpPr>
            <p:cNvPr id="569" name=""/>
            <p:cNvSpPr/>
            <p:nvPr/>
          </p:nvSpPr>
          <p:spPr>
            <a:xfrm>
              <a:off x="236520" y="4342680"/>
              <a:ext cx="1515600" cy="5814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Newt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6800" y="4992120"/>
              <a:ext cx="883692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Iter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     xvect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         xdiff       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.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urier New"/>
                </a:rPr>
                <a:t>5    1.000000000000000    1.000000000000000    7.276e-009    0.000e+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93960" y="867600"/>
            <a:ext cx="8958960" cy="1568160"/>
            <a:chOff x="93960" y="867600"/>
            <a:chExt cx="8958960" cy="1568160"/>
          </a:xfrm>
        </p:grpSpPr>
        <p:sp>
          <p:nvSpPr>
            <p:cNvPr id="572" name=""/>
            <p:cNvSpPr/>
            <p:nvPr/>
          </p:nvSpPr>
          <p:spPr>
            <a:xfrm>
              <a:off x="225720" y="867600"/>
              <a:ext cx="3733200" cy="58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Punto fisso </a:t>
              </a:r>
              <a:r>
                <a:rPr b="1" lang="it-IT" sz="3200" spc="-1" strike="noStrike">
                  <a:solidFill>
                    <a:srgbClr val="008000"/>
                  </a:solidFill>
                  <a:latin typeface="Times New Roman"/>
                </a:rPr>
                <a:t>parallel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3960" y="1488600"/>
              <a:ext cx="895896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Iter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      xvect                 xdiff       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.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Courier New"/>
                </a:rPr>
                <a:t>21    1.000000188459059    1.000000254550486    6.976e-007    3.488e-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91520" y="5486400"/>
            <a:ext cx="167616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20120" y="2057400"/>
            <a:ext cx="1447560" cy="457200"/>
          </a:xfrm>
          <a:prstGeom prst="ellipse">
            <a:avLst/>
          </a:prstGeom>
          <a:noFill/>
          <a:ln w="316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90720" y="2620080"/>
            <a:ext cx="8958960" cy="1568160"/>
            <a:chOff x="90720" y="2620080"/>
            <a:chExt cx="8958960" cy="1568160"/>
          </a:xfrm>
        </p:grpSpPr>
        <p:sp>
          <p:nvSpPr>
            <p:cNvPr id="577" name=""/>
            <p:cNvSpPr/>
            <p:nvPr/>
          </p:nvSpPr>
          <p:spPr>
            <a:xfrm>
              <a:off x="192600" y="2620080"/>
              <a:ext cx="3009240" cy="58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Punto fisso </a:t>
              </a:r>
              <a:r>
                <a:rPr b="1" lang="it-IT" sz="3200" spc="-1" strike="noStrike">
                  <a:solidFill>
                    <a:srgbClr val="008000"/>
                  </a:solidFill>
                  <a:latin typeface="Times New Roman"/>
                </a:rPr>
                <a:t>seri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0720" y="3241080"/>
              <a:ext cx="895896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Iter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      xvect                 xdiff       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urier New"/>
                </a:rPr>
                <a:t>.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Courier New"/>
                </a:rPr>
                <a:t>11    1.000000188459059    0.999999905770462    5.654e-007    1.413e-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620120" y="3733920"/>
            <a:ext cx="1447560" cy="457200"/>
          </a:xfrm>
          <a:prstGeom prst="ellipse">
            <a:avLst/>
          </a:prstGeom>
          <a:noFill/>
          <a:ln w="316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05720" y="838080"/>
            <a:ext cx="200952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oll=1.e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6: Sistema non linea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78840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Dato il sistema non linear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81080" y="1468440"/>
          <a:ext cx="52549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68440"/>
                    <a:ext cx="5254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46800" y="2922120"/>
            <a:ext cx="917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) separare graficamente le soluzioni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b) utilizzare il metodo di punto fisso 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pprossimare la soluzione situata nel pr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quadrante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) applicare quindi il metodo di Newton 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isolvere lo stesso proble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d) Confrontare i risultati ottenuti nei due cas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2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7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0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8" dur="2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1" dur="20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unto a: separazione grafic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8600" y="609480"/>
                <a:ext cx="30384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08000" y="1351080"/>
                <a:ext cx="1981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3426480" y="76104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irconferenza:C=(0,2),R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95640" y="1386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arabola simm.rispetto l’as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960" y="616536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a solu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2938320" y="5950080"/>
          <a:ext cx="444204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8320" y="5950080"/>
                    <a:ext cx="444204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0" y="2352960"/>
            <a:ext cx="4211640" cy="22885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zplot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.^2+y.^2-4*y', [0 4 0 4]),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ol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zplot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.^2-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 [0 4 0 4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ol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3917880" y="18446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Grafico di </a:t>
            </a:r>
            <a:r>
              <a:rPr b="1" i="1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) in [1,2] x [1,2]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4002120" y="2451240"/>
            <a:ext cx="5141880" cy="38574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71280" y="907920"/>
            <a:ext cx="7956720" cy="1557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zplot('x.^2+y.^2-4*y', [1 2 1 2]),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ol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zplot('y.^2-x‘,[1 2 1 2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ol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08000" y="2852640"/>
          <a:ext cx="3816360" cy="15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52640"/>
                    <a:ext cx="381636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250920" y="450864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N.B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Per le funzioni di iterazione si sceglie la determinazione positiva della radice poiché la soluzione ha entrambe le coordinat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unto b: metodo di punto fiss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17480" y="907920"/>
                <a:ext cx="702324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04" name=""/>
          <p:cNvGraphicFramePr/>
          <p:nvPr/>
        </p:nvGraphicFramePr>
        <p:xfrm>
          <a:off x="1440" y="3073320"/>
          <a:ext cx="469908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73320"/>
                    <a:ext cx="46990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485280" y="2574360"/>
            <a:ext cx="80751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nvergenza del metodo di punto fi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0" y="3591000"/>
          <a:ext cx="9056520" cy="22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91000"/>
                    <a:ext cx="905652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1776240" y="5830920"/>
          <a:ext cx="53103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6240" y="5830920"/>
                    <a:ext cx="53103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metodo di Newt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00" y="1784520"/>
            <a:ext cx="9019800" cy="338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=[-0.55 0.2];nmax=10;toll=1e-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f;dfun=df;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 f e df sono stringhe defin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     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 nelle istruzioni perce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i=1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[xvect,xdiff,fx,it,p,c]=Newton(x(i),nmax,toll,fun,dfu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=[[0:it]' xvect xdiff f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' iter \t\t\t  x_app \t\t  x_diff   abs(f(x)) \n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' %3d  %24.15e %12.2e %12.2e\n',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Verifica delle ipotesi: Hp.1, Hp.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3232080" y="5202360"/>
          <a:ext cx="575964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2080" y="5202360"/>
                    <a:ext cx="57596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228600" y="1341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Hp.1 Le fun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25280" y="2381400"/>
          <a:ext cx="668340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80" y="2381400"/>
                    <a:ext cx="6683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2746440" y="4030560"/>
          <a:ext cx="4489560" cy="86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6440" y="4030560"/>
                    <a:ext cx="44895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6922080" y="2602440"/>
            <a:ext cx="207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it-IT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 crescent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14400" y="5297760"/>
            <a:ext cx="32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it-IT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è anche crescent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3809880" y="1305000"/>
          <a:ext cx="3283200" cy="83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305000"/>
                    <a:ext cx="32832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121320" y="421632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Ne conseg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4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Verifica delle ipotesi: Hp.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520560" y="693720"/>
          <a:ext cx="817272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93720"/>
                    <a:ext cx="81727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6480" y="3213000"/>
          <a:ext cx="902952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0" y="3213000"/>
                    <a:ext cx="902952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250920" y="5640480"/>
          <a:ext cx="544968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5640480"/>
                    <a:ext cx="5449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58680" y="4378320"/>
          <a:ext cx="789804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80" y="4378320"/>
                    <a:ext cx="7898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5796360" y="5851440"/>
            <a:ext cx="325008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metodo di punto fi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verg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metodo punto fiss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320" y="762120"/>
            <a:ext cx="8991360" cy="281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0=[1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max=30;   toll=1.e-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strvcat('x(1)^2+x(2)^2-4*x(2)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'-x(1)+x(2)^2');  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x,y sono in x(1),x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=strvcat('sqrt(4*x(2)-x(2)^2)','sqrt(x(1))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vect,xdiff,fx,it]=Punto_fissoxs(x0,nmax,to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,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1280" y="3522960"/>
            <a:ext cx="8001000" cy="31114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while (it&lt;nmax) &amp; (norm(res_x,inf)&gt;=to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ap=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or k=1: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_new(k)=eval(g(k,: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%    x(k)=x_new(k); % da aggiungere per aver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                   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% soluzione con metodo in serie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=xa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isultati e tabella: </a:t>
            </a:r>
            <a:r>
              <a:rPr b="1" lang="it-IT" sz="4000" spc="-1" strike="noStrike">
                <a:solidFill>
                  <a:srgbClr val="ff0066"/>
                </a:solidFill>
                <a:latin typeface="Times New Roman"/>
              </a:rPr>
              <a:t>metodo in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ff0066"/>
                </a:solidFill>
                <a:latin typeface="Times New Roman"/>
              </a:rPr>
              <a:t>parallel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981000"/>
            <a:ext cx="9144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Numero di iterazioni :   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Radice calcol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1.9010802796691053e+0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1.3787965146159946e+00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ter=0: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ab=[iter' xvect xdiff f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(' it \t\t\t  soluzione \t\t\t\t\t x_diff \t\t\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x\n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'%2d  %19.15f  %19.15f %13.3e %13.3e\n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a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it                  soluzione                     xdiff           f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0    1.000000000000000    1.000000000000000    0.000e+000    2.000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1    1.732050807568877    1.000000000000000    7.321e-001    7.321e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2    1.732050807568877    1.316074012952492    3.161e-001    5.322e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....        ....               ....                ....         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14    1.901079828717214    1.378796514615995    1.380e-006    1.715e-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9010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80279669105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378796514615995</a:t>
            </a:r>
            <a:r>
              <a:rPr b="1" lang="it-IT" sz="1600" spc="-1" strike="noStrike">
                <a:solidFill>
                  <a:srgbClr val="3333cc"/>
                </a:solidFill>
                <a:latin typeface="Courier New"/>
              </a:rPr>
              <a:t>    4.510e-007    4.510e-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6179040" y="1300320"/>
            <a:ext cx="596160" cy="250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24280" y="907920"/>
            <a:ext cx="1295640" cy="5986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4" dur="5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7" dur="500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0" dur="500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3" dur="500"/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6" dur="500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9" dur="500"/>
                                        <p:tgtEl>
                                          <p:spTgt spid="6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4" dur="500"/>
                                        <p:tgtEl>
                                          <p:spTgt spid="6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7" dur="500"/>
                                        <p:tgtEl>
                                          <p:spTgt spid="6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0" dur="500"/>
                                        <p:tgtEl>
                                          <p:spTgt spid="6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6" dur="500"/>
                                        <p:tgtEl>
                                          <p:spTgt spid="6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6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2" dur="500"/>
                                        <p:tgtEl>
                                          <p:spTgt spid="6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isultati e tabella: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metodo in seri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068640"/>
            <a:ext cx="9067680" cy="348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it                  soluzione                     xdiff           f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    1.000000000000000    1.000000000000000    0.000e+000    2.000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1    1.732050807568877    1.316074012952492    7.321e-001    5.322e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2    1.879426839289333    1.370921893941932    1.474e-001    7.202e-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3    1.898489066726062    1.377856693102030    1.906e-002    8.677e-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4    1.900772923229405    1.378685215424248    2.284e-003    1.030e-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5    1.901043907559104    1.378783488282009    2.710e-004    1.221e-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6    1.901076023090326    1.378795134561450    3.212e-005    1.447e-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7    1.901079828717214    1.378796514615995    3.806e-006    1.715e-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8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9010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80279669105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378796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678146965    4.510e-007    2.032e-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920" y="907920"/>
            <a:ext cx="8305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umero di iterazioni :     8 % sono di men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Radice calcol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1.9010802796691053e+0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1.3787966781469649e+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15200" y="5932440"/>
            <a:ext cx="1828800" cy="30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38680" y="5932440"/>
            <a:ext cx="1676520" cy="30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unto c: metodo di </a:t>
            </a:r>
            <a:r>
              <a:rPr b="1" lang="it-IT" sz="4400" spc="-1" strike="noStrike">
                <a:solidFill>
                  <a:srgbClr val="6600cc"/>
                </a:solidFill>
                <a:latin typeface="Times New Roman"/>
              </a:rPr>
              <a:t>Newt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6320" y="882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Indichiam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-36360" y="2286000"/>
          <a:ext cx="919944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2286000"/>
                    <a:ext cx="919944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3943440" y="4734000"/>
          <a:ext cx="514332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3440" y="4734000"/>
                    <a:ext cx="51433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124080" y="812880"/>
                <a:ext cx="312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53" name=""/>
          <p:cNvGraphicFramePr/>
          <p:nvPr/>
        </p:nvGraphicFramePr>
        <p:xfrm>
          <a:off x="1474920" y="1676520"/>
          <a:ext cx="480996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4920" y="1676520"/>
                    <a:ext cx="48099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276120" y="5661000"/>
          <a:ext cx="77644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120" y="5661000"/>
                    <a:ext cx="7764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17000" y="1752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-57600" y="485460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soluzione  del sist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Verifica delle ipotes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0" y="688680"/>
            <a:ext cx="914400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f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determinante della matrice Jacobiana è dato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cui rappresentazione è in Mat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2195640" y="765000"/>
          <a:ext cx="51591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765000"/>
                    <a:ext cx="51591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2916360" y="2205000"/>
          <a:ext cx="312732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205000"/>
                    <a:ext cx="31273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177480" y="3645000"/>
            <a:ext cx="4204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z='4*x.*y+2*y-4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ezsurf(z,[1 2 1 2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colo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6200" y="505944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La figura ci mostra che det(</a:t>
            </a:r>
            <a:r>
              <a:rPr b="1" i="1" lang="it-IT" sz="2400" spc="-1" strike="noStrike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è non nu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5"/>
          <a:stretch/>
        </p:blipFill>
        <p:spPr>
          <a:xfrm>
            <a:off x="4356000" y="2610000"/>
            <a:ext cx="48927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9" dur="500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4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0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metodo di </a:t>
            </a:r>
            <a:r>
              <a:rPr b="1" lang="it-IT" sz="4400" spc="-1" strike="noStrike">
                <a:solidFill>
                  <a:srgbClr val="6600cc"/>
                </a:solidFill>
                <a:latin typeface="Times New Roman"/>
              </a:rPr>
              <a:t>Newt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990720"/>
            <a:ext cx="906768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0=[1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max=30;   toll=1.e-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un=strvcat('x(1)^2+x(2)^2-4*x(2)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'-x(1)+x(2)^2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Jac=strvcat('2*x(1)','2*x(2)-4','-1','2*x(2)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Jacobiana in forma di vettore di string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vect,xdiff,fx,it]=Newtonxs(x0,nmax,toll,fu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Ja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Numero di iterazioni : 6   % Sono in numero &lt; 8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Radice calcol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1.9010803402881398e+0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6600cc"/>
                </a:solidFill>
                <a:latin typeface="Courier New"/>
              </a:rPr>
              <a:t>1.3787967001295518e+0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Tabella riassuntiva del metodo di </a:t>
            </a:r>
            <a:r>
              <a:rPr b="1" lang="it-IT" sz="4400" spc="-1" strike="noStrike">
                <a:solidFill>
                  <a:srgbClr val="6600cc"/>
                </a:solidFill>
                <a:latin typeface="Times New Roman"/>
              </a:rPr>
              <a:t>Newt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3200400"/>
            <a:ext cx="9067680" cy="358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it                  soluzione                     xdiff           f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    1.000000000000000    1.000000000000000    0.000e+000    2.000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1    3.000000000000000    2.000000000000000    2.000e+000    5.000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2    2.166666666666667    1.541666666666667    8.333e-001    9.045e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3    1.927083333333333    1.395833333333333    2.396e-001    7.867e-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4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9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1399523614772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3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79015003483898    2.568e-002    9.425e-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5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 1.901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80391293387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37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8796735902042    3.191e-004    1.495e-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6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9010803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40288140    </a:t>
            </a:r>
            <a:r>
              <a:rPr b="1" lang="it-IT" sz="1600" spc="-1" strike="noStrike">
                <a:solidFill>
                  <a:srgbClr val="ff0066"/>
                </a:solidFill>
                <a:latin typeface="Courier New"/>
              </a:rPr>
              <a:t>1.3787967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0129552    5.101e-008    2.665e-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119232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ter=0: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ab=[iter' xvect xdiff f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'%2d  %19.15f  %19.15f %13.3e %13.3e\n’, ta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543800" y="6172200"/>
            <a:ext cx="45720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91520" y="5715000"/>
            <a:ext cx="1752480" cy="304920"/>
          </a:xfrm>
          <a:prstGeom prst="ellipse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638680" y="5715000"/>
            <a:ext cx="1752840" cy="304920"/>
          </a:xfrm>
          <a:prstGeom prst="ellipse">
            <a:avLst/>
          </a:prstGeom>
          <a:noFill/>
          <a:ln w="316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Funzione FSOLVE di MATLA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062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urier New"/>
              </a:rPr>
              <a:t>&gt;&gt; x0(1)=1;x0(2)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urier New"/>
              </a:rPr>
              <a:t>&gt;&gt; x=fsolve(@fun,x0);% versione MATLA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gt;&gt; x0(1)=1;x0(2)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&gt;&gt; G='fun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&gt;&gt; x=fsolve(G,x0) % versione MATLA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’ possibile in uscita avere anche il valore de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unzione F nel punto x soluzione scrivendo a pr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emb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66"/>
                </a:solidFill>
                <a:latin typeface="Courier New"/>
              </a:rPr>
              <a:t>[x,feval]= … il secondo membro è uno dei precedenti a seconda della versione Matlab utilizz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Courier New"/>
              </a:rPr>
              <a:t>Il punto x che si ottie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Courier New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600ff"/>
                </a:solidFill>
                <a:latin typeface="Courier New"/>
              </a:rPr>
              <a:t>1.901080394752361e+000    1.378796744940657e+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248000" y="836640"/>
            <a:ext cx="457200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unction F=fun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=[x(1)^2+x(2)^2-4*x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(2)^2-x(1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8000" y="90792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 crea una function ester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7" dur="20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0" dur="200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3" dur="2000"/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6" dur="2000"/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6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6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etodo di Newton: prima radi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800" y="1219320"/>
            <a:ext cx="8867520" cy="466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ero di Iterazioni :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adice calcolata     : -7.9153693801834546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Ordine stimato       : 2.000065270276337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attore di riduzione : 1.388700159225722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iter          x_app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x_diff      abs(f(x))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   -5.500000000000000e-001    0.00e+000    4.45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   -9.175235116542297e-001    3.68e-001    3.87e-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   -8.102061797433080e-001    1.07e-001    4.95e-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   -7.920077690667476e-001    1.82e-002    1.22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-7.9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5372453127099e-001    4.71e-004    7.94e-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-7.9153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9380184765e-001    3.07e-007    3.38e-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-7.91536938018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455e-001    1.31e-013    0.00e+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-7.915369380183455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-001    0.00e+000    0.00e+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7:30:32Z</dcterms:created>
  <dc:creator>Ing. Enza Pellegrino</dc:creator>
  <dc:description/>
  <dc:language>en-US</dc:language>
  <cp:lastModifiedBy>Elisabetta Santi</cp:lastModifiedBy>
  <dcterms:modified xsi:type="dcterms:W3CDTF">2007-06-05T11:08:24Z</dcterms:modified>
  <cp:revision>73</cp:revision>
  <dc:subject/>
  <dc:title>4a lezione - laboratorio</dc:title>
</cp:coreProperties>
</file>