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8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30.wmf" ContentType="image/x-wmf"/>
  <Override PartName="/ppt/media/image28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.wmf" ContentType="image/x-wmf"/>
  <Override PartName="/ppt/media/image3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55F-1BDA-4FD5-8DCE-35055498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76E-06E0-4C68-B1B2-B68AE0A5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75B-A5CC-4237-BFD8-28D6BA5B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6CF-DD88-4542-A893-0818463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897-B501-4053-83EB-864B38B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145-2F2D-4C96-B075-E9281C4B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819-F2AA-45AA-B5E4-D3981C0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6D4-7E15-4523-9075-0D209FE5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75960"/>
            <a:ext cx="8458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568-59E4-4069-B662-607F89D9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C8B-3C4D-4479-A1EF-27CCAB2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F62-F990-4817-B08C-06A8B8E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6D2-9A8E-45A6-8848-AFF9ABA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C36-2847-4E45-9FDB-E6266849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39424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a 2006-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989000"/>
            <a:ext cx="8382240" cy="283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urea Ingegneria Mecca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.S. Modellistica Fisico-Matematica per l’Ingegn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BB2-E2FE-4D92-8FA6-4840E6BDA5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odo RK4 - simula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052640"/>
            <a:ext cx="8991360" cy="52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0=0;tmax=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n=100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y0=[0 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1='y(2)';f2='-9.81260*sin(y(1))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=strvcat(f1,f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[T,Y]=Rungekutta4(t0,tmax,n,y0,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heta=Y(:,1);n=length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lot(0,-1,'or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(i)=sin(theta(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y(i)=-cos(theta(i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lot(x(i),y(i),'ob',[0,x(i)],[0,y(i)],'r'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xis([-1 1 -1.5 .5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ause(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'Oscillazioni del pendolo – Runge-Kutta4') xlabel('Ascissa del punto P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ylabel('Ordinata del punto P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C61-351D-4ED5-AB90-518E3F573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D8B-0120-412F-B999-55EDBD2FD6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determini la traiettoria ed il tempo di attraversamento di un fiume largo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2 km,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con velocità della corrente di modulo </a:t>
            </a:r>
            <a:r>
              <a:rPr b="1" i="1" lang="it-IT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a parte di un battello che si muove con velocità relativa (rispetto all’acqua) di modulo </a:t>
            </a:r>
            <a:r>
              <a:rPr b="1" i="1" lang="it-IT" sz="3200" spc="-1" strike="noStrike">
                <a:solidFill>
                  <a:srgbClr val="008080"/>
                </a:solidFill>
                <a:latin typeface="Times New Roman"/>
              </a:rPr>
              <a:t>v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 che, partendo da un punto a valle (o a monte) del punto di attracco, si dirige sempre verso tale punto. Si utilizzi il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metodo di Euler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i esaminerà il caso di partenza da un punto</a:t>
            </a:r>
            <a:r>
              <a:rPr b="1" lang="it-IT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a valle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Lo studente può studiare l’altro caso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0"/>
            <a:ext cx="7772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rcizio 2: Moto del Battell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229-04C8-42AC-94D9-077C9EBAF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838080" y="152280"/>
            <a:ext cx="7467480" cy="6553080"/>
            <a:chOff x="838080" y="152280"/>
            <a:chExt cx="7467480" cy="6553080"/>
          </a:xfrm>
        </p:grpSpPr>
        <p:grpSp>
          <p:nvGrpSpPr>
            <p:cNvPr id="107" name=""/>
            <p:cNvGrpSpPr/>
            <p:nvPr/>
          </p:nvGrpSpPr>
          <p:grpSpPr>
            <a:xfrm>
              <a:off x="838080" y="152280"/>
              <a:ext cx="7467480" cy="6553080"/>
              <a:chOff x="838080" y="152280"/>
              <a:chExt cx="7467480" cy="6553080"/>
            </a:xfrm>
          </p:grpSpPr>
          <p:sp>
            <p:nvSpPr>
              <p:cNvPr id="108" name=""/>
              <p:cNvSpPr/>
              <p:nvPr/>
            </p:nvSpPr>
            <p:spPr>
              <a:xfrm>
                <a:off x="1904760" y="533160"/>
                <a:ext cx="5334120" cy="5943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8080" y="152280"/>
                <a:ext cx="1066680" cy="6553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38880" y="152280"/>
                <a:ext cx="1066680" cy="6553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04760" y="152280"/>
                <a:ext cx="0" cy="655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8880" y="152280"/>
                <a:ext cx="0" cy="655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108680" y="2552040"/>
              <a:ext cx="1125720" cy="1068120"/>
              <a:chOff x="4108680" y="2552040"/>
              <a:chExt cx="1125720" cy="1068120"/>
            </a:xfrm>
          </p:grpSpPr>
          <p:sp>
            <p:nvSpPr>
              <p:cNvPr id="114" name=""/>
              <p:cNvSpPr/>
              <p:nvPr/>
            </p:nvSpPr>
            <p:spPr>
              <a:xfrm rot="19029000">
                <a:off x="4343760" y="2851920"/>
                <a:ext cx="914400" cy="228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029000">
                <a:off x="5074200" y="2553840"/>
                <a:ext cx="95040" cy="2286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029000">
                <a:off x="4105080" y="3214440"/>
                <a:ext cx="609480" cy="2286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1904760" y="2895120"/>
              <a:ext cx="2971800" cy="2895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44640" y="3108240"/>
              <a:ext cx="1015920" cy="96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647960" y="1523520"/>
              <a:ext cx="0" cy="1600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66960" y="247608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644640" y="1536840"/>
              <a:ext cx="1015920" cy="964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670920" y="2483640"/>
              <a:ext cx="963360" cy="6523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240" y="24858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240" y="315252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638600" y="246636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7960" y="1110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1080" y="16444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4240" y="2743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3600" spc="-1" strike="noStrike">
                  <a:solidFill>
                    <a:srgbClr val="000000"/>
                  </a:solidFill>
                  <a:latin typeface="Times New Roman"/>
                </a:rPr>
                <a:t>dx/d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19120" y="19047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240" y="38098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4280" y="24066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3600" spc="-1" strike="noStrike">
                  <a:solidFill>
                    <a:srgbClr val="000000"/>
                  </a:solidFill>
                  <a:latin typeface="Times New Roman"/>
                </a:rPr>
                <a:t>dy/d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0640" y="5676840"/>
              <a:ext cx="228600" cy="228600"/>
            </a:xfrm>
            <a:prstGeom prst="ellipse">
              <a:avLst/>
            </a:prstGeom>
            <a:solidFill>
              <a:srgbClr val="ff3300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4400" y="1676160"/>
              <a:ext cx="228600" cy="228600"/>
            </a:xfrm>
            <a:prstGeom prst="ellipse">
              <a:avLst/>
            </a:prstGeom>
            <a:solidFill>
              <a:srgbClr val="ff3300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4760" y="5790960"/>
              <a:ext cx="3886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903320" y="1904400"/>
              <a:ext cx="1440" cy="3886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3760" y="5149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240" y="5715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8880" y="11109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838080" y="152280"/>
            <a:ext cx="8077320" cy="6553080"/>
            <a:chOff x="838080" y="152280"/>
            <a:chExt cx="8077320" cy="6553080"/>
          </a:xfrm>
        </p:grpSpPr>
        <p:grpSp>
          <p:nvGrpSpPr>
            <p:cNvPr id="140" name=""/>
            <p:cNvGrpSpPr/>
            <p:nvPr/>
          </p:nvGrpSpPr>
          <p:grpSpPr>
            <a:xfrm>
              <a:off x="838080" y="152280"/>
              <a:ext cx="7467480" cy="6553080"/>
              <a:chOff x="838080" y="152280"/>
              <a:chExt cx="7467480" cy="65530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838080" y="152280"/>
                <a:ext cx="7467480" cy="6553080"/>
                <a:chOff x="838080" y="152280"/>
                <a:chExt cx="7467480" cy="6553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04760" y="533160"/>
                  <a:ext cx="5334120" cy="59436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38080" y="152280"/>
                  <a:ext cx="1066680" cy="65530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38880" y="152280"/>
                  <a:ext cx="1066680" cy="65530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04760" y="152280"/>
                  <a:ext cx="0" cy="655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38880" y="152280"/>
                  <a:ext cx="0" cy="655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108680" y="2552040"/>
                <a:ext cx="1125720" cy="1068120"/>
                <a:chOff x="4108680" y="2552040"/>
                <a:chExt cx="1125720" cy="1068120"/>
              </a:xfrm>
            </p:grpSpPr>
            <p:sp>
              <p:nvSpPr>
                <p:cNvPr id="148" name=""/>
                <p:cNvSpPr/>
                <p:nvPr/>
              </p:nvSpPr>
              <p:spPr>
                <a:xfrm rot="19029000">
                  <a:off x="4343760" y="2851920"/>
                  <a:ext cx="914400" cy="228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19029000">
                  <a:off x="5074200" y="2553840"/>
                  <a:ext cx="95040" cy="228600"/>
                </a:xfrm>
                <a:prstGeom prst="ellips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9029000">
                  <a:off x="4105080" y="3214440"/>
                  <a:ext cx="609480" cy="228600"/>
                </a:xfrm>
                <a:prstGeom prst="ellips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V="1">
                <a:off x="1904760" y="2895120"/>
                <a:ext cx="297180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3644640" y="3108240"/>
                <a:ext cx="1015920" cy="964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647960" y="1523520"/>
                <a:ext cx="0" cy="1600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666960" y="2476080"/>
                <a:ext cx="0" cy="160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644640" y="1536840"/>
                <a:ext cx="1015920" cy="96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3670920" y="2483640"/>
                <a:ext cx="963360" cy="65232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57240" y="24858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57240" y="3152520"/>
                <a:ext cx="99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638600" y="2466360"/>
                <a:ext cx="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7960" y="11109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81080" y="16444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14240" y="27432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3600" spc="-1" strike="noStrike">
                    <a:solidFill>
                      <a:srgbClr val="000000"/>
                    </a:solidFill>
                    <a:latin typeface="Times New Roman"/>
                  </a:rPr>
                  <a:t>dx/d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19120" y="1904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240" y="3809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v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24280" y="24066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3600" spc="-1" strike="noStrike">
                    <a:solidFill>
                      <a:srgbClr val="000000"/>
                    </a:solidFill>
                    <a:latin typeface="Times New Roman"/>
                  </a:rPr>
                  <a:t>dy/d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90640" y="567684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24400" y="167616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4760" y="5790960"/>
                <a:ext cx="3886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903320" y="1904400"/>
                <a:ext cx="1440" cy="3886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3760" y="51498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71240" y="57150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38880" y="1110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238880" y="1781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57913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6800" y="17524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942920" y="914400"/>
              <a:ext cx="5257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2960" y="533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849800" y="31989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CB4-DF1A-4A87-830B-D2B7A1DFCE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990720" y="1092240"/>
                <a:ext cx="701028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x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s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sSup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y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s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sSup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s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23880" y="15228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lo del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675400" y="4697280"/>
          <a:ext cx="285912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5400" y="4697280"/>
                    <a:ext cx="285912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76320" y="5049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locità assoluta battell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06-2814-49DA-860F-76D9CF217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2952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Eulero scal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etodo di Eul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71476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99"/>
                </a:solidFill>
                <a:latin typeface="Times New Roman"/>
              </a:rPr>
              <a:t>Eulero vettori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4191120"/>
            <a:ext cx="5638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Eulero vettoriale applicato in  ser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1600200"/>
            <a:ext cx="3810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00400" y="1066680"/>
            <a:ext cx="5028840" cy="1218960"/>
            <a:chOff x="3200400" y="1066680"/>
            <a:chExt cx="5028840" cy="121896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318840" y="1229400"/>
                  <a:ext cx="34531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h</m:t>
                      </m:r>
                      <m:r>
                        <m:t xml:space="preserve">∗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3287880" y="1734120"/>
              <a:ext cx="40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[T,Y]=Eulero(t0,tmax,n,y0,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1066680"/>
              <a:ext cx="502884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438280"/>
            <a:ext cx="4735080" cy="1676520"/>
            <a:chOff x="3200400" y="2438280"/>
            <a:chExt cx="4735080" cy="1676520"/>
          </a:xfrm>
        </p:grpSpPr>
        <p:sp>
          <p:nvSpPr>
            <p:cNvPr id="194" name=""/>
            <p:cNvSpPr/>
            <p:nvPr/>
          </p:nvSpPr>
          <p:spPr>
            <a:xfrm>
              <a:off x="3372480" y="3400560"/>
              <a:ext cx="40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f=strvcat(f1,f2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[T,Y]=Eulero(t0,tmax,n,y0,f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3261960" y="2510640"/>
                  <a:ext cx="4191480" cy="90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∗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3200400" y="2438280"/>
              <a:ext cx="47350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28600" y="4724280"/>
            <a:ext cx="8229600" cy="1828440"/>
            <a:chOff x="228600" y="4724280"/>
            <a:chExt cx="8229600" cy="1828440"/>
          </a:xfrm>
        </p:grpSpPr>
        <p:grpSp>
          <p:nvGrpSpPr>
            <p:cNvPr id="198" name=""/>
            <p:cNvGrpSpPr/>
            <p:nvPr/>
          </p:nvGrpSpPr>
          <p:grpSpPr>
            <a:xfrm>
              <a:off x="228600" y="4724280"/>
              <a:ext cx="8229240" cy="1828440"/>
              <a:chOff x="228600" y="4724280"/>
              <a:chExt cx="8229240" cy="1828440"/>
            </a:xfrm>
          </p:grpSpPr>
          <mc:AlternateContent>
            <mc:Choice xmlns:a14="http://schemas.microsoft.com/office/drawing/2010/main" Requires="a14">
              <p:sp>
                <p:nvSpPr>
                  <p:cNvPr id="199" name=""/>
                  <p:cNvSpPr txBox="1"/>
                  <p:nvPr/>
                </p:nvSpPr>
                <p:spPr>
                  <a:xfrm>
                    <a:off x="277200" y="4726080"/>
                    <a:ext cx="8164800" cy="145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0" name=""/>
              <p:cNvSpPr/>
              <p:nvPr/>
            </p:nvSpPr>
            <p:spPr>
              <a:xfrm>
                <a:off x="228600" y="6163200"/>
                <a:ext cx="66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Courier New"/>
                  </a:rPr>
                  <a:t>[T,X,Y]=Eulero2(t0,tmax,n,x0,y0,f1,f2)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" y="4724280"/>
                <a:ext cx="8229240" cy="182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419720" y="4800600"/>
              <a:ext cx="403848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E59-DD48-456F-B0DE-974858EB0D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 del problema e simulazione del mo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600" y="1371600"/>
            <a:ext cx="84103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0=0;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tmax=0.5; %primo valore di ten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y0=[2 0.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strvcat('-5*y(1)/sqrt(y(1)^2+y(2)^2)‘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'-5*y(2)/sqrt(y(1)^2+y(2)^2)+3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5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,Y]=Eulero(t0,tmax,n,y0,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=Y(:,1);    y=Y(:,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xis([-0.1 2 -0.2 0.6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for i=1:length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plot(x(i),y(i),'*b') %*=simbolo,b=b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pause(0.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cc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' Traiettoria del battello - tmax = ' num2str(tmax)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label(' X [km]');ylabel(' Y [km]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887880" y="2276640"/>
            <a:ext cx="854640" cy="32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314172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00808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0EB-A10A-4B12-BEC0-74D28F26C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7320" y="76320"/>
            <a:ext cx="89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estremo finale viene calcolato per tentati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677-26ED-46A2-AB9A-5FB78EC41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238880" cy="54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E90-B8A5-4423-AE22-33C257714D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sultati c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max=0.6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32080" y="153684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4800" y="838080"/>
            <a:ext cx="786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           X              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00    2.000000e+000    1.000000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13    1.935081e+000    1.357541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26    1.870240e+000    1.702052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39    1.805508e+000    2.033141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52    1.740916e+000    2.350406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...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59    1.919500e-002    1.821415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72    1.238269e-002    1.564994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85    7.255724e-003    1.307019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598    3.652893e-003    1.048019e-00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611    1.388678e-003    7.884131e-00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624    2.439726e-004    5.285139e-00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637   -5.607722e-005    2.685208e-00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650    7.966688e-005    8.522218e-00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24A-A3EF-4B75-9959-60947AFD0C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76212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 utilizzi il metodi RK4 per calcolare la soluzione del problema del pendo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00000" y="1955880"/>
          <a:ext cx="748836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55880"/>
                    <a:ext cx="748836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ercizio 1: Problema di Cau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5410080"/>
            <a:ext cx="9144000" cy="1370160"/>
            <a:chOff x="0" y="5410080"/>
            <a:chExt cx="9144000" cy="1370160"/>
          </a:xfrm>
        </p:grpSpPr>
        <p:sp>
          <p:nvSpPr>
            <p:cNvPr id="49" name=""/>
            <p:cNvSpPr/>
            <p:nvPr/>
          </p:nvSpPr>
          <p:spPr>
            <a:xfrm>
              <a:off x="0" y="5410080"/>
              <a:ext cx="91440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roblema di Cauchy del 2° ordine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ell’incogni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5181480" y="6095880"/>
            <a:ext cx="990720" cy="6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1480" y="6095880"/>
                      <a:ext cx="99072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" name=""/>
          <p:cNvSpPr/>
          <p:nvPr/>
        </p:nvSpPr>
        <p:spPr>
          <a:xfrm>
            <a:off x="1924920" y="4648320"/>
            <a:ext cx="52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: accelerazione di grav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CA9-33BF-4A69-946F-2825332E2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3573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Sistema differenziale non lineare di ordin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1052640"/>
          <a:ext cx="50418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0418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39640" y="0"/>
            <a:ext cx="79185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rcizio 3: Problem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eda-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Pred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4187880"/>
            <a:ext cx="90676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d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)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predator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 trovi la soluzione del problema per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umendo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 = 2;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 = 10;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0.001;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0.002;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5000; 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cc99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=100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620120" y="4800600"/>
          <a:ext cx="1371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480060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573-5C41-498D-8312-CA1A00B460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zione analitica del probl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7360" y="914400"/>
          <a:ext cx="89917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914400"/>
                    <a:ext cx="89917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0" y="2289240"/>
          <a:ext cx="5172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9240"/>
                    <a:ext cx="5172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95280" y="4267080"/>
          <a:ext cx="8353440" cy="148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267080"/>
                    <a:ext cx="835344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54440" y="3429000"/>
            <a:ext cx="90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Integrando i due membri si ottiene l’Int. 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571500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st. si calcola imponendo le condizioni inizia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2482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ariabili  sepa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FF3-AD9B-49E9-980C-E77EA8B15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struzioni: Metodo Eulero esplicito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 grafici di </a:t>
            </a: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),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40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it-IT" sz="40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1" i="1" lang="it-IT" sz="4000" spc="-1" strike="noStrike">
                <a:solidFill>
                  <a:srgbClr val="00cc99"/>
                </a:solidFill>
                <a:latin typeface="Times New Roman"/>
              </a:rPr>
              <a:t>t </a:t>
            </a:r>
            <a:r>
              <a:rPr b="1" lang="it-IT" sz="4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1774800"/>
            <a:ext cx="9067680" cy="448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0=0;tma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0=[5000 100];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P,Q sono in y(1), y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strvcat('2*y(1)- 0.001*y(1)*y(2)'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-10*y(2)+ 0.002*y(1)*y(2)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1='Eulero';n=300; h=tmax/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T,Y]=Eulero(t0,tmax,n,y0,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T,Y(:,1),’b’,T,Y(:,2),’g’);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['Risultati del metodo di ',str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legend('prede','predator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['Risultati del metodo di ',str1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 con h =' num2str(h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label('Tempo'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570-D7FB-40AA-8534-F7DAC52E7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Grafici: Metodo di Eulero Esplicito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141-4B76-48BF-91A3-3A736D67D0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truzioni per grafico nel piano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762120"/>
            <a:ext cx="8991720" cy="57924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0=0;tmax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y0=[5000 100];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P,Q sono in y(1), y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strvcat('2*y(1)- 0.001*y(1)*y(2)','-10*y(2)+ .002*y(1)*y(2)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r1='Eulero';N=[60 300];   h=tmax./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N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,Y]=Eulero(t0,tmax,n,y0,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plot(Y(:,1),Y(:,2),'r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N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,Y]=Eulero(t0,tmax,n,y0,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plot(Y(:,1),Y(:,2),'b',10/0.002,2/0.001,'*'),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'Risultati del metodo di ',str1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label('Prede'),ylabel('Predatori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legend(['h1 = ' num2str(h(1))],['h2 = 'num2str(h(2))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A98-510B-497A-A982-04107AD02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ppresentazione nel piano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657600" y="8380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760" y="2363760"/>
            <a:ext cx="344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l punto segn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 * è il pu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ritico che s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ttiene ponen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3080" y="4991040"/>
          <a:ext cx="3994200" cy="124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4991040"/>
                    <a:ext cx="399420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356000" y="4951440"/>
          <a:ext cx="2737080" cy="13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4951440"/>
                    <a:ext cx="2737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C1F-0491-4E6B-9731-CF404E2A37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struzioni del Metodo Heun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Grafici di </a:t>
            </a: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t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),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40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it-IT" sz="4000" spc="-1" strike="noStrike">
                <a:solidFill>
                  <a:srgbClr val="00cc99"/>
                </a:solidFill>
                <a:latin typeface="Times New Roman"/>
              </a:rPr>
              <a:t>( </a:t>
            </a:r>
            <a:r>
              <a:rPr b="1" i="1" lang="it-IT" sz="4000" spc="-1" strike="noStrike">
                <a:solidFill>
                  <a:srgbClr val="00cc99"/>
                </a:solidFill>
                <a:latin typeface="Times New Roman"/>
              </a:rPr>
              <a:t>t </a:t>
            </a:r>
            <a:r>
              <a:rPr b="1" lang="it-IT" sz="4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73360"/>
            <a:ext cx="8497800" cy="4117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0=0;tma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0=[5000 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strvcat('2*y(1)- 0.001*y(1)*y(2)'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-10*y(2)+ 0.002*y(1)*y(2)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1=‘Heun';n=300;   h=tmax/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T,Y]=Heun(t0,tmax,n,y0,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T,Y(:,1),T,Y(:,2));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legend('prede','predatori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['Risultati del metodo di ',str1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' con h =' num2str(h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label('Tempo'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9FA-ED8C-4A6E-8DA2-2F0733083A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7631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Grafici prede, predatori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etodo di Heu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24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FC3-AC6C-46A5-B582-2AB56E6132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 nel piano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mulazione movimen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557360"/>
            <a:ext cx="9144000" cy="495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0=0;tmax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y0=[5000 1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strvcat('2*y(1)- 0.001*y(1)*y(2)','-10*y(2)+ 0.002*y(1)*y(2)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300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,Y]=Heun(t0,tmax,n,y0,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plot(10/0.002,2/0.001,’*r’,y0(1),y0(2),’*b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plot(Y(i,1),Y(i,2),’*b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pause(0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'Simulazione nel piano PQ - Heu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404400" y="3804480"/>
            <a:ext cx="907200" cy="114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528-E13F-4510-ACCE-79FA74A95F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00000" y="10857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0680" y="231840"/>
            <a:ext cx="65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mulazione: metodo di He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864-D64B-48AC-B3DC-AF3091ADA4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a equivalente del 1° ord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1251000"/>
          <a:ext cx="761544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51000"/>
                    <a:ext cx="761544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4724280"/>
            <a:ext cx="895032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solvendo (*) in                  si ottengon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quind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, valore dell’angolo istante per istante, e                ,  velocità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68360" y="5905440"/>
          <a:ext cx="119700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905440"/>
                    <a:ext cx="1197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03280" y="7621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stitu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95720" y="76212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oblema equival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681360" y="4724280"/>
          <a:ext cx="1844640" cy="7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1360" y="4724280"/>
                    <a:ext cx="184464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099280" y="4761000"/>
          <a:ext cx="936720" cy="62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99280" y="4761000"/>
                    <a:ext cx="9367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951-BC1B-4035-AAC1-7B9A85399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96840" y="1243080"/>
          <a:ext cx="785988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243080"/>
                    <a:ext cx="785988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ercizio 4: Sistema differenziale lineare del 1° ord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411948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tabilire se il problema ammette soluzione unica e se è ben condizion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cc"/>
                </a:solidFill>
                <a:latin typeface="Times New Roman"/>
              </a:rPr>
              <a:t>Calcolare la soluzione con il metodo di Eulero Implicito,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n1=100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n2=200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it-IT" sz="3600" spc="-1" strike="noStrike">
                <a:solidFill>
                  <a:srgbClr val="ff3300"/>
                </a:solidFill>
                <a:latin typeface="Times New Roman"/>
              </a:rPr>
              <a:t>n1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n2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9900cc"/>
                </a:solidFill>
                <a:latin typeface="Times New Roman"/>
              </a:rPr>
              <a:t>= numero sottointervalli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130880" y="3624120"/>
          <a:ext cx="20494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30880" y="3624120"/>
                    <a:ext cx="20494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3BD-09D3-4ECB-83D9-AC691B72D4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325520" y="2271600"/>
          <a:ext cx="588348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1600"/>
                    <a:ext cx="588348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04920" y="907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 calcoli l’errore nei nodi         sapendo che la soluzione vera è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1360" y="4343400"/>
            <a:ext cx="897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cc"/>
                </a:solidFill>
                <a:latin typeface="Times New Roman"/>
              </a:rPr>
              <a:t>d)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99cc"/>
                </a:solidFill>
                <a:latin typeface="Times New Roman"/>
              </a:rPr>
              <a:t>Si confronti la soluzione vera calcolata nei nodi al punto c), con quella approssimata ottenuta applicando il metodo di Runge-Kutta 4 con n1 = 1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460840" y="907920"/>
          <a:ext cx="5511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0840" y="907920"/>
                    <a:ext cx="551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763640" y="3960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ercizio 4: quesiti c,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3B4-B286-4045-9682-1DA2F17C55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sistenza, unicità della solu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4920" y="1268280"/>
          <a:ext cx="90010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68280"/>
                    <a:ext cx="90010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12920" y="3133800"/>
          <a:ext cx="387504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3133800"/>
                    <a:ext cx="38750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003640" y="3141720"/>
          <a:ext cx="29530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3141720"/>
                    <a:ext cx="29530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145040" y="4495680"/>
          <a:ext cx="78732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5040" y="4495680"/>
                    <a:ext cx="787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536040" y="5835600"/>
            <a:ext cx="76971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iste unica la soluzione del probl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5C3-05A4-4399-B6F7-1614E5C35E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: stabilità e condizionamen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629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matrice dei coefficienti è                                 i suoi autovalori si trovano risolvendo l’equazione caratteristic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651640" y="1279440"/>
          <a:ext cx="210168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279440"/>
                    <a:ext cx="210168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50920" y="3227400"/>
          <a:ext cx="878508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227400"/>
                    <a:ext cx="87850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26920" y="5003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sistema è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intoticamente stab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 quin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n condiziona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A43-1EDE-47B7-BF50-3B40984CB4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320" y="99072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=inpu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n = 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numero sottointerva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0=0;tmax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[-1 1; -1 -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=strvca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0=[-1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T,Y]=Eulsis(t0,tmax,n,y0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1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Eulero Implicito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42920"/>
            <a:ext cx="860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00cc"/>
                </a:solidFill>
                <a:latin typeface="Times New Roman"/>
              </a:rPr>
              <a:t>b: metodo di Eulero Impli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46162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isp(['Risultati del metodo di ',str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Xv=exp(-t).*(sin(t)-cos(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Yv=exp(-t).*(sin(t)+cos(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abell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7480" y="3753000"/>
            <a:ext cx="3617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ampa dei risul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5D1-886D-41CE-922A-0A8CA7C7F3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39600" y="75960"/>
            <a:ext cx="71881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: fi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tabella2.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766800"/>
            <a:ext cx="8915400" cy="52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% Il file scrive una tabella in cui si riportano i valori in uscita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% un problema differenziale di Cauchy di tipo vettoriale e le colon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% di errore nella X e nella 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rrX= abs(Y(:,1)-Xv);ErrY= abs(Y(:,2)-Y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ella=[T,Y, ErrX,Err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='------------------------------------------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  T    X  Y   ErrX  ErrY \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stampa ogni 10 va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printf('%6.3f %16.6e %16.6e %10.2e %10.2e\n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abella(1:10:end,:)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52680" y="2276640"/>
            <a:ext cx="204804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0000" y="4508640"/>
            <a:ext cx="2743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620120" y="4365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81600" y="249228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33960" y="508464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978680" y="2133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447-08FA-4BF0-BA68-C94796314D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2280" y="1523880"/>
            <a:ext cx="8763120" cy="463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                 X                                 Y                       ErrX                E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0.000   -1.000000e+000    1.000000e+000  0.00e+000  0.00e+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.000    6.326408e-002    5.194194e-001  4.75e-002  1.11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000    1.657577e-001    1.000365e-001  1.36e-002  3.33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3.000    6.695044e-002   -2.547604e-002  1.06e-002  1.68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4.000    7.847666e-003   -2.531598e-002  9.74e-003  5.17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5.000   -5.585724e-003   -8.060362e-003  2.79e-003  3.51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6.000   -3.622299e-003   -2.110340e-004  5.50e-004  1.90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7.000   -8.876485e-004    1.007195e-003  7.99e-004  2.79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8.000    9.098508e-005    4.883277e-004  2.90e-004  2.05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9.000    1.630219e-004    8.486890e-005  2.80e-007  1.46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0.000    6.190752e-005   -2.813839e-005  4.85e-005  3.47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tabella2.m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: Eulero Implicito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n1 = 10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2708280"/>
            <a:ext cx="1600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1520" y="2976480"/>
            <a:ext cx="1371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A3D-0664-44A8-A4BF-EC687D2B18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4800600"/>
            <a:ext cx="914400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Grafico componente x della soluzione vera ed approssi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lot(T,Xv,T,Y(:,1));gr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xlabel('Tempo (s)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title(’Metodo di Eulero implicito - n=100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legend('Xvera','Xapp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419720" y="64771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>
            <a:off x="7162920" y="68580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E42-1871-4872-BBB3-270F313A72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rrore per la 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: Eulero Implici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916360" y="83664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42920" y="557208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Courier New"/>
              </a:rPr>
              <a:t>% Andamento degli errori nella valutazione di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urier New"/>
              </a:rPr>
              <a:t>plot(T,ErrX);gr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urier New"/>
              </a:rPr>
              <a:t>title(’Andamento degli errori nella x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FB6-2728-4397-A283-67452A37A6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tabella2.m: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Eulero Implicito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n2 = 20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125360"/>
            <a:ext cx="894240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    X                 Y          ErrX       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0.000   -1.000000e+000    1.000000e+000  0.00e+000  0.00e+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0.500   -2.615168e-001    8.176226e-001  2.00e-002  5.44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.000    8.623577e-002    5.138799e-001  2.46e-002  5.55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.500    1.894160e-001    2.532959e-001  1.74e-002  1.49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000    1.726328e-001    8.400313e-002  6.75e-003  1.73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500    1.165047e-001   -2.675497e-003  1.62e-003  1.40e-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3.000    6.211849e-002   -3.383809e-002  5.80e-003  8.42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3.500    2.410848e-002   -3.553024e-002  6.42e-003  3.34e-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4.000    3.128919e-003   -2.587447e-002  5.02e-003  4.12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7.000   -5.159904e-004    1.197169e-003  4.28e-004  8.94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7.500    5.446362e-005    7.894289e-004  2.73e-004  7.89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8.000    2.488899e-004    4.108081e-004  1.32e-004  1.28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8.500    2.485198e-004    1.524551e-004  3.64e-005  1.12e-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9.000    1.764843e-004    1.315848e-005  1.32e-005  7.47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9.500    9.888436e-005   -4.197206e-005  2.99e-005  3.83e-00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0.000    4.168455e-005   -5.014193e-005  2.83e-005  1.27e-00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2492280"/>
            <a:ext cx="1600200" cy="3812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3068640"/>
            <a:ext cx="1600200" cy="3808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DC6-8197-453E-89A3-90EF0E12C9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484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izialmente si assu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62440"/>
            <a:ext cx="88390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si analizzano i risultati che si ottengono applicando il metodo di Runge-Kutta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i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0" y="2108160"/>
                <a:ext cx="33796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ϑ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71" name=""/>
          <p:cNvGraphicFramePr/>
          <p:nvPr/>
        </p:nvGraphicFramePr>
        <p:xfrm>
          <a:off x="3657600" y="1900080"/>
          <a:ext cx="5448240" cy="20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00080"/>
                    <a:ext cx="544824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4D0-BA65-4D26-9CC5-6F99F9877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76320"/>
            <a:ext cx="843912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 con movimento nel piano X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=200;t0=0;tmax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=[-1 1; -1 -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b=strvcat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0=[-1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T,Y]=Eulsis(t0,tmax,n,y0,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0,0,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or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,y0(1),y0(2),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*g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(0,0) pu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di staziona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old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lot(Y(i,1),Y(i,2),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ob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ause(0.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Soluzione nel piano delle fasi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BBA-4B03-4DFE-806A-50D7DF7B35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fico nel piano X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1080" y="1407960"/>
            <a:ext cx="8854920" cy="4687920"/>
            <a:chOff x="181080" y="1407960"/>
            <a:chExt cx="8854920" cy="46879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181080" y="1407960"/>
              <a:ext cx="885492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 txBox="1"/>
            <p:nvPr/>
          </p:nvSpPr>
          <p:spPr>
            <a:xfrm>
              <a:off x="181080" y="1407960"/>
              <a:ext cx="8854920" cy="468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41B-C85D-4D95-940F-EE1EB5EE70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Confronto risultati con n1=100 e n2=2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0=0;tmax=10;y0=[-1 1];A=[-1 1; -1 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=strvcat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1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1,Y1]=Eulsis(t0,tmax,n,y0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2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T2,Y2]=Eulsis(t0,tmax,n,y0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=T1;                        </a:t>
            </a:r>
            <a:r>
              <a:rPr b="1" lang="it-IT" sz="1800" spc="-1" strike="noStrike">
                <a:solidFill>
                  <a:srgbClr val="00cc66"/>
                </a:solidFill>
                <a:latin typeface="Courier New"/>
              </a:rPr>
              <a:t>% calcolo degli err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v=exp(-t).*(sin(t)-cos(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Yv=exp(-t).*(sin(t)+cos(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rrX1= abs(Y1(:,1)-Xv);ErrY1= abs(Y1(:,2)-Y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% I vettori da inserire in tab devono essere della stessa lunghezza e ErrX2,ErrY2 vanno calcolati negli stessi nodi di ErrX1, ErrY1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rrX2= abs(Y2(1:2:end,1)-Xv);ErrY2= abs(Y2(1:2:end,2)-Y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b=[T1,ErrX1,ErrX2,ErrY1,ErrY2]; </a:t>
            </a:r>
            <a:r>
              <a:rPr b="1" lang="it-IT" sz="1800" spc="-1" strike="noStrike">
                <a:solidFill>
                  <a:srgbClr val="00cc66"/>
                </a:solidFill>
                <a:latin typeface="Courier New"/>
              </a:rPr>
              <a:t>% costruzione della tab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---------------------------------------------------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  T       ErrX1   ErrX2  ErrY1  ErrY2 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%6.3f %10.2e %10.2e %10.2e %10.2e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tab(1:10:end,:)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8058240" y="4365720"/>
            <a:ext cx="76176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EA9-3F95-460B-8356-CE4DD3B34D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Confronto dei risultat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T       ErrX1    ErrX2      ErrY1       ErrY2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.000  0.00e+000  0.00e+000  0.00e+000  0.00e+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.000  4.75e-002  2.46e-002  1.11e-002  5.55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2.000  1.36e-002  6.75e-003  3.33e-002  1.73e-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3.000  1.06e-002  5.80e-003  1.68e-002  8.42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4.000  9.74e-003  5.02e-003  5.17e-004  4.12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.000  2.79e-003  1.28e-003  3.51e-003  1.92e-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6.000  5.50e-004  3.86e-004  1.90e-003  9.42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7.000  7.99e-004  4.28e-004  2.79e-004  8.94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8.000  2.90e-004  1.32e-004  2.05e-004  1.28e-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9.000  2.80e-007  1.32e-005  1.46e-004  7.47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10.000  4.85e-005  2.83e-005  3.47e-005  1.27e-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B68-CF40-4FC4-B2CB-24A33E1CF7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0880" y="1162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=input('n = ');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% numero sottointervalli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t0=0;tmax=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y0=[-1 1];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% x,y sono in y(1), y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strvcat('-y(1)+y(2)','-y(1)-y(2)'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T,Y]=Rungekutta4(t0,tmax,n,y0,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1=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'Runge-Kutta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cc"/>
                </a:solidFill>
                <a:latin typeface="Times New Roman"/>
              </a:rPr>
              <a:t>d: metodo di Runge-Kutta 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47242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isp(['Risultati del metodo di ',str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Xv=exp(-t).*(sin(t)-cos(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Yv=exp(-t).*(sin(t)+cos(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abell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400" y="3784680"/>
            <a:ext cx="3617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ampa dei risul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454-C202-498C-AAD1-8DABC78899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tabella2.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: Metodo RK4: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1 = 10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6280" y="1844640"/>
            <a:ext cx="86868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     X               Y           ErrX       Er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0.000   -1.000000e+000    1.000000e+000  0.00e+000  0.00e+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.000    1.107954e-001    5.083239e-001  1.62e-006  2.12e-0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2.000    1.793787e-001    6.673883e-002  6.65e-007  1.85e-0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3.000    5.631372e-002   -4.226311e-002  1.05e-006  2.42e-00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4.000   -1.889800e-003   -2.583285e-002  3.79e-007  3.71e-00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5.000   -8.372432e-003   -4.549641e-003  4.95e-008  2.39e-00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6.000   -3.072525e-003    1.687461e-003  1.01e-007  3.86e-0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7.000   -8.833836e-005    1.286537e-003  3.73e-008  2.74e-0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8.000    3.807013e-004    2.830635e-004  1.21e-009  1.94e-0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9.000    1.632948e-004   -6.158686e-005  7.03e-009  3.92e-0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10.000    1.339237e-005   -6.279076e-005  2.90e-009  1.55e-0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2924280"/>
            <a:ext cx="14475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2924280"/>
            <a:ext cx="152424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D4C-71FD-4386-B92B-1D8C7910A4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64080" cy="4773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33520" y="5027760"/>
            <a:ext cx="83818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% Grafico componente x della soluzione vera ed approssi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lot(T,Xv,T,Y(:,1));gr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label('Tempo (s)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(’Metodo di Runge-Kutta - n=100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egend('Xvera','Xapp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537-6C99-40F7-848A-6A92D94AD9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556000" y="1106640"/>
            <a:ext cx="5976720" cy="4483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24000" y="1461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e per la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: Metodo RK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2000" y="5645160"/>
            <a:ext cx="851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Courier New"/>
              </a:rPr>
              <a:t>% Andamento degli errori nella valutazione di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urier New"/>
              </a:rPr>
              <a:t>plot(T,ErrX);gr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urier New"/>
              </a:rPr>
              <a:t>title(’Andamento degli errori nella x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B77-B7ED-4B90-9916-9888077B9F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Metodo  RK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990720"/>
            <a:ext cx="8686800" cy="521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0=0;tmax=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n=100;y0=[0 0.5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1='y(2)';f2='-9.81260*sin(y(1))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=strvcat(f1,f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[T,Y]=Rungekutta4(t0,tmax,n,y0,f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eta=Y(:,1);dteta=Y(:,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lot(T,t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itle('Valori istantanei dell''angolo -Rungekutta4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xlabel('Tempo (s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ylabel('Angolo (rad)'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t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CB9-06D7-43D8-905C-1739430C10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9996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9AF-4076-40C0-ACDA-8DEA37763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9600" y="75960"/>
            <a:ext cx="71881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le “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abella.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85800"/>
            <a:ext cx="9144000" cy="57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Il file scrive una tabella in cui si riportano i val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 in uscita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un problema differenziale di Cauchy di tipo vettor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% Se si vuole riportare anche l'errore, vanno aggiu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altre col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=[T,Y(:,1),Y(:,2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r=a(1:10:end,: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='----------------------------------------------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'tempo\t\t\t angolo\t\t\t\t velocità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'%6.3f   %16.6e   %16.6e \n',ar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786-393C-4A01-ADF4-1934E8990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ultati del Metodo RK4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066680"/>
            <a:ext cx="8458200" cy="52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gol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000      0.000000e+000      5.000000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.000      2.289632e-003     -4.999165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.000     -4.578396e-003      4.997301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.000      6.865820e-003     -4.994409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.000     -9.151435e-003      4.990491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.000      1.143477e-002     -4.985546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000     -1.371536e-002      4.979577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.000      1.599273e-002     -4.972584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.000     -1.826642e-002      4.964570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.000      2.053595e-002     -4.955537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.000     -2.280087e-002      4.945486e-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A61-31E1-49B7-9D45-2A611AEF79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mento del punto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765000"/>
            <a:ext cx="54007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l sistema fissato in figura, il punt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ha coordin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2200" y="1933560"/>
          <a:ext cx="42721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33560"/>
                    <a:ext cx="4272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5120" y="48769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913120"/>
            <a:ext cx="914400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er costruire però la rappresentazione del punt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in movimento utilizzando Matlab, occorre determinare le coordinate d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in tale sistem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quindi: (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,-cos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))),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= 0,1,…,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943600" y="868320"/>
            <a:ext cx="1902960" cy="2026440"/>
            <a:chOff x="5943600" y="868320"/>
            <a:chExt cx="1902960" cy="2026440"/>
          </a:xfrm>
        </p:grpSpPr>
        <p:sp>
          <p:nvSpPr>
            <p:cNvPr id="88" name=""/>
            <p:cNvSpPr/>
            <p:nvPr/>
          </p:nvSpPr>
          <p:spPr>
            <a:xfrm>
              <a:off x="5943600" y="1279440"/>
              <a:ext cx="19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019560" y="1206000"/>
              <a:ext cx="0" cy="16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42360" y="86832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2454840"/>
              <a:ext cx="30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19560" y="1279440"/>
              <a:ext cx="1217160" cy="11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86320" y="2405880"/>
              <a:ext cx="151920" cy="14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9240" y="2043360"/>
              <a:ext cx="35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9360" y="1749240"/>
              <a:ext cx="334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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564960" y="1857960"/>
              <a:ext cx="75960" cy="73440"/>
              <a:chOff x="6564960" y="1857960"/>
              <a:chExt cx="75960" cy="7344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6564960" y="1857960"/>
                <a:ext cx="7596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6615720" y="1857960"/>
                <a:ext cx="2520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019560" y="1867320"/>
              <a:ext cx="608400" cy="306000"/>
            </a:xfrm>
            <a:custGeom>
              <a:avLst/>
              <a:gdLst/>
              <a:ahLst/>
              <a:rect l="l" t="t" r="r" b="b"/>
              <a:pathLst>
                <a:path w="384" h="200">
                  <a:moveTo>
                    <a:pt x="0" y="192"/>
                  </a:moveTo>
                  <a:cubicBezTo>
                    <a:pt x="8" y="196"/>
                    <a:pt x="16" y="200"/>
                    <a:pt x="48" y="192"/>
                  </a:cubicBezTo>
                  <a:cubicBezTo>
                    <a:pt x="80" y="184"/>
                    <a:pt x="144" y="168"/>
                    <a:pt x="192" y="144"/>
                  </a:cubicBezTo>
                  <a:cubicBezTo>
                    <a:pt x="240" y="120"/>
                    <a:pt x="304" y="72"/>
                    <a:pt x="336" y="48"/>
                  </a:cubicBezTo>
                  <a:cubicBezTo>
                    <a:pt x="368" y="24"/>
                    <a:pt x="376" y="12"/>
                    <a:pt x="38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320" y="5181480"/>
            <a:ext cx="906768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N.B. l’asse </a:t>
            </a: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in figura è orientato verso il basso, cioè in modo  contrario della normale rappresentazione del Mat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1B7-12EB-4FD4-9484-55F9ABFCE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3:16:39Z</dcterms:created>
  <dc:creator>enza</dc:creator>
  <dc:description/>
  <dc:language>en-US</dc:language>
  <cp:lastModifiedBy>Elisabetta Santi</cp:lastModifiedBy>
  <cp:lastPrinted>2003-06-09T10:32:55Z</cp:lastPrinted>
  <dcterms:modified xsi:type="dcterms:W3CDTF">2007-06-11T09:30:34Z</dcterms:modified>
  <cp:revision>126</cp:revision>
  <dc:subject/>
  <dc:title> 4a lezione - laboratorio</dc:title>
</cp:coreProperties>
</file>